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projctor.wav" ContentType="audio/x-wav"/>
  <Override PartName="/ppt/media/image6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90F-5EFC-4B6E-94A7-2DDF7040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A4A-F28D-4EA6-ABF5-563A0E14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5FF-9C09-49F2-9DF2-2172AB84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040-9295-401C-8AAC-F957945A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ADCC-B6F0-43E9-84A2-EB022A33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F08C-CF23-403C-864C-6CD8465E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96C6-E83E-49E1-82A4-75135F2E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9E68-DA67-4547-93CB-6BA20460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0505-165E-4130-BDE9-C7BDB710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A709-CBF4-4933-ADF4-CB69B9C5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478E-BAAB-4264-A9DF-17303799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9AA-C5F9-43DF-AA0B-8D7C518F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7DC9-CFED-43FB-A25F-AFDA8C3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98B2-ADDF-4D84-A557-045FDB0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F78A-ADF7-448F-A65C-240AF153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DCE2-1525-4290-B018-79BAE398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3B5F-2A0A-496D-A76F-C9B09D7C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8F4-9791-49EA-8535-B5E641D7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B75-D762-4F5D-BE60-11637EF9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BE3-50EB-420F-89B3-4B10AE1C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CF0-98EF-4D9F-BD57-457CF62A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C9B-215F-46F8-9492-27EC4EC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0F8-723E-480C-8605-951DD30D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693-7D12-41B7-AD07-B84A3989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DF0-C6D3-4C8C-B38E-748428EB2D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EBF-ADB0-451D-B78E-60F05A6398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jpeg"/><Relationship Id="rId5" Type="http://schemas.openxmlformats.org/officeDocument/2006/relationships/image" Target="../media/image6.pct"/><Relationship Id="rId6" Type="http://schemas.openxmlformats.org/officeDocument/2006/relationships/image" Target="../media/image7.pct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1320" y="838080"/>
            <a:ext cx="8751600" cy="512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Gram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ática de 1.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Art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ículos definid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rtículos indefinidos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Sustantiv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Adjetiv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B41-F382-4302-8AD3-A5A194E285CC}" type="slidenum">
              <a:t>1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250" name="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268" name="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285" name="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302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305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85880" y="2514600"/>
            <a:ext cx="7646760" cy="459720"/>
            <a:chOff x="785880" y="2514600"/>
            <a:chExt cx="7646760" cy="459720"/>
          </a:xfrm>
        </p:grpSpPr>
        <p:sp>
          <p:nvSpPr>
            <p:cNvPr id="308" name=""/>
            <p:cNvSpPr/>
            <p:nvPr/>
          </p:nvSpPr>
          <p:spPr>
            <a:xfrm>
              <a:off x="785880" y="2514600"/>
              <a:ext cx="76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“-z”              change to “-c”,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91120" y="2743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705040" y="3124080"/>
            <a:ext cx="3742200" cy="459720"/>
            <a:chOff x="2705040" y="3124080"/>
            <a:chExt cx="3742200" cy="459720"/>
          </a:xfrm>
        </p:grpSpPr>
        <p:sp>
          <p:nvSpPr>
            <p:cNvPr id="311" name="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05040" y="312408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lápiz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láp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82461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63120" y="3925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or remove an accent mark in the plu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279520" y="4572000"/>
            <a:ext cx="4659840" cy="459720"/>
            <a:chOff x="2279520" y="4572000"/>
            <a:chExt cx="4659840" cy="459720"/>
          </a:xfrm>
        </p:grpSpPr>
        <p:sp>
          <p:nvSpPr>
            <p:cNvPr id="316" name=""/>
            <p:cNvSpPr/>
            <p:nvPr/>
          </p:nvSpPr>
          <p:spPr>
            <a:xfrm>
              <a:off x="4146480" y="48373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79520" y="457200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exame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á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471760" y="5105520"/>
            <a:ext cx="4284720" cy="459720"/>
            <a:chOff x="2471760" y="5105520"/>
            <a:chExt cx="4284720" cy="459720"/>
          </a:xfrm>
        </p:grpSpPr>
        <p:sp>
          <p:nvSpPr>
            <p:cNvPr id="319" name=""/>
            <p:cNvSpPr/>
            <p:nvPr/>
          </p:nvSpPr>
          <p:spPr>
            <a:xfrm>
              <a:off x="4146480" y="5370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71760" y="510552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nació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nac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30C-4A18-4E07-87C6-DCF8657E7A68}" type="slidenum">
              <a:t>10</a:t>
            </a:fld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323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326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66440" y="2286000"/>
            <a:ext cx="7669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eferring to males and females as a single group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 masculine and femenine objects togethe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sculine plu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45760" y="3809880"/>
            <a:ext cx="256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 and gir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4940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47120" y="3962520"/>
            <a:ext cx="2553480" cy="459720"/>
            <a:chOff x="2247120" y="3962520"/>
            <a:chExt cx="2553480" cy="459720"/>
          </a:xfrm>
        </p:grpSpPr>
        <p:sp>
          <p:nvSpPr>
            <p:cNvPr id="332" name=""/>
            <p:cNvSpPr/>
            <p:nvPr/>
          </p:nvSpPr>
          <p:spPr>
            <a:xfrm>
              <a:off x="4114800" y="42465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47120" y="396252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chic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029560" y="5160960"/>
            <a:ext cx="3501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and girl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36120" y="5313240"/>
            <a:ext cx="3248640" cy="459720"/>
            <a:chOff x="1536120" y="5313240"/>
            <a:chExt cx="3248640" cy="459720"/>
          </a:xfrm>
        </p:grpSpPr>
        <p:sp>
          <p:nvSpPr>
            <p:cNvPr id="336" name=""/>
            <p:cNvSpPr/>
            <p:nvPr/>
          </p:nvSpPr>
          <p:spPr>
            <a:xfrm>
              <a:off x="4098960" y="55972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36120" y="5313240"/>
              <a:ext cx="22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estudian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EB1-3CFC-4BDF-97B3-19922D17F51D}" type="slidenum">
              <a:t>11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s sustantivo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572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erson, place, thing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spañol, nouns hav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ntivos masculinos / Sustantivos femen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108240" cy="3344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9E7-9EDD-4FD1-9D5E-1659746118F6}" type="slidenum">
              <a:t>2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1680" y="2300400"/>
            <a:ext cx="205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rofe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4880" y="2286000"/>
            <a:ext cx="1820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ol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5200" y="2362320"/>
            <a:ext cx="1883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ca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8360" y="5715000"/>
            <a:ext cx="138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ib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89244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1765440" cy="136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581280" y="609480"/>
            <a:ext cx="1704960" cy="184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2286000" cy="154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47920" y="3276720"/>
            <a:ext cx="1292040" cy="1592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00280" y="5334120"/>
            <a:ext cx="239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estudi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248520" y="3657600"/>
            <a:ext cx="1815840" cy="156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68040" y="5486400"/>
            <a:ext cx="162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bol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DBD-7B52-4EB5-AE8B-FBAB321D0C49}" type="slidenum">
              <a:t>3</a:t>
            </a:fld>
          </a:p>
        </p:txBody>
      </p:sp>
    </p:spTree>
  </p:cSld>
  <p:transition spd="med">
    <p:cover dir="d"/>
    <p:sndAc>
      <p:stSnd>
        <p:snd r:embed="rId7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4760" y="457200"/>
            <a:ext cx="43686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masculi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52160" y="1143000"/>
            <a:ext cx="6315840" cy="111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ual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d in “- 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el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2040" y="243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ch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4840" y="24382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ves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01720" y="243828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apart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600" y="3124080"/>
            <a:ext cx="41904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femeni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000" y="3809880"/>
            <a:ext cx="6315840" cy="16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end in “- a”, “- ción”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ión”, “- da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la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6000" y="5562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ch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8232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8360" y="5562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20600" y="55627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po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18B-A3CA-4701-BA45-F70EF90F1FD1}" type="slidenum">
              <a:t>4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2404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9160" y="1411200"/>
            <a:ext cx="7738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of some words must be learned becau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follow the patterns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4200" y="2630520"/>
            <a:ext cx="209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í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o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ápi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pitr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capu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60000" y="2625840"/>
            <a:ext cx="17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rd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ch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as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3500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62520" y="5257800"/>
            <a:ext cx="12952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902-D75C-4B71-A947-B5C52027BB81}" type="slidenum">
              <a:t>5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404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800" y="1411200"/>
            <a:ext cx="7383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ouns referring to people onl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 form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is determined by the article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0520" y="2630520"/>
            <a:ext cx="194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3000" y="262584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n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3824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1292400" cy="1592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560" y="4648320"/>
            <a:ext cx="790740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like the nouns, some adjectives only have one for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be used for a masculine or a feminine nou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La chica paciente           El vestido verde       Los pantalones marr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El chico paciente              La falda verde          Las camisetas marr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CAA-1158-4A57-8F8D-E2D45952228E}" type="slidenum">
              <a:t>6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33880" y="706320"/>
            <a:ext cx="449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s Artículos…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880" y="2438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Defi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4480" y="194472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8160" y="24382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03880" y="47322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2640" y="4238640"/>
            <a:ext cx="9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7080" y="473220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” / “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5AB-BB24-430D-8F8E-09E969B9465F}" type="slidenum">
              <a:t>7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144" name="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145" name="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162" name="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179" name="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196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199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31960" y="2514600"/>
            <a:ext cx="5743440" cy="459720"/>
            <a:chOff x="1731960" y="2514600"/>
            <a:chExt cx="5743440" cy="459720"/>
          </a:xfrm>
        </p:grpSpPr>
        <p:sp>
          <p:nvSpPr>
            <p:cNvPr id="202" name=""/>
            <p:cNvSpPr/>
            <p:nvPr/>
          </p:nvSpPr>
          <p:spPr>
            <a:xfrm>
              <a:off x="1731960" y="251460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0080" y="2819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00720" y="3124080"/>
            <a:ext cx="3744000" cy="459720"/>
            <a:chOff x="2700720" y="3124080"/>
            <a:chExt cx="3744000" cy="459720"/>
          </a:xfrm>
        </p:grpSpPr>
        <p:sp>
          <p:nvSpPr>
            <p:cNvPr id="205" name="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00720" y="3124080"/>
              <a:ext cx="37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chico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chico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887560" y="3581280"/>
            <a:ext cx="3368880" cy="459720"/>
            <a:chOff x="2887560" y="3581280"/>
            <a:chExt cx="3368880" cy="459720"/>
          </a:xfrm>
        </p:grpSpPr>
        <p:sp>
          <p:nvSpPr>
            <p:cNvPr id="208" name=""/>
            <p:cNvSpPr/>
            <p:nvPr/>
          </p:nvSpPr>
          <p:spPr>
            <a:xfrm>
              <a:off x="4114800" y="3885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7560" y="358128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silla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sill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359000" y="4343400"/>
            <a:ext cx="6540480" cy="459720"/>
            <a:chOff x="1359000" y="4343400"/>
            <a:chExt cx="6540480" cy="459720"/>
          </a:xfrm>
        </p:grpSpPr>
        <p:sp>
          <p:nvSpPr>
            <p:cNvPr id="211" name=""/>
            <p:cNvSpPr/>
            <p:nvPr/>
          </p:nvSpPr>
          <p:spPr>
            <a:xfrm>
              <a:off x="1359000" y="434340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38680" y="45720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522880" y="4952880"/>
            <a:ext cx="4150800" cy="459720"/>
            <a:chOff x="2522880" y="4952880"/>
            <a:chExt cx="4150800" cy="459720"/>
          </a:xfrm>
        </p:grpSpPr>
        <p:sp>
          <p:nvSpPr>
            <p:cNvPr id="214" name=""/>
            <p:cNvSpPr/>
            <p:nvPr/>
          </p:nvSpPr>
          <p:spPr>
            <a:xfrm>
              <a:off x="4133880" y="5218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2880" y="4952880"/>
              <a:ext cx="41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papel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pape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693880" y="5410080"/>
            <a:ext cx="3812400" cy="459720"/>
            <a:chOff x="2693880" y="5410080"/>
            <a:chExt cx="3812400" cy="459720"/>
          </a:xfrm>
        </p:grpSpPr>
        <p:sp>
          <p:nvSpPr>
            <p:cNvPr id="217" name=""/>
            <p:cNvSpPr/>
            <p:nvPr/>
          </p:nvSpPr>
          <p:spPr>
            <a:xfrm>
              <a:off x="4133880" y="57146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3880" y="5410080"/>
              <a:ext cx="38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reloj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reloj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24292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232-2C07-4C63-A901-138EDD3F7BAF}" type="slidenum">
              <a:t>8</a:t>
            </a:fld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95600" y="517680"/>
            <a:ext cx="579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Adje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22800" y="1371600"/>
            <a:ext cx="6250680" cy="459720"/>
            <a:chOff x="1522800" y="1371600"/>
            <a:chExt cx="6250680" cy="459720"/>
          </a:xfrm>
        </p:grpSpPr>
        <p:sp>
          <p:nvSpPr>
            <p:cNvPr id="222" name=""/>
            <p:cNvSpPr/>
            <p:nvPr/>
          </p:nvSpPr>
          <p:spPr>
            <a:xfrm>
              <a:off x="1522800" y="1371600"/>
              <a:ext cx="625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djective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9680" y="1676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93680" y="2057400"/>
            <a:ext cx="3271320" cy="459720"/>
            <a:chOff x="2893680" y="2057400"/>
            <a:chExt cx="3271320" cy="459720"/>
          </a:xfrm>
        </p:grpSpPr>
        <p:sp>
          <p:nvSpPr>
            <p:cNvPr id="225" name=""/>
            <p:cNvSpPr/>
            <p:nvPr/>
          </p:nvSpPr>
          <p:spPr>
            <a:xfrm>
              <a:off x="4052880" y="23227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3680" y="2057400"/>
              <a:ext cx="32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onita               bonit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741760" y="2514600"/>
            <a:ext cx="3914280" cy="459720"/>
            <a:chOff x="2741760" y="2514600"/>
            <a:chExt cx="3914280" cy="459720"/>
          </a:xfrm>
        </p:grpSpPr>
        <p:sp>
          <p:nvSpPr>
            <p:cNvPr id="228" name=""/>
            <p:cNvSpPr/>
            <p:nvPr/>
          </p:nvSpPr>
          <p:spPr>
            <a:xfrm>
              <a:off x="4213080" y="28191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1760" y="2514600"/>
              <a:ext cx="39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iente               paciente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293840" y="3048120"/>
            <a:ext cx="6540480" cy="459720"/>
            <a:chOff x="1293840" y="3048120"/>
            <a:chExt cx="6540480" cy="459720"/>
          </a:xfrm>
        </p:grpSpPr>
        <p:sp>
          <p:nvSpPr>
            <p:cNvPr id="231" name=""/>
            <p:cNvSpPr/>
            <p:nvPr/>
          </p:nvSpPr>
          <p:spPr>
            <a:xfrm>
              <a:off x="1293840" y="304812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73520" y="32767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07160" y="3657600"/>
            <a:ext cx="4696200" cy="459720"/>
            <a:chOff x="2207160" y="3657600"/>
            <a:chExt cx="4696200" cy="459720"/>
          </a:xfrm>
        </p:grpSpPr>
        <p:sp>
          <p:nvSpPr>
            <p:cNvPr id="234" name=""/>
            <p:cNvSpPr/>
            <p:nvPr/>
          </p:nvSpPr>
          <p:spPr>
            <a:xfrm>
              <a:off x="4075200" y="39229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7160" y="3657600"/>
              <a:ext cx="469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bajador                 trabajador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284560" y="4191120"/>
            <a:ext cx="4711320" cy="459720"/>
            <a:chOff x="2284560" y="4191120"/>
            <a:chExt cx="4711320" cy="459720"/>
          </a:xfrm>
        </p:grpSpPr>
        <p:sp>
          <p:nvSpPr>
            <p:cNvPr id="237" name=""/>
            <p:cNvSpPr/>
            <p:nvPr/>
          </p:nvSpPr>
          <p:spPr>
            <a:xfrm>
              <a:off x="4154400" y="44956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4560" y="4191120"/>
              <a:ext cx="47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nomenal                fenomena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2461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332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2578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lige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ia y Jos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s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nteligent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181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how th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gr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subjec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724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t’s look at some sentenc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F52-E984-4064-9408-837C071F480E}" type="slidenum">
              <a:t>9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01:51:38Z</dcterms:created>
  <dc:creator>Thomas and Jennifer Duggan</dc:creator>
  <dc:description/>
  <dc:language>en-US</dc:language>
  <cp:lastModifiedBy>teacher</cp:lastModifiedBy>
  <dcterms:modified xsi:type="dcterms:W3CDTF">2010-10-21T12:47:06Z</dcterms:modified>
  <cp:revision>53</cp:revision>
  <dc:subject/>
  <dc:title>PowerPoint Presentation</dc:title>
</cp:coreProperties>
</file>