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projctor.wav" ContentType="audio/x-wav"/>
  <Override PartName="/ppt/media/image6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jpeg" ContentType="image/jpeg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AC38-3CE3-4A8D-BE5F-FF02BAAC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594D-3A4C-4893-930E-B1684624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17F-4B9F-4552-B25C-671D00ED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34AB-F24C-481E-8389-A4E784B5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B6D3-9149-48DD-BEC6-F52C3949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93CD-33DE-41BC-9064-ECAA8E6E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6553-A4A5-468C-A1B2-B6465AD4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022B-772A-4897-B58E-0C73FC96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81F9-B5B5-48E4-A3F0-A98CEA79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6920-6DDE-4F9B-BA1F-2456EC0D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47AE-E2ED-4786-B215-7FA17A61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3EE-3CC1-4AF3-89DD-EB79D12C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874C-183C-4851-9250-A74897CE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7F64-5637-4ABD-AB13-C056DEFF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8F46-7740-45D7-8602-4CF72FDC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DC4F-6BED-45B9-97BD-4B875556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534A-16A1-4E37-A34C-7DCDE560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BD02-EC0A-4FBE-94E3-94F20558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A1D-DC67-4F1C-8634-2488552D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695-8F25-492E-90FE-A4C5FA18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35F6-DEB6-4F68-A705-9F304030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E70-E8BC-4337-BEC1-30F37CD0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844F-FA0D-48AC-A422-A5367F62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BC2-780D-44F8-B88F-B94DBF98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1" name="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BEDB-26DF-48D1-AA6D-9FB942F262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7" name="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7ADA-92F7-43CD-9D74-A7974A3F26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9.pct"/><Relationship Id="rId3" Type="http://schemas.openxmlformats.org/officeDocument/2006/relationships/image" Target="../media/image9.pct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jpeg"/><Relationship Id="rId5" Type="http://schemas.openxmlformats.org/officeDocument/2006/relationships/image" Target="../media/image6.pct"/><Relationship Id="rId6" Type="http://schemas.openxmlformats.org/officeDocument/2006/relationships/image" Target="../media/image7.pct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9.pct"/><Relationship Id="rId3" Type="http://schemas.openxmlformats.org/officeDocument/2006/relationships/image" Target="../media/image9.pct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1320" y="838080"/>
            <a:ext cx="8751600" cy="5121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</a:rPr>
              <a:t>Gram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ática de 1.2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</a:rPr>
              <a:t>Art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ículos definido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rtículos indefinidos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</a:rPr>
              <a:t>Sustantivo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</a:rPr>
              <a:t>Adjetivo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95B9-B0B5-4EF6-BE9C-8C68C1A04A4E}" type="slidenum">
              <a:t>1</a:t>
            </a:fld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397880" y="517680"/>
            <a:ext cx="638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Sustan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34960" y="5410080"/>
            <a:ext cx="1376280" cy="905040"/>
            <a:chOff x="534960" y="5410080"/>
            <a:chExt cx="1376280" cy="90504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534960" y="5410080"/>
              <a:ext cx="10717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685800" y="5562720"/>
              <a:ext cx="107316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838080" y="5715000"/>
              <a:ext cx="107316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"/>
          <p:cNvGrpSpPr/>
          <p:nvPr/>
        </p:nvGrpSpPr>
        <p:grpSpPr>
          <a:xfrm>
            <a:off x="7629480" y="5181480"/>
            <a:ext cx="922320" cy="1109880"/>
            <a:chOff x="7629480" y="5181480"/>
            <a:chExt cx="922320" cy="1109880"/>
          </a:xfrm>
        </p:grpSpPr>
        <p:grpSp>
          <p:nvGrpSpPr>
            <p:cNvPr id="250" name=""/>
            <p:cNvGrpSpPr/>
            <p:nvPr/>
          </p:nvGrpSpPr>
          <p:grpSpPr>
            <a:xfrm>
              <a:off x="7629480" y="5181480"/>
              <a:ext cx="617760" cy="804960"/>
              <a:chOff x="7629480" y="5181480"/>
              <a:chExt cx="617760" cy="804960"/>
            </a:xfrm>
          </p:grpSpPr>
          <p:sp>
            <p:nvSpPr>
              <p:cNvPr id="251" name=""/>
              <p:cNvSpPr/>
              <p:nvPr/>
            </p:nvSpPr>
            <p:spPr>
              <a:xfrm>
                <a:off x="7629480" y="5181480"/>
                <a:ext cx="61776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65648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84440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03232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5648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4440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03232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65648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84440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5648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03232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84440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03232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656480" y="558468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58640" y="558972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85440" y="555768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7781760" y="5334120"/>
              <a:ext cx="617760" cy="804600"/>
              <a:chOff x="7781760" y="5334120"/>
              <a:chExt cx="617760" cy="804600"/>
            </a:xfrm>
          </p:grpSpPr>
          <p:sp>
            <p:nvSpPr>
              <p:cNvPr id="268" name=""/>
              <p:cNvSpPr/>
              <p:nvPr/>
            </p:nvSpPr>
            <p:spPr>
              <a:xfrm>
                <a:off x="7781760" y="5334120"/>
                <a:ext cx="617760" cy="80460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80876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99668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18460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80876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9668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18460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80876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99668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80876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18460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99668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18460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7808760" y="573732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10920" y="574236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037720" y="571032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7934400" y="5486400"/>
              <a:ext cx="617400" cy="804960"/>
              <a:chOff x="7934400" y="5486400"/>
              <a:chExt cx="617400" cy="804960"/>
            </a:xfrm>
          </p:grpSpPr>
          <p:sp>
            <p:nvSpPr>
              <p:cNvPr id="285" name=""/>
              <p:cNvSpPr/>
              <p:nvPr/>
            </p:nvSpPr>
            <p:spPr>
              <a:xfrm>
                <a:off x="7934400" y="5486400"/>
                <a:ext cx="61740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6140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14932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33688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96140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14932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33688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6140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14932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96140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33688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14932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33688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7961400" y="588960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963560" y="5894640"/>
                <a:ext cx="5569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190360" y="586260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1809720" y="1639800"/>
            <a:ext cx="2070360" cy="459720"/>
            <a:chOff x="1809720" y="1639800"/>
            <a:chExt cx="2070360" cy="459720"/>
          </a:xfrm>
        </p:grpSpPr>
        <p:sp>
          <p:nvSpPr>
            <p:cNvPr id="302" name=""/>
            <p:cNvSpPr/>
            <p:nvPr/>
          </p:nvSpPr>
          <p:spPr>
            <a:xfrm>
              <a:off x="1809720" y="163980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l              l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38280" y="19051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254920" y="1636560"/>
            <a:ext cx="2053800" cy="459720"/>
            <a:chOff x="5254920" y="1636560"/>
            <a:chExt cx="2053800" cy="459720"/>
          </a:xfrm>
        </p:grpSpPr>
        <p:sp>
          <p:nvSpPr>
            <p:cNvPr id="305" name=""/>
            <p:cNvSpPr/>
            <p:nvPr/>
          </p:nvSpPr>
          <p:spPr>
            <a:xfrm>
              <a:off x="5254920" y="163656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              l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83120" y="1901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785880" y="2514600"/>
            <a:ext cx="7646760" cy="459720"/>
            <a:chOff x="785880" y="2514600"/>
            <a:chExt cx="7646760" cy="459720"/>
          </a:xfrm>
        </p:grpSpPr>
        <p:sp>
          <p:nvSpPr>
            <p:cNvPr id="308" name=""/>
            <p:cNvSpPr/>
            <p:nvPr/>
          </p:nvSpPr>
          <p:spPr>
            <a:xfrm>
              <a:off x="785880" y="2514600"/>
              <a:ext cx="764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“-z”              change to “-c”, add “-es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91120" y="27432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705040" y="3124080"/>
            <a:ext cx="3742200" cy="459720"/>
            <a:chOff x="2705040" y="3124080"/>
            <a:chExt cx="3742200" cy="459720"/>
          </a:xfrm>
        </p:grpSpPr>
        <p:sp>
          <p:nvSpPr>
            <p:cNvPr id="311" name=""/>
            <p:cNvSpPr/>
            <p:nvPr/>
          </p:nvSpPr>
          <p:spPr>
            <a:xfrm>
              <a:off x="4114800" y="33894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05040" y="3124080"/>
              <a:ext cx="374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lápiz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lápi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824616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63120" y="3925800"/>
            <a:ext cx="60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or remove an accent mark in the plur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279520" y="4572000"/>
            <a:ext cx="4659840" cy="459720"/>
            <a:chOff x="2279520" y="4572000"/>
            <a:chExt cx="4659840" cy="459720"/>
          </a:xfrm>
        </p:grpSpPr>
        <p:sp>
          <p:nvSpPr>
            <p:cNvPr id="316" name=""/>
            <p:cNvSpPr/>
            <p:nvPr/>
          </p:nvSpPr>
          <p:spPr>
            <a:xfrm>
              <a:off x="4146480" y="48373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79520" y="4572000"/>
              <a:ext cx="465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examen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ex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á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471760" y="5105520"/>
            <a:ext cx="4284720" cy="459720"/>
            <a:chOff x="2471760" y="5105520"/>
            <a:chExt cx="4284720" cy="459720"/>
          </a:xfrm>
        </p:grpSpPr>
        <p:sp>
          <p:nvSpPr>
            <p:cNvPr id="319" name=""/>
            <p:cNvSpPr/>
            <p:nvPr/>
          </p:nvSpPr>
          <p:spPr>
            <a:xfrm>
              <a:off x="4146480" y="53708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71760" y="5105520"/>
              <a:ext cx="42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nación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a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naci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5EA-96EC-40AB-ACDF-D7BB97506E5B}" type="slidenum">
              <a:t>10</a:t>
            </a:fld>
          </a:p>
        </p:txBody>
      </p:sp>
    </p:spTree>
  </p:cSld>
  <p:transition spd="med">
    <p:cover dir="d"/>
    <p:sndAc>
      <p:stSnd>
        <p:snd r:embed="rId4" name="chimes.wav"/>
      </p:stSnd>
    </p:sndAc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500"/>
                            </p:stCondLst>
                            <p:childTnLst>
                              <p:par>
                                <p:cTn id="48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000"/>
                            </p:stCondLst>
                            <p:childTnLst>
                              <p:par>
                                <p:cTn id="519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397880" y="517680"/>
            <a:ext cx="638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Sustan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809720" y="1639800"/>
            <a:ext cx="2070360" cy="459720"/>
            <a:chOff x="1809720" y="1639800"/>
            <a:chExt cx="2070360" cy="459720"/>
          </a:xfrm>
        </p:grpSpPr>
        <p:sp>
          <p:nvSpPr>
            <p:cNvPr id="323" name=""/>
            <p:cNvSpPr/>
            <p:nvPr/>
          </p:nvSpPr>
          <p:spPr>
            <a:xfrm>
              <a:off x="1809720" y="163980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l              l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38280" y="19051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254920" y="1636560"/>
            <a:ext cx="2053800" cy="459720"/>
            <a:chOff x="5254920" y="1636560"/>
            <a:chExt cx="2053800" cy="459720"/>
          </a:xfrm>
        </p:grpSpPr>
        <p:sp>
          <p:nvSpPr>
            <p:cNvPr id="326" name=""/>
            <p:cNvSpPr/>
            <p:nvPr/>
          </p:nvSpPr>
          <p:spPr>
            <a:xfrm>
              <a:off x="5254920" y="163656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              l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83120" y="1901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66440" y="2286000"/>
            <a:ext cx="7669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referring to males and females as a single group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to masculine and femenine objects togethe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sculine plur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45760" y="3809880"/>
            <a:ext cx="2568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s and gir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4940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247120" y="3962520"/>
            <a:ext cx="2553480" cy="459720"/>
            <a:chOff x="2247120" y="3962520"/>
            <a:chExt cx="2553480" cy="459720"/>
          </a:xfrm>
        </p:grpSpPr>
        <p:sp>
          <p:nvSpPr>
            <p:cNvPr id="332" name=""/>
            <p:cNvSpPr/>
            <p:nvPr/>
          </p:nvSpPr>
          <p:spPr>
            <a:xfrm>
              <a:off x="4114800" y="424656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47120" y="3962520"/>
              <a:ext cx="15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s chic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029560" y="5160960"/>
            <a:ext cx="35013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 stu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 and girl stu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536120" y="5313240"/>
            <a:ext cx="3248640" cy="459720"/>
            <a:chOff x="1536120" y="5313240"/>
            <a:chExt cx="3248640" cy="459720"/>
          </a:xfrm>
        </p:grpSpPr>
        <p:sp>
          <p:nvSpPr>
            <p:cNvPr id="336" name=""/>
            <p:cNvSpPr/>
            <p:nvPr/>
          </p:nvSpPr>
          <p:spPr>
            <a:xfrm>
              <a:off x="4098960" y="559728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36120" y="5313240"/>
              <a:ext cx="22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s estudian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87F3-9478-4DA9-9A29-A1B2281AF20E}" type="slidenum">
              <a:t>11</a:t>
            </a:fld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os sustantivos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4572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u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person, place, thing,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español, nouns hav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ntivos masculinos / Sustantivos femeni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108240" cy="3344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7DB-EF48-4E9D-BC85-FF8615D37060}" type="slidenum">
              <a:t>2</a:t>
            </a:fld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41680" y="2300400"/>
            <a:ext cx="2056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rofe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74880" y="2286000"/>
            <a:ext cx="1820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oli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5200" y="2362320"/>
            <a:ext cx="1883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ca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8360" y="5715000"/>
            <a:ext cx="1384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ib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892440" cy="1600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657600" y="3962520"/>
            <a:ext cx="1765440" cy="1363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581280" y="609480"/>
            <a:ext cx="1704960" cy="1849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019920" y="762120"/>
            <a:ext cx="2286000" cy="154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447920" y="3276720"/>
            <a:ext cx="1292040" cy="1592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00280" y="5334120"/>
            <a:ext cx="2393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estudi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6248520" y="3657600"/>
            <a:ext cx="1815840" cy="1563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368040" y="5486400"/>
            <a:ext cx="162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bol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D87-681D-4986-B81B-7967CFB655AD}" type="slidenum">
              <a:t>3</a:t>
            </a:fld>
          </a:p>
        </p:txBody>
      </p:sp>
    </p:spTree>
  </p:cSld>
  <p:transition spd="med">
    <p:cover dir="d"/>
    <p:sndAc>
      <p:stSnd>
        <p:snd r:embed="rId7" name="chimes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24760" y="457200"/>
            <a:ext cx="436860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ntivos masculin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52160" y="1143000"/>
            <a:ext cx="6315840" cy="111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suall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d in “- o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with definite article “el”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“the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32040" y="24382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l ch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4840" y="24382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l vest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01720" y="243828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l apart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0600" y="3124080"/>
            <a:ext cx="419040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ntivos femenin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68000" y="3809880"/>
            <a:ext cx="6315840" cy="162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end in “- a”, “- ción”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sión”, “- da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with definite article “la”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“the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6000" y="556272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ch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82320" y="556272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68360" y="556272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televi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20600" y="556272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pos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C8E-B28B-4897-AF6C-DD860F119034}" type="slidenum">
              <a:t>4</a:t>
            </a:fld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24040" y="573120"/>
            <a:ext cx="491112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Excepti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the rule…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9160" y="1411200"/>
            <a:ext cx="7738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ender of some words must be learned becau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on’t follow the patterns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sculi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emeni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74200" y="2630520"/>
            <a:ext cx="209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asculino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í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lo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ápi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upitr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acapunt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60000" y="2625840"/>
            <a:ext cx="17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emenino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ard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ch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las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e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3500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62520" y="5257800"/>
            <a:ext cx="12952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934-64CF-444F-8A34-C0D1A19E0335}" type="slidenum">
              <a:t>5</a:t>
            </a:fld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24040" y="573120"/>
            <a:ext cx="491112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Excepti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the rule…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800" y="1411200"/>
            <a:ext cx="7383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nouns referring to people only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e form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ender is determined by the article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50520" y="2630520"/>
            <a:ext cx="194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asculin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tudi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t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t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43000" y="2625840"/>
            <a:ext cx="200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emenin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tudi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nt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t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3824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09880" y="2895480"/>
            <a:ext cx="1292400" cy="1592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3560" y="4648320"/>
            <a:ext cx="790740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like the nouns, some adjectives only have one for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be used for a masculine or a feminine nou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Arial"/>
              </a:rPr>
              <a:t>La chica paciente           El vestido verde       Los pantalones marr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Arial"/>
              </a:rPr>
              <a:t>El chico paciente              La falda verde          Las camisetas marr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C466-E62F-4CC2-B020-FA6F7AAE9EF0}" type="slidenum">
              <a:t>6</a:t>
            </a:fld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333880" y="706320"/>
            <a:ext cx="44982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s Artículos…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03880" y="24382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Definid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54480" y="1944720"/>
            <a:ext cx="62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38160" y="2438280"/>
            <a:ext cx="8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03880" y="47322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d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2640" y="4238640"/>
            <a:ext cx="9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37080" y="4732200"/>
            <a:ext cx="12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” / “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6E80-3C24-45AB-A019-F5E1EC4EF414}" type="slidenum">
              <a:t>7</a:t>
            </a:fld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97880" y="517680"/>
            <a:ext cx="638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Sustan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4960" y="5410080"/>
            <a:ext cx="1376280" cy="905040"/>
            <a:chOff x="534960" y="5410080"/>
            <a:chExt cx="1376280" cy="90504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534960" y="5410080"/>
              <a:ext cx="10717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685800" y="5562720"/>
              <a:ext cx="107316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838080" y="5715000"/>
              <a:ext cx="107316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7629480" y="5181480"/>
            <a:ext cx="922320" cy="1109880"/>
            <a:chOff x="7629480" y="5181480"/>
            <a:chExt cx="922320" cy="1109880"/>
          </a:xfrm>
        </p:grpSpPr>
        <p:grpSp>
          <p:nvGrpSpPr>
            <p:cNvPr id="144" name=""/>
            <p:cNvGrpSpPr/>
            <p:nvPr/>
          </p:nvGrpSpPr>
          <p:grpSpPr>
            <a:xfrm>
              <a:off x="7629480" y="5181480"/>
              <a:ext cx="617760" cy="804960"/>
              <a:chOff x="7629480" y="5181480"/>
              <a:chExt cx="617760" cy="804960"/>
            </a:xfrm>
          </p:grpSpPr>
          <p:sp>
            <p:nvSpPr>
              <p:cNvPr id="145" name=""/>
              <p:cNvSpPr/>
              <p:nvPr/>
            </p:nvSpPr>
            <p:spPr>
              <a:xfrm>
                <a:off x="7629480" y="5181480"/>
                <a:ext cx="61776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65648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4440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3232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5648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4440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3232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5648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84440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5648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3232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84440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03232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7656480" y="558468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658640" y="558972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885440" y="555768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7781760" y="5334120"/>
              <a:ext cx="617760" cy="804600"/>
              <a:chOff x="7781760" y="5334120"/>
              <a:chExt cx="617760" cy="804600"/>
            </a:xfrm>
          </p:grpSpPr>
          <p:sp>
            <p:nvSpPr>
              <p:cNvPr id="162" name=""/>
              <p:cNvSpPr/>
              <p:nvPr/>
            </p:nvSpPr>
            <p:spPr>
              <a:xfrm>
                <a:off x="7781760" y="5334120"/>
                <a:ext cx="617760" cy="80460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80876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99668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18460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80876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9668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18460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80876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99668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0876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18460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99668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18460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7808760" y="573732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810920" y="574236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037720" y="571032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7934400" y="5486400"/>
              <a:ext cx="617400" cy="804960"/>
              <a:chOff x="7934400" y="5486400"/>
              <a:chExt cx="617400" cy="804960"/>
            </a:xfrm>
          </p:grpSpPr>
          <p:sp>
            <p:nvSpPr>
              <p:cNvPr id="179" name=""/>
              <p:cNvSpPr/>
              <p:nvPr/>
            </p:nvSpPr>
            <p:spPr>
              <a:xfrm>
                <a:off x="7934400" y="5486400"/>
                <a:ext cx="61740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6140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14932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33688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96140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14932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33688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96140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14932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96140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33688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14932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3688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7961400" y="588960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963560" y="5894640"/>
                <a:ext cx="5569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190360" y="5862600"/>
                <a:ext cx="103320" cy="29160"/>
              </a:xfrm>
              <a:custGeom>
                <a:avLst/>
                <a:gdLst/>
                <a:ahLst/>
                <a:rect l="l" t="t" r="r" b="b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1809720" y="1639800"/>
            <a:ext cx="2070360" cy="459720"/>
            <a:chOff x="1809720" y="1639800"/>
            <a:chExt cx="2070360" cy="459720"/>
          </a:xfrm>
        </p:grpSpPr>
        <p:sp>
          <p:nvSpPr>
            <p:cNvPr id="196" name=""/>
            <p:cNvSpPr/>
            <p:nvPr/>
          </p:nvSpPr>
          <p:spPr>
            <a:xfrm>
              <a:off x="1809720" y="163980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l              l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38280" y="19051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254920" y="1636560"/>
            <a:ext cx="2053800" cy="459720"/>
            <a:chOff x="5254920" y="1636560"/>
            <a:chExt cx="2053800" cy="459720"/>
          </a:xfrm>
        </p:grpSpPr>
        <p:sp>
          <p:nvSpPr>
            <p:cNvPr id="199" name=""/>
            <p:cNvSpPr/>
            <p:nvPr/>
          </p:nvSpPr>
          <p:spPr>
            <a:xfrm>
              <a:off x="5254920" y="163656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              l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83120" y="1901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731960" y="2514600"/>
            <a:ext cx="5743440" cy="459720"/>
            <a:chOff x="1731960" y="2514600"/>
            <a:chExt cx="5743440" cy="459720"/>
          </a:xfrm>
        </p:grpSpPr>
        <p:sp>
          <p:nvSpPr>
            <p:cNvPr id="202" name=""/>
            <p:cNvSpPr/>
            <p:nvPr/>
          </p:nvSpPr>
          <p:spPr>
            <a:xfrm>
              <a:off x="1731960" y="2514600"/>
              <a:ext cx="57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vowel              add “-s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10080" y="2819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700720" y="3124080"/>
            <a:ext cx="3744000" cy="459720"/>
            <a:chOff x="2700720" y="3124080"/>
            <a:chExt cx="3744000" cy="459720"/>
          </a:xfrm>
        </p:grpSpPr>
        <p:sp>
          <p:nvSpPr>
            <p:cNvPr id="205" name=""/>
            <p:cNvSpPr/>
            <p:nvPr/>
          </p:nvSpPr>
          <p:spPr>
            <a:xfrm>
              <a:off x="4114800" y="33894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00720" y="3124080"/>
              <a:ext cx="37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chico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chico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887560" y="3581280"/>
            <a:ext cx="3368880" cy="459720"/>
            <a:chOff x="2887560" y="3581280"/>
            <a:chExt cx="3368880" cy="459720"/>
          </a:xfrm>
        </p:grpSpPr>
        <p:sp>
          <p:nvSpPr>
            <p:cNvPr id="208" name=""/>
            <p:cNvSpPr/>
            <p:nvPr/>
          </p:nvSpPr>
          <p:spPr>
            <a:xfrm>
              <a:off x="4114800" y="38858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87560" y="3581280"/>
              <a:ext cx="33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silla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a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silla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359000" y="4343400"/>
            <a:ext cx="6540480" cy="459720"/>
            <a:chOff x="1359000" y="4343400"/>
            <a:chExt cx="6540480" cy="459720"/>
          </a:xfrm>
        </p:grpSpPr>
        <p:sp>
          <p:nvSpPr>
            <p:cNvPr id="211" name=""/>
            <p:cNvSpPr/>
            <p:nvPr/>
          </p:nvSpPr>
          <p:spPr>
            <a:xfrm>
              <a:off x="1359000" y="4343400"/>
              <a:ext cx="65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consonant              add “-es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38680" y="45720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522880" y="4952880"/>
            <a:ext cx="4150800" cy="459720"/>
            <a:chOff x="2522880" y="4952880"/>
            <a:chExt cx="4150800" cy="459720"/>
          </a:xfrm>
        </p:grpSpPr>
        <p:sp>
          <p:nvSpPr>
            <p:cNvPr id="214" name=""/>
            <p:cNvSpPr/>
            <p:nvPr/>
          </p:nvSpPr>
          <p:spPr>
            <a:xfrm>
              <a:off x="4133880" y="52182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22880" y="4952880"/>
              <a:ext cx="415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papel  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papel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693880" y="5410080"/>
            <a:ext cx="3812400" cy="459720"/>
            <a:chOff x="2693880" y="5410080"/>
            <a:chExt cx="3812400" cy="459720"/>
          </a:xfrm>
        </p:grpSpPr>
        <p:sp>
          <p:nvSpPr>
            <p:cNvPr id="217" name=""/>
            <p:cNvSpPr/>
            <p:nvPr/>
          </p:nvSpPr>
          <p:spPr>
            <a:xfrm>
              <a:off x="4133880" y="57146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93880" y="5410080"/>
              <a:ext cx="38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reloj  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reloj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824292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24B0-4662-4338-BA67-7FB071F0E39D}" type="slidenum">
              <a:t>8</a:t>
            </a:fld>
          </a:p>
        </p:txBody>
      </p:sp>
    </p:spTree>
  </p:cSld>
  <p:transition spd="med">
    <p:cover dir="d"/>
    <p:sndAc>
      <p:stSnd>
        <p:snd r:embed="rId4" name="chimes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695600" y="517680"/>
            <a:ext cx="579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Adje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522800" y="1371600"/>
            <a:ext cx="6250680" cy="459720"/>
            <a:chOff x="1522800" y="1371600"/>
            <a:chExt cx="6250680" cy="459720"/>
          </a:xfrm>
        </p:grpSpPr>
        <p:sp>
          <p:nvSpPr>
            <p:cNvPr id="222" name=""/>
            <p:cNvSpPr/>
            <p:nvPr/>
          </p:nvSpPr>
          <p:spPr>
            <a:xfrm>
              <a:off x="1522800" y="1371600"/>
              <a:ext cx="625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djectives ending in a vowel              add “-s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49680" y="1676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893680" y="2057400"/>
            <a:ext cx="3271320" cy="459720"/>
            <a:chOff x="2893680" y="2057400"/>
            <a:chExt cx="3271320" cy="459720"/>
          </a:xfrm>
        </p:grpSpPr>
        <p:sp>
          <p:nvSpPr>
            <p:cNvPr id="225" name=""/>
            <p:cNvSpPr/>
            <p:nvPr/>
          </p:nvSpPr>
          <p:spPr>
            <a:xfrm>
              <a:off x="4052880" y="23227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93680" y="2057400"/>
              <a:ext cx="32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onita               bonita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741760" y="2514600"/>
            <a:ext cx="3914280" cy="459720"/>
            <a:chOff x="2741760" y="2514600"/>
            <a:chExt cx="3914280" cy="459720"/>
          </a:xfrm>
        </p:grpSpPr>
        <p:sp>
          <p:nvSpPr>
            <p:cNvPr id="228" name=""/>
            <p:cNvSpPr/>
            <p:nvPr/>
          </p:nvSpPr>
          <p:spPr>
            <a:xfrm>
              <a:off x="4213080" y="281916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41760" y="2514600"/>
              <a:ext cx="39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ciente               paciente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293840" y="3048120"/>
            <a:ext cx="6540480" cy="459720"/>
            <a:chOff x="1293840" y="3048120"/>
            <a:chExt cx="6540480" cy="459720"/>
          </a:xfrm>
        </p:grpSpPr>
        <p:sp>
          <p:nvSpPr>
            <p:cNvPr id="231" name=""/>
            <p:cNvSpPr/>
            <p:nvPr/>
          </p:nvSpPr>
          <p:spPr>
            <a:xfrm>
              <a:off x="1293840" y="3048120"/>
              <a:ext cx="65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consonant              add “-es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73520" y="32767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207160" y="3657600"/>
            <a:ext cx="4696200" cy="459720"/>
            <a:chOff x="2207160" y="3657600"/>
            <a:chExt cx="4696200" cy="459720"/>
          </a:xfrm>
        </p:grpSpPr>
        <p:sp>
          <p:nvSpPr>
            <p:cNvPr id="234" name=""/>
            <p:cNvSpPr/>
            <p:nvPr/>
          </p:nvSpPr>
          <p:spPr>
            <a:xfrm>
              <a:off x="4075200" y="39229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07160" y="3657600"/>
              <a:ext cx="469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abajador                 trabajador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284560" y="4191120"/>
            <a:ext cx="4711320" cy="459720"/>
            <a:chOff x="2284560" y="4191120"/>
            <a:chExt cx="4711320" cy="459720"/>
          </a:xfrm>
        </p:grpSpPr>
        <p:sp>
          <p:nvSpPr>
            <p:cNvPr id="237" name=""/>
            <p:cNvSpPr/>
            <p:nvPr/>
          </p:nvSpPr>
          <p:spPr>
            <a:xfrm>
              <a:off x="4154400" y="449568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84560" y="4191120"/>
              <a:ext cx="47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enomenal                fenomenal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824616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3320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525780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a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ＭＳ Ｐゴシック"/>
              </a:rPr>
              <a:t>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ligent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ＭＳ Ｐゴシック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ia y Jose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ＭＳ Ｐゴシック"/>
              </a:rPr>
              <a:t>s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nteligente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  <a:ea typeface="ＭＳ Ｐゴシック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181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ce how the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ver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anges to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gre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the 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subjec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47242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t’s look at some sentence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AE8-F1A5-4737-BAD5-5D8577CCD1E6}" type="slidenum">
              <a:t>9</a:t>
            </a:fld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9T01:51:38Z</dcterms:created>
  <dc:creator>Thomas and Jennifer Duggan</dc:creator>
  <dc:description/>
  <dc:language>en-US</dc:language>
  <cp:lastModifiedBy>teacher</cp:lastModifiedBy>
  <dcterms:modified xsi:type="dcterms:W3CDTF">2010-10-21T12:47:06Z</dcterms:modified>
  <cp:revision>53</cp:revision>
  <dc:subject/>
  <dc:title>PowerPoint Presentation</dc:title>
</cp:coreProperties>
</file>