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projctor.wav" ContentType="audio/x-wav"/>
  <Override PartName="/ppt/media/image6.pct" ContentType="image/x-pict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jpeg" ContentType="image/jpeg"/>
  <Override PartName="/ppt/media/image7.pct" ContentType="image/x-pict"/>
  <Override PartName="/ppt/media/image8.pct" ContentType="image/x-pict"/>
  <Override PartName="/ppt/media/image9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910C-BBC9-4FE0-A098-E61656964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174F-FB2E-41B4-977C-61F8E90BD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EAFD-56B3-4843-A4EC-A901BF5A5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0237-BABE-443A-BBB8-1FC2CF0B5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6F037-752C-4D2A-9FA2-21BC4DB0F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1CF3C-9702-4226-9075-76A82A2E5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0D0B9-077A-4D3A-9493-CC56FD953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F809E-B44B-4F16-87B2-403D46B52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C38E7-4044-469F-8DCD-8D8C73CB5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771F8-9B35-4892-9FD7-7CFEF674C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2447E-E06C-4F6F-AA57-19973C0F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C8FD-2D00-47AD-9585-A69F5FD15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B69BE-BBA7-4C7F-BC88-77BA93C0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A51B0-C517-4F6F-9E5F-84CB0640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141EA-3DEC-48DC-80E2-672875544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0CC86-ED2C-40BA-AD92-DC0EBFCAB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452C8-C899-404E-BA8A-14F5F300B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F557-2C87-4FFE-A201-13C45B1FB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97A4-BA8F-45DF-8A76-F35E7BE2E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9867-334F-4EC8-81D7-79169708E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6927-5FC8-40F7-A6E1-8DE27B38D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C8D0-5229-430F-A7EC-D52000FB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8978-A160-4BB0-B423-153AD7A1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FA6F-B20D-400F-AB35-5B8845C0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8000" y="108000"/>
            <a:ext cx="8928000" cy="6642000"/>
            <a:chOff x="108000" y="108000"/>
            <a:chExt cx="8928000" cy="6642000"/>
          </a:xfrm>
        </p:grpSpPr>
        <p:sp>
          <p:nvSpPr>
            <p:cNvPr id="1" name=""/>
            <p:cNvSpPr/>
            <p:nvPr/>
          </p:nvSpPr>
          <p:spPr>
            <a:xfrm>
              <a:off x="108000" y="108000"/>
              <a:ext cx="8928000" cy="66420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000099"/>
                </a:gs>
                <a:gs pos="100000">
                  <a:srgbClr val="6699ff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9760" y="222120"/>
              <a:ext cx="8682120" cy="643896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50000">
                  <a:srgbClr val="6699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3120" y="298440"/>
              <a:ext cx="8535960" cy="626112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000099"/>
                </a:gs>
                <a:gs pos="100000">
                  <a:srgbClr val="6699ff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31640" y="431640"/>
              <a:ext cx="8280720" cy="5994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6BFBA-3C49-4FBE-A215-54F5F4137D0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108000" y="108000"/>
            <a:ext cx="8928000" cy="6642000"/>
            <a:chOff x="108000" y="108000"/>
            <a:chExt cx="8928000" cy="6642000"/>
          </a:xfrm>
        </p:grpSpPr>
        <p:sp>
          <p:nvSpPr>
            <p:cNvPr id="47" name=""/>
            <p:cNvSpPr/>
            <p:nvPr/>
          </p:nvSpPr>
          <p:spPr>
            <a:xfrm>
              <a:off x="108000" y="108000"/>
              <a:ext cx="8928000" cy="66420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000099"/>
                </a:gs>
                <a:gs pos="100000">
                  <a:srgbClr val="6699ff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39760" y="222120"/>
              <a:ext cx="8682120" cy="643896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50000">
                  <a:srgbClr val="6699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3120" y="298440"/>
              <a:ext cx="8535960" cy="626112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000099"/>
                </a:gs>
                <a:gs pos="100000">
                  <a:srgbClr val="6699ff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31640" y="431640"/>
              <a:ext cx="8280720" cy="5994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6DBDA-A589-4C12-8FDA-7B007A6558D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9.pct"/><Relationship Id="rId3" Type="http://schemas.openxmlformats.org/officeDocument/2006/relationships/image" Target="../media/image9.pct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image" Target="../media/image4.pct"/><Relationship Id="rId4" Type="http://schemas.openxmlformats.org/officeDocument/2006/relationships/image" Target="../media/image5.jpeg"/><Relationship Id="rId5" Type="http://schemas.openxmlformats.org/officeDocument/2006/relationships/image" Target="../media/image6.pct"/><Relationship Id="rId6" Type="http://schemas.openxmlformats.org/officeDocument/2006/relationships/image" Target="../media/image7.pct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9.pct"/><Relationship Id="rId3" Type="http://schemas.openxmlformats.org/officeDocument/2006/relationships/image" Target="../media/image9.pct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91320" y="838080"/>
            <a:ext cx="8751600" cy="51213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ffffff"/>
                </a:solidFill>
                <a:uFillTx/>
                <a:latin typeface="Arial"/>
              </a:rPr>
              <a:t>Gram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ática de 1.2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ffffff"/>
                </a:solidFill>
                <a:uFillTx/>
                <a:latin typeface="Arial"/>
              </a:rPr>
              <a:t>Art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ículos definidos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Artículos indefinidos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ffffff"/>
                </a:solidFill>
                <a:uFillTx/>
                <a:latin typeface="Arial"/>
              </a:rPr>
              <a:t>Sustantivos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ffffff"/>
                </a:solidFill>
                <a:uFillTx/>
                <a:latin typeface="Arial"/>
              </a:rPr>
              <a:t>Adjetivos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F378-7D8C-4011-A548-C5B616668172}" type="slidenum">
              <a:t>1</a:t>
            </a:fld>
          </a:p>
        </p:txBody>
      </p:sp>
    </p:spTree>
  </p:cSld>
  <p:transition spd="med">
    <p:cover dir="d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397880" y="517680"/>
            <a:ext cx="6383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os Sustantivos </a:t>
            </a: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Plurales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534960" y="5410080"/>
            <a:ext cx="1376280" cy="905040"/>
            <a:chOff x="534960" y="5410080"/>
            <a:chExt cx="1376280" cy="905040"/>
          </a:xfrm>
        </p:grpSpPr>
        <p:pic>
          <p:nvPicPr>
            <p:cNvPr id="246" name="" descr=""/>
            <p:cNvPicPr/>
            <p:nvPr/>
          </p:nvPicPr>
          <p:blipFill>
            <a:blip r:embed="rId1"/>
            <a:stretch/>
          </p:blipFill>
          <p:spPr>
            <a:xfrm>
              <a:off x="534960" y="5410080"/>
              <a:ext cx="1071720" cy="6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" descr=""/>
            <p:cNvPicPr/>
            <p:nvPr/>
          </p:nvPicPr>
          <p:blipFill>
            <a:blip r:embed="rId2"/>
            <a:stretch/>
          </p:blipFill>
          <p:spPr>
            <a:xfrm>
              <a:off x="685800" y="5562720"/>
              <a:ext cx="1073160" cy="6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3"/>
            <a:stretch/>
          </p:blipFill>
          <p:spPr>
            <a:xfrm>
              <a:off x="838080" y="5715000"/>
              <a:ext cx="1073160" cy="600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9" name=""/>
          <p:cNvGrpSpPr/>
          <p:nvPr/>
        </p:nvGrpSpPr>
        <p:grpSpPr>
          <a:xfrm>
            <a:off x="7629480" y="5181480"/>
            <a:ext cx="922320" cy="1109880"/>
            <a:chOff x="7629480" y="5181480"/>
            <a:chExt cx="922320" cy="1109880"/>
          </a:xfrm>
        </p:grpSpPr>
        <p:grpSp>
          <p:nvGrpSpPr>
            <p:cNvPr id="250" name=""/>
            <p:cNvGrpSpPr/>
            <p:nvPr/>
          </p:nvGrpSpPr>
          <p:grpSpPr>
            <a:xfrm>
              <a:off x="7629480" y="5181480"/>
              <a:ext cx="617760" cy="804960"/>
              <a:chOff x="7629480" y="5181480"/>
              <a:chExt cx="617760" cy="804960"/>
            </a:xfrm>
          </p:grpSpPr>
          <p:sp>
            <p:nvSpPr>
              <p:cNvPr id="251" name=""/>
              <p:cNvSpPr/>
              <p:nvPr/>
            </p:nvSpPr>
            <p:spPr>
              <a:xfrm>
                <a:off x="7629480" y="5181480"/>
                <a:ext cx="617760" cy="804960"/>
              </a:xfrm>
              <a:prstGeom prst="rect">
                <a:avLst/>
              </a:prstGeom>
              <a:solidFill>
                <a:srgbClr val="ffe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656480" y="521064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844400" y="521064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8032320" y="521064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56480" y="539820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844400" y="539820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032320" y="539820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656480" y="558576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844400" y="558576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56480" y="577332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032320" y="558576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844400" y="577332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8032320" y="577332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V="1">
                <a:off x="7656480" y="5584680"/>
                <a:ext cx="55908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58640" y="5589720"/>
                <a:ext cx="55728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885440" y="5557680"/>
                <a:ext cx="103320" cy="29160"/>
              </a:xfrm>
              <a:custGeom>
                <a:avLst/>
                <a:gdLst/>
                <a:ahLst/>
                <a:rect l="l" t="t" r="r" b="b"/>
                <a:pathLst>
                  <a:path w="159" h="45">
                    <a:moveTo>
                      <a:pt x="0" y="3"/>
                    </a:moveTo>
                    <a:lnTo>
                      <a:pt x="15" y="24"/>
                    </a:lnTo>
                    <a:lnTo>
                      <a:pt x="30" y="33"/>
                    </a:lnTo>
                    <a:lnTo>
                      <a:pt x="63" y="45"/>
                    </a:lnTo>
                    <a:lnTo>
                      <a:pt x="96" y="45"/>
                    </a:lnTo>
                    <a:lnTo>
                      <a:pt x="141" y="24"/>
                    </a:lnTo>
                    <a:lnTo>
                      <a:pt x="153" y="18"/>
                    </a:lnTo>
                    <a:lnTo>
                      <a:pt x="159" y="0"/>
                    </a:lnTo>
                    <a:lnTo>
                      <a:pt x="120" y="12"/>
                    </a:lnTo>
                    <a:lnTo>
                      <a:pt x="96" y="21"/>
                    </a:lnTo>
                    <a:lnTo>
                      <a:pt x="69" y="21"/>
                    </a:lnTo>
                    <a:lnTo>
                      <a:pt x="39" y="1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7781760" y="5334120"/>
              <a:ext cx="617760" cy="804600"/>
              <a:chOff x="7781760" y="5334120"/>
              <a:chExt cx="617760" cy="804600"/>
            </a:xfrm>
          </p:grpSpPr>
          <p:sp>
            <p:nvSpPr>
              <p:cNvPr id="268" name=""/>
              <p:cNvSpPr/>
              <p:nvPr/>
            </p:nvSpPr>
            <p:spPr>
              <a:xfrm>
                <a:off x="7781760" y="5334120"/>
                <a:ext cx="617760" cy="804600"/>
              </a:xfrm>
              <a:prstGeom prst="rect">
                <a:avLst/>
              </a:prstGeom>
              <a:solidFill>
                <a:srgbClr val="ffe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808760" y="536328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996680" y="536328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8184600" y="536328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808760" y="555084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996680" y="555084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8184600" y="555084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808760" y="573840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996680" y="573840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808760" y="592596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184600" y="573840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996680" y="592596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184600" y="592596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7808760" y="5737320"/>
                <a:ext cx="55908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810920" y="5742360"/>
                <a:ext cx="55728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8037720" y="5710320"/>
                <a:ext cx="103320" cy="29160"/>
              </a:xfrm>
              <a:custGeom>
                <a:avLst/>
                <a:gdLst/>
                <a:ahLst/>
                <a:rect l="l" t="t" r="r" b="b"/>
                <a:pathLst>
                  <a:path w="159" h="45">
                    <a:moveTo>
                      <a:pt x="0" y="3"/>
                    </a:moveTo>
                    <a:lnTo>
                      <a:pt x="15" y="24"/>
                    </a:lnTo>
                    <a:lnTo>
                      <a:pt x="30" y="33"/>
                    </a:lnTo>
                    <a:lnTo>
                      <a:pt x="63" y="45"/>
                    </a:lnTo>
                    <a:lnTo>
                      <a:pt x="96" y="45"/>
                    </a:lnTo>
                    <a:lnTo>
                      <a:pt x="141" y="24"/>
                    </a:lnTo>
                    <a:lnTo>
                      <a:pt x="153" y="18"/>
                    </a:lnTo>
                    <a:lnTo>
                      <a:pt x="159" y="0"/>
                    </a:lnTo>
                    <a:lnTo>
                      <a:pt x="120" y="12"/>
                    </a:lnTo>
                    <a:lnTo>
                      <a:pt x="96" y="21"/>
                    </a:lnTo>
                    <a:lnTo>
                      <a:pt x="69" y="21"/>
                    </a:lnTo>
                    <a:lnTo>
                      <a:pt x="39" y="1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7934400" y="5486400"/>
              <a:ext cx="617400" cy="804960"/>
              <a:chOff x="7934400" y="5486400"/>
              <a:chExt cx="617400" cy="804960"/>
            </a:xfrm>
          </p:grpSpPr>
          <p:sp>
            <p:nvSpPr>
              <p:cNvPr id="285" name=""/>
              <p:cNvSpPr/>
              <p:nvPr/>
            </p:nvSpPr>
            <p:spPr>
              <a:xfrm>
                <a:off x="7934400" y="5486400"/>
                <a:ext cx="617400" cy="804960"/>
              </a:xfrm>
              <a:prstGeom prst="rect">
                <a:avLst/>
              </a:prstGeom>
              <a:solidFill>
                <a:srgbClr val="ffe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961400" y="551556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149320" y="551556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336880" y="551556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961400" y="570312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8149320" y="570312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336880" y="570312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961400" y="589068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8149320" y="589068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961400" y="607824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8336880" y="589068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8149320" y="607824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8336880" y="607824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7961400" y="5889600"/>
                <a:ext cx="55908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963560" y="5894640"/>
                <a:ext cx="55692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8190360" y="5862600"/>
                <a:ext cx="103320" cy="29160"/>
              </a:xfrm>
              <a:custGeom>
                <a:avLst/>
                <a:gdLst/>
                <a:ahLst/>
                <a:rect l="l" t="t" r="r" b="b"/>
                <a:pathLst>
                  <a:path w="159" h="45">
                    <a:moveTo>
                      <a:pt x="0" y="3"/>
                    </a:moveTo>
                    <a:lnTo>
                      <a:pt x="15" y="24"/>
                    </a:lnTo>
                    <a:lnTo>
                      <a:pt x="30" y="33"/>
                    </a:lnTo>
                    <a:lnTo>
                      <a:pt x="63" y="45"/>
                    </a:lnTo>
                    <a:lnTo>
                      <a:pt x="96" y="45"/>
                    </a:lnTo>
                    <a:lnTo>
                      <a:pt x="141" y="24"/>
                    </a:lnTo>
                    <a:lnTo>
                      <a:pt x="153" y="18"/>
                    </a:lnTo>
                    <a:lnTo>
                      <a:pt x="159" y="0"/>
                    </a:lnTo>
                    <a:lnTo>
                      <a:pt x="120" y="12"/>
                    </a:lnTo>
                    <a:lnTo>
                      <a:pt x="96" y="21"/>
                    </a:lnTo>
                    <a:lnTo>
                      <a:pt x="69" y="21"/>
                    </a:lnTo>
                    <a:lnTo>
                      <a:pt x="39" y="1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1" name=""/>
          <p:cNvGrpSpPr/>
          <p:nvPr/>
        </p:nvGrpSpPr>
        <p:grpSpPr>
          <a:xfrm>
            <a:off x="1809720" y="1639800"/>
            <a:ext cx="2070360" cy="459720"/>
            <a:chOff x="1809720" y="1639800"/>
            <a:chExt cx="2070360" cy="459720"/>
          </a:xfrm>
        </p:grpSpPr>
        <p:sp>
          <p:nvSpPr>
            <p:cNvPr id="302" name=""/>
            <p:cNvSpPr/>
            <p:nvPr/>
          </p:nvSpPr>
          <p:spPr>
            <a:xfrm>
              <a:off x="1809720" y="1639800"/>
              <a:ext cx="207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l              lo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438280" y="190512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5254920" y="1636560"/>
            <a:ext cx="2053800" cy="459720"/>
            <a:chOff x="5254920" y="1636560"/>
            <a:chExt cx="2053800" cy="459720"/>
          </a:xfrm>
        </p:grpSpPr>
        <p:sp>
          <p:nvSpPr>
            <p:cNvPr id="305" name=""/>
            <p:cNvSpPr/>
            <p:nvPr/>
          </p:nvSpPr>
          <p:spPr>
            <a:xfrm>
              <a:off x="5254920" y="1636560"/>
              <a:ext cx="20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a              la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883120" y="190152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785880" y="2514600"/>
            <a:ext cx="7646760" cy="459720"/>
            <a:chOff x="785880" y="2514600"/>
            <a:chExt cx="7646760" cy="459720"/>
          </a:xfrm>
        </p:grpSpPr>
        <p:sp>
          <p:nvSpPr>
            <p:cNvPr id="308" name=""/>
            <p:cNvSpPr/>
            <p:nvPr/>
          </p:nvSpPr>
          <p:spPr>
            <a:xfrm>
              <a:off x="785880" y="2514600"/>
              <a:ext cx="764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ouns ending in a “-z”              change to “-c”, add “-es”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191120" y="274320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2705040" y="3124080"/>
            <a:ext cx="3742200" cy="459720"/>
            <a:chOff x="2705040" y="3124080"/>
            <a:chExt cx="3742200" cy="459720"/>
          </a:xfrm>
        </p:grpSpPr>
        <p:sp>
          <p:nvSpPr>
            <p:cNvPr id="311" name=""/>
            <p:cNvSpPr/>
            <p:nvPr/>
          </p:nvSpPr>
          <p:spPr>
            <a:xfrm>
              <a:off x="4114800" y="338940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705040" y="3124080"/>
              <a:ext cx="374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l lápiz              </a:t>
              </a: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los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lápi</a:t>
              </a: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c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8246160" y="457200"/>
            <a:ext cx="519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#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563120" y="3925800"/>
            <a:ext cx="60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or remove an accent mark in the plura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2279520" y="4572000"/>
            <a:ext cx="4659840" cy="459720"/>
            <a:chOff x="2279520" y="4572000"/>
            <a:chExt cx="4659840" cy="459720"/>
          </a:xfrm>
        </p:grpSpPr>
        <p:sp>
          <p:nvSpPr>
            <p:cNvPr id="316" name=""/>
            <p:cNvSpPr/>
            <p:nvPr/>
          </p:nvSpPr>
          <p:spPr>
            <a:xfrm>
              <a:off x="4146480" y="483732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279520" y="4572000"/>
              <a:ext cx="465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l examen              </a:t>
              </a: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los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ex</a:t>
              </a: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á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en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2471760" y="5105520"/>
            <a:ext cx="4284720" cy="459720"/>
            <a:chOff x="2471760" y="5105520"/>
            <a:chExt cx="4284720" cy="459720"/>
          </a:xfrm>
        </p:grpSpPr>
        <p:sp>
          <p:nvSpPr>
            <p:cNvPr id="319" name=""/>
            <p:cNvSpPr/>
            <p:nvPr/>
          </p:nvSpPr>
          <p:spPr>
            <a:xfrm>
              <a:off x="4146480" y="537084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71760" y="5105520"/>
              <a:ext cx="42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a nación              </a:t>
              </a: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las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naci</a:t>
              </a: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o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4BB6-7F21-47EE-9184-B38AF43C19FA}" type="slidenum">
              <a:t>10</a:t>
            </a:fld>
          </a:p>
        </p:txBody>
      </p:sp>
    </p:spTree>
  </p:cSld>
  <p:transition spd="med">
    <p:cover dir="d"/>
    <p:sndAc>
      <p:stSnd>
        <p:snd r:embed="rId4" name="chimes.wav"/>
      </p:stSnd>
    </p:sndAc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7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3000"/>
                            </p:stCondLst>
                            <p:childTnLst>
                              <p:par>
                                <p:cTn id="482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500"/>
                            </p:stCondLst>
                            <p:childTnLst>
                              <p:par>
                                <p:cTn id="487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0"/>
                            </p:stCondLst>
                            <p:childTnLst>
                              <p:par>
                                <p:cTn id="492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4000"/>
                            </p:stCondLst>
                            <p:childTnLst>
                              <p:par>
                                <p:cTn id="519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397880" y="517680"/>
            <a:ext cx="6383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os Sustantivos </a:t>
            </a: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Plurales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1809720" y="1639800"/>
            <a:ext cx="2070360" cy="459720"/>
            <a:chOff x="1809720" y="1639800"/>
            <a:chExt cx="2070360" cy="459720"/>
          </a:xfrm>
        </p:grpSpPr>
        <p:sp>
          <p:nvSpPr>
            <p:cNvPr id="323" name=""/>
            <p:cNvSpPr/>
            <p:nvPr/>
          </p:nvSpPr>
          <p:spPr>
            <a:xfrm>
              <a:off x="1809720" y="1639800"/>
              <a:ext cx="207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l              lo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438280" y="190512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5254920" y="1636560"/>
            <a:ext cx="2053800" cy="459720"/>
            <a:chOff x="5254920" y="1636560"/>
            <a:chExt cx="2053800" cy="459720"/>
          </a:xfrm>
        </p:grpSpPr>
        <p:sp>
          <p:nvSpPr>
            <p:cNvPr id="326" name=""/>
            <p:cNvSpPr/>
            <p:nvPr/>
          </p:nvSpPr>
          <p:spPr>
            <a:xfrm>
              <a:off x="5254920" y="1636560"/>
              <a:ext cx="20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a              la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883120" y="190152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766440" y="2286000"/>
            <a:ext cx="76698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referring to males and females as a single group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 to masculine and femenine objects together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lway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use the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asculine plur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045760" y="3809880"/>
            <a:ext cx="256896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boy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boys and gir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249400" y="457200"/>
            <a:ext cx="519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#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2247120" y="3962520"/>
            <a:ext cx="2553480" cy="459720"/>
            <a:chOff x="2247120" y="3962520"/>
            <a:chExt cx="2553480" cy="459720"/>
          </a:xfrm>
        </p:grpSpPr>
        <p:sp>
          <p:nvSpPr>
            <p:cNvPr id="332" name=""/>
            <p:cNvSpPr/>
            <p:nvPr/>
          </p:nvSpPr>
          <p:spPr>
            <a:xfrm>
              <a:off x="4114800" y="424656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247120" y="3962520"/>
              <a:ext cx="151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os chico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5029560" y="5160960"/>
            <a:ext cx="350136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boy stud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boy and girl stud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1536120" y="5313240"/>
            <a:ext cx="3248640" cy="459720"/>
            <a:chOff x="1536120" y="5313240"/>
            <a:chExt cx="3248640" cy="459720"/>
          </a:xfrm>
        </p:grpSpPr>
        <p:sp>
          <p:nvSpPr>
            <p:cNvPr id="336" name=""/>
            <p:cNvSpPr/>
            <p:nvPr/>
          </p:nvSpPr>
          <p:spPr>
            <a:xfrm>
              <a:off x="4098960" y="559728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536120" y="5313240"/>
              <a:ext cx="221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os estudiant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0579-7ED2-458A-A3A6-603FBD3DC9CE}" type="slidenum">
              <a:t>11</a:t>
            </a:fld>
          </a:p>
        </p:txBody>
      </p:sp>
    </p:spTree>
  </p:cSld>
  <p:transition spd="med">
    <p:cover dir="d"/>
    <p:sndAc>
      <p:stSnd>
        <p:snd r:embed="rId1" name="chimes.wav"/>
      </p:stSnd>
    </p:sndAc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500"/>
                            </p:stCondLst>
                            <p:childTnLst>
                              <p:par>
                                <p:cTn id="534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Los sustantivos: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114800" y="1981080"/>
            <a:ext cx="45720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ou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person, place, thing, id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 español, nouns hav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en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stantivos masculinos / Sustantivos femenin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3108240" cy="334476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F0B1-4FED-45D3-BA88-8151D0430BAA}" type="slidenum">
              <a:t>2</a:t>
            </a:fld>
          </a:p>
        </p:txBody>
      </p:sp>
    </p:spTree>
  </p:cSld>
  <p:transition spd="med">
    <p:cover dir="d"/>
    <p:sndAc>
      <p:stSnd>
        <p:snd r:embed="rId2" name="chimes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841680" y="2300400"/>
            <a:ext cx="20566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profes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74880" y="2286000"/>
            <a:ext cx="18208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poli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25200" y="2362320"/>
            <a:ext cx="18831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s cas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88360" y="5715000"/>
            <a:ext cx="13845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lib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295280" y="609480"/>
            <a:ext cx="892440" cy="1600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657600" y="3962520"/>
            <a:ext cx="1765440" cy="13636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3581280" y="609480"/>
            <a:ext cx="1704960" cy="18496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6019920" y="762120"/>
            <a:ext cx="2286000" cy="154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1447920" y="3276720"/>
            <a:ext cx="1292040" cy="1592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800280" y="5334120"/>
            <a:ext cx="23936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estudia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6"/>
          <a:stretch/>
        </p:blipFill>
        <p:spPr>
          <a:xfrm>
            <a:off x="6248520" y="3657600"/>
            <a:ext cx="1815840" cy="1563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368040" y="5486400"/>
            <a:ext cx="1622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bol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894B-E1BA-40D8-9217-96135911AE5C}" type="slidenum">
              <a:t>3</a:t>
            </a:fld>
          </a:p>
        </p:txBody>
      </p:sp>
    </p:spTree>
  </p:cSld>
  <p:transition spd="med">
    <p:cover dir="d"/>
    <p:sndAc>
      <p:stSnd>
        <p:snd r:embed="rId7" name="chimes.wav"/>
      </p:stSnd>
    </p:sndAc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824760" y="457200"/>
            <a:ext cx="4368600" cy="60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stantivos masculin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352160" y="1143000"/>
            <a:ext cx="6315840" cy="111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sually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nd in “- o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ed with definite article “el”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“the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832040" y="243828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Comic Sans MS"/>
              </a:rPr>
              <a:t>El ch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4840" y="243828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Comic Sans MS"/>
              </a:rPr>
              <a:t>El vesti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201720" y="2438280"/>
            <a:ext cx="254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Comic Sans MS"/>
              </a:rPr>
              <a:t>El apartam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0600" y="3124080"/>
            <a:ext cx="4190400" cy="60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stantivos femenin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68000" y="3809880"/>
            <a:ext cx="6315840" cy="162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 end in “- a”, “- ción”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sión”, “- dad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ed with definite article “la”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“the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6000" y="5562720"/>
            <a:ext cx="140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Comic Sans MS"/>
              </a:rPr>
              <a:t>La ch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82320" y="5562720"/>
            <a:ext cx="159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Comic Sans MS"/>
              </a:rPr>
              <a:t>La a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68360" y="5562720"/>
            <a:ext cx="21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Comic Sans MS"/>
              </a:rPr>
              <a:t>La televis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20600" y="5562720"/>
            <a:ext cx="22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Comic Sans MS"/>
              </a:rPr>
              <a:t>La posib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83FD-F230-457D-A230-499E25AEAEAF}" type="slidenum">
              <a:t>4</a:t>
            </a:fld>
          </a:p>
        </p:txBody>
      </p:sp>
    </p:spTree>
  </p:cSld>
  <p:transition spd="med">
    <p:cover dir="d"/>
    <p:sndAc>
      <p:stSnd>
        <p:snd r:embed="rId1" name="chimes.wav"/>
      </p:stSnd>
    </p:sndAc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65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65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90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824040" y="573120"/>
            <a:ext cx="4911120" cy="75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Exception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to the rule…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9160" y="1411200"/>
            <a:ext cx="77385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gender of some words must be learned becaus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don’t follow the patterns for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sculin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emenin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74200" y="2630520"/>
            <a:ext cx="2093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Masculino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E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í</a:t>
            </a: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E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p</a:t>
            </a: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E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elo</a:t>
            </a: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E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ápi</a:t>
            </a: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E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upitr</a:t>
            </a: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E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acapunt</a:t>
            </a: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60000" y="2625840"/>
            <a:ext cx="1771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Femenino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L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ard</a:t>
            </a: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L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och</a:t>
            </a: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L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las</a:t>
            </a: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L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re</a:t>
            </a: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235000" y="457200"/>
            <a:ext cx="519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#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962520" y="5257800"/>
            <a:ext cx="1295280" cy="1038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F1A7-E1A7-47D3-B7CB-6F6EE98A6140}" type="slidenum">
              <a:t>5</a:t>
            </a:fld>
          </a:p>
        </p:txBody>
      </p:sp>
    </p:spTree>
  </p:cSld>
  <p:transition spd="med">
    <p:cover dir="d"/>
    <p:sndAc>
      <p:stSnd>
        <p:snd r:embed="rId2" name="chimes.wav"/>
      </p:stSnd>
    </p:sndAc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824040" y="573120"/>
            <a:ext cx="4911120" cy="75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Exception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to the rule…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38800" y="1411200"/>
            <a:ext cx="73832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nouns referring to people only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v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ne form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gender is determined by the article us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50520" y="2630520"/>
            <a:ext cx="1940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Masculino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E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studia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E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ntis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E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rtis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643000" y="2625840"/>
            <a:ext cx="2009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Femenino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L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studia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L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ntis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L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rtis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238240" y="457200"/>
            <a:ext cx="519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#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809880" y="2895480"/>
            <a:ext cx="1292400" cy="15922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63560" y="4648320"/>
            <a:ext cx="7907400" cy="137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st like the nouns, some adjectives only have one form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can be used for a masculine or a feminine noun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Arial"/>
              </a:rPr>
              <a:t>La chica paciente           El vestido verde       Los pantalones marro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Arial"/>
              </a:rPr>
              <a:t>El chico paciente              La falda verde          Las camisetas marro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5C2B-ABEF-4346-A55C-766A45261AC0}" type="slidenum">
              <a:t>6</a:t>
            </a:fld>
          </a:p>
        </p:txBody>
      </p:sp>
    </p:spTree>
  </p:cSld>
  <p:transition spd="med">
    <p:cover dir="d"/>
    <p:sndAc>
      <p:stSnd>
        <p:snd r:embed="rId2" name="chimes.wav"/>
      </p:stSnd>
    </p:sndAc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500"/>
                            </p:stCondLst>
                            <p:childTnLst>
                              <p:par>
                                <p:cTn id="251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333880" y="706320"/>
            <a:ext cx="44982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os Artículos…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03880" y="243828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Definid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254480" y="1944720"/>
            <a:ext cx="62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l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l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38160" y="2438280"/>
            <a:ext cx="80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03880" y="4732200"/>
            <a:ext cx="20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d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12640" y="4238640"/>
            <a:ext cx="907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u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un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u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437080" y="4732200"/>
            <a:ext cx="125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” / “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3CDD-F83E-46EA-8CD8-63FDB866D8D2}" type="slidenum">
              <a:t>7</a:t>
            </a:fld>
          </a:p>
        </p:txBody>
      </p:sp>
    </p:spTree>
  </p:cSld>
  <p:transition spd="med">
    <p:cover dir="d"/>
    <p:sndAc>
      <p:stSnd>
        <p:snd r:embed="rId1" name="chimes.wav"/>
      </p:stSnd>
    </p:sndAc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38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97880" y="517680"/>
            <a:ext cx="6383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os Sustantivos </a:t>
            </a: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Plurales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534960" y="5410080"/>
            <a:ext cx="1376280" cy="905040"/>
            <a:chOff x="534960" y="5410080"/>
            <a:chExt cx="1376280" cy="905040"/>
          </a:xfrm>
        </p:grpSpPr>
        <p:pic>
          <p:nvPicPr>
            <p:cNvPr id="140" name="" descr=""/>
            <p:cNvPicPr/>
            <p:nvPr/>
          </p:nvPicPr>
          <p:blipFill>
            <a:blip r:embed="rId1"/>
            <a:stretch/>
          </p:blipFill>
          <p:spPr>
            <a:xfrm>
              <a:off x="534960" y="5410080"/>
              <a:ext cx="1071720" cy="6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2"/>
            <a:stretch/>
          </p:blipFill>
          <p:spPr>
            <a:xfrm>
              <a:off x="685800" y="5562720"/>
              <a:ext cx="1073160" cy="6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3"/>
            <a:stretch/>
          </p:blipFill>
          <p:spPr>
            <a:xfrm>
              <a:off x="838080" y="5715000"/>
              <a:ext cx="1073160" cy="600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" name=""/>
          <p:cNvGrpSpPr/>
          <p:nvPr/>
        </p:nvGrpSpPr>
        <p:grpSpPr>
          <a:xfrm>
            <a:off x="7629480" y="5181480"/>
            <a:ext cx="922320" cy="1109880"/>
            <a:chOff x="7629480" y="5181480"/>
            <a:chExt cx="922320" cy="1109880"/>
          </a:xfrm>
        </p:grpSpPr>
        <p:grpSp>
          <p:nvGrpSpPr>
            <p:cNvPr id="144" name=""/>
            <p:cNvGrpSpPr/>
            <p:nvPr/>
          </p:nvGrpSpPr>
          <p:grpSpPr>
            <a:xfrm>
              <a:off x="7629480" y="5181480"/>
              <a:ext cx="617760" cy="804960"/>
              <a:chOff x="7629480" y="5181480"/>
              <a:chExt cx="617760" cy="804960"/>
            </a:xfrm>
          </p:grpSpPr>
          <p:sp>
            <p:nvSpPr>
              <p:cNvPr id="145" name=""/>
              <p:cNvSpPr/>
              <p:nvPr/>
            </p:nvSpPr>
            <p:spPr>
              <a:xfrm>
                <a:off x="7629480" y="5181480"/>
                <a:ext cx="617760" cy="804960"/>
              </a:xfrm>
              <a:prstGeom prst="rect">
                <a:avLst/>
              </a:prstGeom>
              <a:solidFill>
                <a:srgbClr val="ffe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656480" y="521064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844400" y="521064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032320" y="521064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656480" y="539820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844400" y="539820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032320" y="539820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656480" y="558576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844400" y="558576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656480" y="577332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032320" y="558576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844400" y="577332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032320" y="577332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V="1">
                <a:off x="7656480" y="5584680"/>
                <a:ext cx="55908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658640" y="5589720"/>
                <a:ext cx="55728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885440" y="5557680"/>
                <a:ext cx="103320" cy="29160"/>
              </a:xfrm>
              <a:custGeom>
                <a:avLst/>
                <a:gdLst/>
                <a:ahLst/>
                <a:rect l="l" t="t" r="r" b="b"/>
                <a:pathLst>
                  <a:path w="159" h="45">
                    <a:moveTo>
                      <a:pt x="0" y="3"/>
                    </a:moveTo>
                    <a:lnTo>
                      <a:pt x="15" y="24"/>
                    </a:lnTo>
                    <a:lnTo>
                      <a:pt x="30" y="33"/>
                    </a:lnTo>
                    <a:lnTo>
                      <a:pt x="63" y="45"/>
                    </a:lnTo>
                    <a:lnTo>
                      <a:pt x="96" y="45"/>
                    </a:lnTo>
                    <a:lnTo>
                      <a:pt x="141" y="24"/>
                    </a:lnTo>
                    <a:lnTo>
                      <a:pt x="153" y="18"/>
                    </a:lnTo>
                    <a:lnTo>
                      <a:pt x="159" y="0"/>
                    </a:lnTo>
                    <a:lnTo>
                      <a:pt x="120" y="12"/>
                    </a:lnTo>
                    <a:lnTo>
                      <a:pt x="96" y="21"/>
                    </a:lnTo>
                    <a:lnTo>
                      <a:pt x="69" y="21"/>
                    </a:lnTo>
                    <a:lnTo>
                      <a:pt x="39" y="1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7781760" y="5334120"/>
              <a:ext cx="617760" cy="804600"/>
              <a:chOff x="7781760" y="5334120"/>
              <a:chExt cx="617760" cy="804600"/>
            </a:xfrm>
          </p:grpSpPr>
          <p:sp>
            <p:nvSpPr>
              <p:cNvPr id="162" name=""/>
              <p:cNvSpPr/>
              <p:nvPr/>
            </p:nvSpPr>
            <p:spPr>
              <a:xfrm>
                <a:off x="7781760" y="5334120"/>
                <a:ext cx="617760" cy="804600"/>
              </a:xfrm>
              <a:prstGeom prst="rect">
                <a:avLst/>
              </a:prstGeom>
              <a:solidFill>
                <a:srgbClr val="ffe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808760" y="536328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996680" y="536328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184600" y="536328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808760" y="555084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996680" y="555084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184600" y="555084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808760" y="573840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996680" y="573840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808760" y="592596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184600" y="573840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996680" y="592596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184600" y="592596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V="1">
                <a:off x="7808760" y="5737320"/>
                <a:ext cx="55908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810920" y="5742360"/>
                <a:ext cx="55728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037720" y="5710320"/>
                <a:ext cx="103320" cy="29160"/>
              </a:xfrm>
              <a:custGeom>
                <a:avLst/>
                <a:gdLst/>
                <a:ahLst/>
                <a:rect l="l" t="t" r="r" b="b"/>
                <a:pathLst>
                  <a:path w="159" h="45">
                    <a:moveTo>
                      <a:pt x="0" y="3"/>
                    </a:moveTo>
                    <a:lnTo>
                      <a:pt x="15" y="24"/>
                    </a:lnTo>
                    <a:lnTo>
                      <a:pt x="30" y="33"/>
                    </a:lnTo>
                    <a:lnTo>
                      <a:pt x="63" y="45"/>
                    </a:lnTo>
                    <a:lnTo>
                      <a:pt x="96" y="45"/>
                    </a:lnTo>
                    <a:lnTo>
                      <a:pt x="141" y="24"/>
                    </a:lnTo>
                    <a:lnTo>
                      <a:pt x="153" y="18"/>
                    </a:lnTo>
                    <a:lnTo>
                      <a:pt x="159" y="0"/>
                    </a:lnTo>
                    <a:lnTo>
                      <a:pt x="120" y="12"/>
                    </a:lnTo>
                    <a:lnTo>
                      <a:pt x="96" y="21"/>
                    </a:lnTo>
                    <a:lnTo>
                      <a:pt x="69" y="21"/>
                    </a:lnTo>
                    <a:lnTo>
                      <a:pt x="39" y="1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7934400" y="5486400"/>
              <a:ext cx="617400" cy="804960"/>
              <a:chOff x="7934400" y="5486400"/>
              <a:chExt cx="617400" cy="804960"/>
            </a:xfrm>
          </p:grpSpPr>
          <p:sp>
            <p:nvSpPr>
              <p:cNvPr id="179" name=""/>
              <p:cNvSpPr/>
              <p:nvPr/>
            </p:nvSpPr>
            <p:spPr>
              <a:xfrm>
                <a:off x="7934400" y="5486400"/>
                <a:ext cx="617400" cy="804960"/>
              </a:xfrm>
              <a:prstGeom prst="rect">
                <a:avLst/>
              </a:prstGeom>
              <a:solidFill>
                <a:srgbClr val="ffe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961400" y="551556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149320" y="551556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336880" y="551556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961400" y="570312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149320" y="570312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8336880" y="570312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961400" y="589068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149320" y="589068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961400" y="607824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336880" y="589068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8149320" y="607824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336880" y="607824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V="1">
                <a:off x="7961400" y="5889600"/>
                <a:ext cx="55908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963560" y="5894640"/>
                <a:ext cx="55692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190360" y="5862600"/>
                <a:ext cx="103320" cy="29160"/>
              </a:xfrm>
              <a:custGeom>
                <a:avLst/>
                <a:gdLst/>
                <a:ahLst/>
                <a:rect l="l" t="t" r="r" b="b"/>
                <a:pathLst>
                  <a:path w="159" h="45">
                    <a:moveTo>
                      <a:pt x="0" y="3"/>
                    </a:moveTo>
                    <a:lnTo>
                      <a:pt x="15" y="24"/>
                    </a:lnTo>
                    <a:lnTo>
                      <a:pt x="30" y="33"/>
                    </a:lnTo>
                    <a:lnTo>
                      <a:pt x="63" y="45"/>
                    </a:lnTo>
                    <a:lnTo>
                      <a:pt x="96" y="45"/>
                    </a:lnTo>
                    <a:lnTo>
                      <a:pt x="141" y="24"/>
                    </a:lnTo>
                    <a:lnTo>
                      <a:pt x="153" y="18"/>
                    </a:lnTo>
                    <a:lnTo>
                      <a:pt x="159" y="0"/>
                    </a:lnTo>
                    <a:lnTo>
                      <a:pt x="120" y="12"/>
                    </a:lnTo>
                    <a:lnTo>
                      <a:pt x="96" y="21"/>
                    </a:lnTo>
                    <a:lnTo>
                      <a:pt x="69" y="21"/>
                    </a:lnTo>
                    <a:lnTo>
                      <a:pt x="39" y="1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5" name=""/>
          <p:cNvGrpSpPr/>
          <p:nvPr/>
        </p:nvGrpSpPr>
        <p:grpSpPr>
          <a:xfrm>
            <a:off x="1809720" y="1639800"/>
            <a:ext cx="2070360" cy="459720"/>
            <a:chOff x="1809720" y="1639800"/>
            <a:chExt cx="2070360" cy="459720"/>
          </a:xfrm>
        </p:grpSpPr>
        <p:sp>
          <p:nvSpPr>
            <p:cNvPr id="196" name=""/>
            <p:cNvSpPr/>
            <p:nvPr/>
          </p:nvSpPr>
          <p:spPr>
            <a:xfrm>
              <a:off x="1809720" y="1639800"/>
              <a:ext cx="207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l              lo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438280" y="190512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5254920" y="1636560"/>
            <a:ext cx="2053800" cy="459720"/>
            <a:chOff x="5254920" y="1636560"/>
            <a:chExt cx="2053800" cy="459720"/>
          </a:xfrm>
        </p:grpSpPr>
        <p:sp>
          <p:nvSpPr>
            <p:cNvPr id="199" name=""/>
            <p:cNvSpPr/>
            <p:nvPr/>
          </p:nvSpPr>
          <p:spPr>
            <a:xfrm>
              <a:off x="5254920" y="1636560"/>
              <a:ext cx="20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a              la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883120" y="190152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1731960" y="2514600"/>
            <a:ext cx="5743440" cy="459720"/>
            <a:chOff x="1731960" y="2514600"/>
            <a:chExt cx="5743440" cy="459720"/>
          </a:xfrm>
        </p:grpSpPr>
        <p:sp>
          <p:nvSpPr>
            <p:cNvPr id="202" name=""/>
            <p:cNvSpPr/>
            <p:nvPr/>
          </p:nvSpPr>
          <p:spPr>
            <a:xfrm>
              <a:off x="1731960" y="2514600"/>
              <a:ext cx="574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ouns ending in a vowel              add “-s”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410080" y="281952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2700720" y="3124080"/>
            <a:ext cx="3744000" cy="459720"/>
            <a:chOff x="2700720" y="3124080"/>
            <a:chExt cx="3744000" cy="459720"/>
          </a:xfrm>
        </p:grpSpPr>
        <p:sp>
          <p:nvSpPr>
            <p:cNvPr id="205" name=""/>
            <p:cNvSpPr/>
            <p:nvPr/>
          </p:nvSpPr>
          <p:spPr>
            <a:xfrm>
              <a:off x="4114800" y="338940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00720" y="3124080"/>
              <a:ext cx="37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l chico              </a:t>
              </a: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los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chico</a:t>
              </a: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2887560" y="3581280"/>
            <a:ext cx="3368880" cy="459720"/>
            <a:chOff x="2887560" y="3581280"/>
            <a:chExt cx="3368880" cy="459720"/>
          </a:xfrm>
        </p:grpSpPr>
        <p:sp>
          <p:nvSpPr>
            <p:cNvPr id="208" name=""/>
            <p:cNvSpPr/>
            <p:nvPr/>
          </p:nvSpPr>
          <p:spPr>
            <a:xfrm>
              <a:off x="4114800" y="388584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887560" y="3581280"/>
              <a:ext cx="336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a silla              </a:t>
              </a: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las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silla</a:t>
              </a: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359000" y="4343400"/>
            <a:ext cx="6540480" cy="459720"/>
            <a:chOff x="1359000" y="4343400"/>
            <a:chExt cx="6540480" cy="459720"/>
          </a:xfrm>
        </p:grpSpPr>
        <p:sp>
          <p:nvSpPr>
            <p:cNvPr id="211" name=""/>
            <p:cNvSpPr/>
            <p:nvPr/>
          </p:nvSpPr>
          <p:spPr>
            <a:xfrm>
              <a:off x="1359000" y="4343400"/>
              <a:ext cx="654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ouns ending in a consonant              add “-es”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638680" y="457200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522880" y="4952880"/>
            <a:ext cx="4150800" cy="459720"/>
            <a:chOff x="2522880" y="4952880"/>
            <a:chExt cx="4150800" cy="459720"/>
          </a:xfrm>
        </p:grpSpPr>
        <p:sp>
          <p:nvSpPr>
            <p:cNvPr id="214" name=""/>
            <p:cNvSpPr/>
            <p:nvPr/>
          </p:nvSpPr>
          <p:spPr>
            <a:xfrm>
              <a:off x="4133880" y="521820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522880" y="4952880"/>
              <a:ext cx="415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l papel                </a:t>
              </a: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los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papel</a:t>
              </a: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2693880" y="5410080"/>
            <a:ext cx="3812400" cy="459720"/>
            <a:chOff x="2693880" y="5410080"/>
            <a:chExt cx="3812400" cy="459720"/>
          </a:xfrm>
        </p:grpSpPr>
        <p:sp>
          <p:nvSpPr>
            <p:cNvPr id="217" name=""/>
            <p:cNvSpPr/>
            <p:nvPr/>
          </p:nvSpPr>
          <p:spPr>
            <a:xfrm>
              <a:off x="4133880" y="571464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693880" y="5410080"/>
              <a:ext cx="381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l reloj                </a:t>
              </a: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los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reloj</a:t>
              </a: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8242920" y="457200"/>
            <a:ext cx="519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#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B139-9605-4BA3-987A-0A1DD3C87D9D}" type="slidenum">
              <a:t>8</a:t>
            </a:fld>
          </a:p>
        </p:txBody>
      </p:sp>
    </p:spTree>
  </p:cSld>
  <p:transition spd="med">
    <p:cover dir="d"/>
    <p:sndAc>
      <p:stSnd>
        <p:snd r:embed="rId4" name="chimes.wav"/>
      </p:stSnd>
    </p:sndAc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500"/>
                            </p:stCondLst>
                            <p:childTnLst>
                              <p:par>
                                <p:cTn id="353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000"/>
                            </p:stCondLst>
                            <p:childTnLst>
                              <p:par>
                                <p:cTn id="358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4000"/>
                            </p:stCondLst>
                            <p:childTnLst>
                              <p:par>
                                <p:cTn id="386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4000"/>
                            </p:stCondLst>
                            <p:childTnLst>
                              <p:par>
                                <p:cTn id="402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695600" y="517680"/>
            <a:ext cx="5792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os Adjetivos </a:t>
            </a: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Plurales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522800" y="1371600"/>
            <a:ext cx="6250680" cy="459720"/>
            <a:chOff x="1522800" y="1371600"/>
            <a:chExt cx="6250680" cy="459720"/>
          </a:xfrm>
        </p:grpSpPr>
        <p:sp>
          <p:nvSpPr>
            <p:cNvPr id="222" name=""/>
            <p:cNvSpPr/>
            <p:nvPr/>
          </p:nvSpPr>
          <p:spPr>
            <a:xfrm>
              <a:off x="1522800" y="1371600"/>
              <a:ext cx="625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djectives ending in a vowel              add “-s”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49680" y="167652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2893680" y="2057400"/>
            <a:ext cx="3271320" cy="459720"/>
            <a:chOff x="2893680" y="2057400"/>
            <a:chExt cx="3271320" cy="459720"/>
          </a:xfrm>
        </p:grpSpPr>
        <p:sp>
          <p:nvSpPr>
            <p:cNvPr id="225" name=""/>
            <p:cNvSpPr/>
            <p:nvPr/>
          </p:nvSpPr>
          <p:spPr>
            <a:xfrm>
              <a:off x="4052880" y="232272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893680" y="2057400"/>
              <a:ext cx="327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bonita               bonita</a:t>
              </a: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2741760" y="2514600"/>
            <a:ext cx="3914280" cy="459720"/>
            <a:chOff x="2741760" y="2514600"/>
            <a:chExt cx="3914280" cy="459720"/>
          </a:xfrm>
        </p:grpSpPr>
        <p:sp>
          <p:nvSpPr>
            <p:cNvPr id="228" name=""/>
            <p:cNvSpPr/>
            <p:nvPr/>
          </p:nvSpPr>
          <p:spPr>
            <a:xfrm>
              <a:off x="4213080" y="281916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741760" y="2514600"/>
              <a:ext cx="391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aciente               paciente</a:t>
              </a: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1293840" y="3048120"/>
            <a:ext cx="6540480" cy="459720"/>
            <a:chOff x="1293840" y="3048120"/>
            <a:chExt cx="6540480" cy="459720"/>
          </a:xfrm>
        </p:grpSpPr>
        <p:sp>
          <p:nvSpPr>
            <p:cNvPr id="231" name=""/>
            <p:cNvSpPr/>
            <p:nvPr/>
          </p:nvSpPr>
          <p:spPr>
            <a:xfrm>
              <a:off x="1293840" y="3048120"/>
              <a:ext cx="654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ouns ending in a consonant              add “-es”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573520" y="327672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2207160" y="3657600"/>
            <a:ext cx="4696200" cy="459720"/>
            <a:chOff x="2207160" y="3657600"/>
            <a:chExt cx="4696200" cy="459720"/>
          </a:xfrm>
        </p:grpSpPr>
        <p:sp>
          <p:nvSpPr>
            <p:cNvPr id="234" name=""/>
            <p:cNvSpPr/>
            <p:nvPr/>
          </p:nvSpPr>
          <p:spPr>
            <a:xfrm>
              <a:off x="4075200" y="392292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207160" y="3657600"/>
              <a:ext cx="469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rabajador                 trabajador</a:t>
              </a: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2284560" y="4191120"/>
            <a:ext cx="4711320" cy="459720"/>
            <a:chOff x="2284560" y="4191120"/>
            <a:chExt cx="4711320" cy="459720"/>
          </a:xfrm>
        </p:grpSpPr>
        <p:sp>
          <p:nvSpPr>
            <p:cNvPr id="237" name=""/>
            <p:cNvSpPr/>
            <p:nvPr/>
          </p:nvSpPr>
          <p:spPr>
            <a:xfrm>
              <a:off x="4154400" y="449568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84560" y="4191120"/>
              <a:ext cx="471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enomenal                fenomenal</a:t>
              </a: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8246160" y="457200"/>
            <a:ext cx="519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#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429000" y="233208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5257800"/>
            <a:ext cx="4343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ía </a:t>
            </a:r>
            <a:r>
              <a:rPr b="0" lang="en-US" sz="2400" spc="-1" strike="noStrike">
                <a:solidFill>
                  <a:srgbClr val="ff0033"/>
                </a:solidFill>
                <a:latin typeface="Arial"/>
                <a:ea typeface="ＭＳ Ｐゴシック"/>
              </a:rPr>
              <a:t>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teligent</a:t>
            </a:r>
            <a:r>
              <a:rPr b="0" lang="en-US" sz="2400" spc="-1" strike="noStrike">
                <a:solidFill>
                  <a:srgbClr val="ff0033"/>
                </a:solidFill>
                <a:latin typeface="Arial"/>
                <a:ea typeface="ＭＳ Ｐゴシック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ria y Jose </a:t>
            </a:r>
            <a:r>
              <a:rPr b="0" lang="en-US" sz="2400" spc="-1" strike="noStrike">
                <a:solidFill>
                  <a:srgbClr val="ff0033"/>
                </a:solidFill>
                <a:latin typeface="Arial"/>
                <a:ea typeface="ＭＳ Ｐゴシック"/>
              </a:rPr>
              <a:t>s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inteligente</a:t>
            </a:r>
            <a:r>
              <a:rPr b="0" lang="en-US" sz="2400" spc="-1" strike="noStrike">
                <a:solidFill>
                  <a:srgbClr val="ff0033"/>
                </a:solidFill>
                <a:latin typeface="Arial"/>
                <a:ea typeface="ＭＳ Ｐゴシック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518148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ice how the </a:t>
            </a: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ver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hanges to </a:t>
            </a: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agre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ith the </a:t>
            </a: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subjec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95280" y="47242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t’s look at some sentence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0E89-6F0D-4767-8F4E-1380F0F4C866}" type="slidenum">
              <a:t>9</a:t>
            </a:fld>
          </a:p>
        </p:txBody>
      </p:sp>
    </p:spTree>
  </p:cSld>
  <p:transition spd="med">
    <p:cover dir="d"/>
    <p:sndAc>
      <p:stSnd>
        <p:snd r:embed="rId1" name="chimes.wav"/>
      </p:stSnd>
    </p:sndAc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4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9T01:51:38Z</dcterms:created>
  <dc:creator>Thomas and Jennifer Duggan</dc:creator>
  <dc:description/>
  <dc:language>en-US</dc:language>
  <cp:lastModifiedBy>teacher</cp:lastModifiedBy>
  <dcterms:modified xsi:type="dcterms:W3CDTF">2010-10-21T12:47:06Z</dcterms:modified>
  <cp:revision>53</cp:revision>
  <dc:subject/>
  <dc:title>PowerPoint Presentation</dc:title>
</cp:coreProperties>
</file>