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CB46-20BD-4348-9FE4-3C09FE5F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A777-06C8-4D5F-8A91-742BEFF7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9B08-78BB-4C92-B763-5CFA4046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A5D3-A29F-419A-85EE-9EBCA6A4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96C9-E67D-444E-954F-C2508B01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B812-FC95-4BEB-A330-26E08CC3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601C-F976-458B-988B-AEB8833D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A08B-D86F-4846-B307-6CD28C9E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B388-7643-4DC9-8BC5-B85D860B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8EE3-0F20-4FAE-BBF6-4A2B3589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ACB0-5903-4CD4-BEB4-4BF64E24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DBF-D1EE-4F3D-97F2-8924648E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44FD-89AD-494A-A553-7D712B58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499C-9781-47D2-BB97-7152BDE9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B72B-0600-4055-B445-0A951EA2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3199-0E19-4304-B947-4BFC107B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D75A-15F2-490E-8370-FAED0769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6FE-121A-43C6-84FE-2E42040C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DF1-8FAB-48F7-9214-49AD698D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64D-90F6-4DCB-8AD6-D9A93BC0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771-15FB-4EFD-B032-B7638153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0562-5F73-4AC6-8D78-C0A546DA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4D8-9CD3-46D2-BBB2-6A05B3AF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4C8-F7AE-464F-9797-6CC234AC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1B4F-C144-476B-B42A-367D0F7BB72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BF61-1409-4925-A50D-1624E2BDD78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09680" y="106668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Vowel stem-changing verbs.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 madre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caj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365760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ntes del examen,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sotros 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uestros libro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365760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286000"/>
            <a:ext cx="53341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toy cansad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Quiero 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ojos y tomar un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iest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27672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28600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l restaurante n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tá abierto ho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tá __________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426708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d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2666880"/>
            <a:ext cx="5334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usana y yo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puerta, cuando salimos de la sal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365760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2666880"/>
            <a:ext cx="53341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stedes 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ventana, cuand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ce demasiad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frío en la sal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2592360"/>
            <a:ext cx="22096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 libro y salgo d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bibliotec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pantalones azule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30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camisa roj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18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l vestido verde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68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2666880"/>
            <a:ext cx="53341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s amigo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en el restaurant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3581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orz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3160" y="3583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orz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3160" y="3583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3160" y="3583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zapatos blanco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49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chaqueta vaquer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35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2666880"/>
            <a:ext cx="64771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s camisetas amarilla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12 dólar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ada un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l sombrero marrón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23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2666880"/>
            <a:ext cx="64771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calcetines negro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3 dólar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ara un par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falda morad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56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971800" y="281952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fi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arla y yo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e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l parqu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3581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orz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3160" y="3583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orz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3160" y="3583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3160" y="3583080"/>
            <a:ext cx="3581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estudiante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al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ediodí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3657600"/>
            <a:ext cx="358164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666880"/>
            <a:ext cx="5334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ú 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ás tarde.  A la un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2362320"/>
            <a:ext cx="3581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2438280"/>
            <a:ext cx="6705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guel siempr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casa con sus pad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3429000"/>
            <a:ext cx="32767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2438280"/>
            <a:ext cx="6705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e gu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on mis amigo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3429000"/>
            <a:ext cx="32767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2666880"/>
            <a:ext cx="5334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puert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rr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r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ú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ventana, porque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ce frí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rr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r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9:29Z</dcterms:created>
  <dc:creator>Paul Widergren</dc:creator>
  <dc:description/>
  <dc:language>en-US</dc:language>
  <cp:lastModifiedBy>Administrator</cp:lastModifiedBy>
  <dcterms:modified xsi:type="dcterms:W3CDTF">2007-11-20T16:13:36Z</dcterms:modified>
  <cp:revision>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09253265</vt:r8>
  </property>
  <property fmtid="{D5CDD505-2E9C-101B-9397-08002B2CF9AE}" pid="3" name="_AuthorEmail">
    <vt:lpwstr>CBomba@brunswick.k12.me.us</vt:lpwstr>
  </property>
  <property fmtid="{D5CDD505-2E9C-101B-9397-08002B2CF9AE}" pid="4" name="_AuthorEmailDisplayName">
    <vt:lpwstr>Christy Bomba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