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71D-1BA2-453D-895E-6E04260C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699-A329-47AB-8D24-90741B3A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76C-0E1B-410B-A20A-0B25409C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71B-BF5F-4A5E-8B87-2C03D376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F6F5-664D-423B-B5AF-09DBB5CC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32A5-F24A-4E33-855E-F50DD14B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4BE-B32E-49A2-98EF-DB0F257B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960-5BFC-4AC9-90CD-13D99F5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0B94-82D9-458D-9230-7357B55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95D4-FC81-444C-8EB6-6067975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D78-1A3A-4934-8559-A06CF52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371-AE06-4CCD-B7F8-F2A6869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EFA9-93F7-456D-8CDE-4DCC125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11E1-DF2E-4C2A-8CBC-8102695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1AEF-A0FB-4C21-905E-44CC475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E8A-2E3F-49FA-8E3C-D301EE5B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AEB-A0F5-49D7-96A1-A8B588DA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8CC-0713-4315-BFD5-CF382C4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19A-951A-494C-A7BA-025DA886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EC6-F898-412A-8083-FA11693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124-4C68-4436-AA9E-F7F37A67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8D6-6DED-4B60-844E-6F7C31C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FBE-2B80-429A-AAF8-FE9C879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B00-8CFF-4362-8228-901B318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58C-A175-4D61-8BE3-01DD1A6BF6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CF53-676D-4594-9353-7DAE16BD79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j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tes del examen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uestros lib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6576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28600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ero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ojos y tomar u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es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27672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28600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restaurante 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abierto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26708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usan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, cuando salimos de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666880"/>
            <a:ext cx="5334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cua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demasia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río en la sa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libro y salgo 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pantalones azul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0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roj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vestido verd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68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el restauran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blanc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4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haqueta vaque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amisetas amarill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da u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sombrero marr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alcetines negr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 dól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ra un p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mora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56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rla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parqu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o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3160" y="3583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3160" y="358308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al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od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.  A l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guel siemp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casa con sus pad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morz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 mis amig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m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z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puer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er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ventana, porqu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frí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Administrator</cp:lastModifiedBy>
  <dcterms:modified xsi:type="dcterms:W3CDTF">2007-11-20T16:13:36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09253265</vt:r8>
  </property>
  <property fmtid="{D5CDD505-2E9C-101B-9397-08002B2CF9AE}" pid="3" name="_AuthorEmail">
    <vt:lpwstr>CBomba@brunswick.k12.me.us</vt:lpwstr>
  </property>
  <property fmtid="{D5CDD505-2E9C-101B-9397-08002B2CF9AE}" pid="4" name="_AuthorEmailDisplayName">
    <vt:lpwstr>Christy Bomba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