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773-57FC-4F8C-9517-0C38C52D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8B3-DF93-40C7-BD93-2226D73C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D0C-E496-46C5-8727-52BCF4AD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8E5-94D2-4003-BCE3-5EB8CD85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582B-BF85-43DD-83BF-F8C6F65A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4EEB-EF5D-4948-9F30-86638A9C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FEFB-FB5A-4626-A1BC-EBCA1447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CF38-4DA3-4762-90F2-7E024D1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B460-79E4-4200-9A67-B7B0229D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EFCB-B26F-4EAA-A517-C39A1710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49C1-CB8A-4176-86C8-E4203AA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745-1513-487D-8B9F-F2B2203C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69BA-E68B-4F62-BFA0-C84A67CA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F6FA-0E33-4293-87D8-AA7CF31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D824-2D86-4B79-B3B8-E9F5F01F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2BF0-1337-4B99-BF96-6AEB4E62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57AA-AA81-4C8F-B823-B4B85C57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2AE-9659-4B83-B207-EDD0AD4E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0CC-40BB-410D-8BD4-81AFBFAA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7D4-BB83-4A10-9BCE-8299F4FB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085-9D31-465A-B1D9-84766AD7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826-3DEE-48AD-AFC9-95F44D76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C40-8904-46ED-A739-E8A1191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653-753B-4F0D-A9B5-31FE8D2F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549B-0CEE-4DA9-8A8C-40DE0CAF46F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16EB-4E75-46E9-B629-17EFB31191F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wel stem-changing verb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madr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j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ntes del examen,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uestros libr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6576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286000"/>
            <a:ext cx="5334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cans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iero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ojos y tomar un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iest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27672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28600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restaurante n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abierto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__________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26708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666880"/>
            <a:ext cx="5334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usana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puerta, cuando salimos de la sa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2666880"/>
            <a:ext cx="5334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stede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ventana, cuan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demasia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río en la sa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libro y salgo 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bibliote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pantalones azul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0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misa roj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8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vestido verd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68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66688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 el restaurant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zapatos blanc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49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haqueta vaque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camisetas amarilla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2 dóla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da u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sombrero marrón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23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alcetines negr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 dóla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ara un p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falda morad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56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971800" y="28195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rla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parqu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3160" y="358308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estudiant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al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diodí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657600"/>
            <a:ext cx="3581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ás tarde.  A la u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36232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guel siempr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casa con sus pad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 gu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 mis amig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puert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ventana, porqu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frí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Administrator</cp:lastModifiedBy>
  <dcterms:modified xsi:type="dcterms:W3CDTF">2007-11-20T16:13:36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09253265</vt:r8>
  </property>
  <property fmtid="{D5CDD505-2E9C-101B-9397-08002B2CF9AE}" pid="3" name="_AuthorEmail">
    <vt:lpwstr>CBomba@brunswick.k12.me.us</vt:lpwstr>
  </property>
  <property fmtid="{D5CDD505-2E9C-101B-9397-08002B2CF9AE}" pid="4" name="_AuthorEmailDisplayName">
    <vt:lpwstr>Christy Bomba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