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A58-3C4E-48EC-9FDF-0FEE0149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FF5-CFAE-4D4D-BAAB-53C7EE96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FB7-68A4-41C7-8D93-0868BA4C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0E1-0B19-4D88-B365-897FDE83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75F-B684-4EA3-80C5-D99C4CFB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D8D-DF3E-4AA3-A6BA-C6E6ADCD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6991-8FFF-4663-9866-A1663A59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F9C1-AC07-4C0D-943C-3541C3E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563E-9114-4A98-9A31-B0867ABD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636-AE16-4AD3-BB25-E00B78C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AD88-E626-45D4-9BAB-5C63DFF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A9A-97F4-4D32-A122-BEA97FD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0E73-8C00-4F7B-8697-5E26BB6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9C96-2D3B-425D-B8E8-FA49323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A58B-5575-4A91-8935-5DAF09B5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F100-6B81-4763-B965-8C2377CE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05F6-B0DB-4157-8C7E-2106D2C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0B1-9224-4816-9DE7-50AE2E9E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CF1-88D5-49BA-B4C8-0C05040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5B1-AD35-4F8C-BF72-4C32B3C7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047-C21A-4D2D-94D5-893A99B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1F5-8155-41FE-B129-A869A0C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AFE-2660-4077-B056-13B6B4C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282-14E6-41A9-AADC-D84F50F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4FB-9085-4D6E-8BFD-1DA563BC3E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B8F-A6F9-4E9F-B897-FBF0282FD10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j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ntes del examen,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uestros libr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6576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28600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iero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ojos y tomar un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es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27672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28600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restaurante n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abierto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26708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usan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, cuando salimos de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66688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cua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demasi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río en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libro y salgo 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pantalones azul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0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misa roj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vestido verd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6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el restauran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zapatos blanc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4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haqueta vaque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amisetas amarill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da u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sombrero marrón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alcetines negr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ara un p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falda morad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56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rl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parqu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3160" y="358308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a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odí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.  A l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guel siemp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casa con sus pad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 mis amig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porqu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frí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Administrator</cp:lastModifiedBy>
  <dcterms:modified xsi:type="dcterms:W3CDTF">2007-11-20T16:13:36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09253265</vt:r8>
  </property>
  <property fmtid="{D5CDD505-2E9C-101B-9397-08002B2CF9AE}" pid="3" name="_AuthorEmail">
    <vt:lpwstr>CBomba@brunswick.k12.me.us</vt:lpwstr>
  </property>
  <property fmtid="{D5CDD505-2E9C-101B-9397-08002B2CF9AE}" pid="4" name="_AuthorEmailDisplayName">
    <vt:lpwstr>Christy Bomba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