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7.wmf" ContentType="image/x-wmf"/>
  <Override PartName="/ppt/media/image6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drumroll.wav" ContentType="audio/x-wav"/>
  <Override PartName="/ppt/media/image8.wmf" ContentType="image/x-wmf"/>
  <Override PartName="/ppt/media/image15.wmf" ContentType="image/x-wmf"/>
  <Override PartName="/ppt/media/image14.wmf" ContentType="image/x-wmf"/>
  <Override PartName="/ppt/media/image16.wmf" ContentType="image/x-wmf"/>
  <Override PartName="/ppt/media/carbrake.wav" ContentType="audio/x-wav"/>
  <Override PartName="/ppt/media/image1.png" ContentType="image/png"/>
  <Override PartName="/ppt/media/image12.wmf" ContentType="image/x-wmf"/>
  <Override PartName="/ppt/media/image11.wmf" ContentType="image/x-wmf"/>
  <Override PartName="/ppt/media/image10.wmf" ContentType="image/x-wmf"/>
  <Override PartName="/ppt/media/image2.png" ContentType="image/png"/>
  <Override PartName="/ppt/media/TADA.WAV" ContentType="audio/x-wav"/>
  <Override PartName="/ppt/media/whoosh.wav" ContentType="audio/x-wav"/>
  <Override PartName="/ppt/media/image13.wmf" ContentType="image/x-wmf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3ADE-5509-4674-B8AF-EF31BBDB2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F453-0D60-4A53-82C2-155B2956F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B72D-5E62-4156-9B06-827B8ED87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96BE-136C-479A-A54E-4156EA8A9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0A9A-4DA1-4081-B221-E197BE942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3A0E-94F5-465B-B0CD-6788C9585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75D0-C497-43EF-A3B2-62D17464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7EE6-F6F0-4A51-B5D8-9B77ABF8D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5F24-B6D6-4E24-BF93-8F3C0ABA0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777B-6061-4F05-906E-EA65C0B5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E73A-01DE-41F4-BD5F-2EB73C714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PFiles\MSOffice\Clipart\WebArt\bd15055_.gif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pic>
        <p:nvPicPr>
          <p:cNvPr id="3" name="Picture 5" descr="C:\Program Files\Common Files\Microsoft Shared\Clipart\themes1\lines\bd15073_.gif"/>
          <p:cNvPicPr/>
          <p:nvPr/>
        </p:nvPicPr>
        <p:blipFill>
          <a:blip r:embed="rId3"/>
          <a:stretch/>
        </p:blipFill>
        <p:spPr>
          <a:xfrm>
            <a:off x="0" y="6629400"/>
            <a:ext cx="9144000" cy="22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Text Box 6"/>
          <p:cNvSpPr/>
          <p:nvPr/>
        </p:nvSpPr>
        <p:spPr>
          <a:xfrm>
            <a:off x="7696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F8B3-A20E-45C4-B608-C0E95C22F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egasus"/>
              </a:rPr>
              <a:t>El Presente Progresivo</a:t>
            </a:r>
            <a:endParaRPr b="1" lang="en-US" sz="60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¿Qué estás haciendo </a:t>
            </a:r>
            <a:r>
              <a:rPr b="1" i="1" lang="en-US" sz="3200" spc="-1" strike="noStrike">
                <a:solidFill>
                  <a:srgbClr val="ff0000"/>
                </a:solidFill>
                <a:latin typeface="Pegasus"/>
              </a:rPr>
              <a:t>ahora mismo</a:t>
            </a: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ás ejemplos…: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600200" y="274320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nda y su bebé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l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Vosotr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udi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ú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s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cho en este exa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 amig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lam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teléf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ié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bl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cl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43000" y="14479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ways necessary to use the verb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iend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main (action)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c:\Program Files\Microsoft Office\Clipart\standard\stddir4\pe02553_.wmf"/>
          <p:cNvPicPr/>
          <p:nvPr/>
        </p:nvPicPr>
        <p:blipFill>
          <a:blip r:embed="rId1"/>
          <a:stretch/>
        </p:blipFill>
        <p:spPr>
          <a:xfrm>
            <a:off x="7772400" y="525780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Program Files\Microsoft Office\Clipart\standard\stddir1\bd05558_.wmf"/>
          <p:cNvPicPr/>
          <p:nvPr/>
        </p:nvPicPr>
        <p:blipFill>
          <a:blip r:embed="rId2"/>
          <a:stretch/>
        </p:blipFill>
        <p:spPr>
          <a:xfrm>
            <a:off x="111240" y="5334120"/>
            <a:ext cx="1120680" cy="13381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ompleten las frase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1371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____   ________ tú? (hac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00200" y="1371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s    hac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9480" y="2103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Dónde ____   ________ Luis? (com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057400" y="2103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    com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09480" y="28195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as ____   ________ en Madrid. (viv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1523880" y="28195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n    viv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09480" y="3551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 ____   __________ deportes ahora. (practi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1219320" y="3551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oy   practic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09480" y="42670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otros ______   __________ cartas. (escrib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133720" y="42670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amos   escrib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609480" y="499896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Vosotros _____   _________ ? (estudi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2362320" y="499896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is    estud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09480" y="5715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ién ____   ________ al ajedrez? (jug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981080" y="5715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     ju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Verbos irregulare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057400" y="2085840"/>
            <a:ext cx="22096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r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876920" y="2085840"/>
            <a:ext cx="2438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m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v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c:\Program Files\Microsoft Office\Clipart\standard\stddir2\bs02010_.wmf"/>
          <p:cNvPicPr/>
          <p:nvPr/>
        </p:nvPicPr>
        <p:blipFill>
          <a:blip r:embed="rId1"/>
          <a:stretch/>
        </p:blipFill>
        <p:spPr>
          <a:xfrm>
            <a:off x="228600" y="1219320"/>
            <a:ext cx="136512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Program Files\Microsoft Office\Clipart\corpbas\j0079190.wmf"/>
          <p:cNvPicPr/>
          <p:nvPr/>
        </p:nvPicPr>
        <p:blipFill>
          <a:blip r:embed="rId2"/>
          <a:stretch/>
        </p:blipFill>
        <p:spPr>
          <a:xfrm>
            <a:off x="7772400" y="1143000"/>
            <a:ext cx="115236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53" name="Group 19"/>
          <p:cNvGrpSpPr/>
          <p:nvPr/>
        </p:nvGrpSpPr>
        <p:grpSpPr>
          <a:xfrm>
            <a:off x="6629400" y="1295280"/>
            <a:ext cx="1438200" cy="1796400"/>
            <a:chOff x="6629400" y="1295280"/>
            <a:chExt cx="1438200" cy="1796400"/>
          </a:xfrm>
        </p:grpSpPr>
        <p:pic>
          <p:nvPicPr>
            <p:cNvPr id="154" name="Picture 13" descr="c:\Program Files\Microsoft Office\Clipart\standard\stddir1\bd06919_.wmf"/>
            <p:cNvPicPr/>
            <p:nvPr/>
          </p:nvPicPr>
          <p:blipFill>
            <a:blip r:embed="rId1"/>
            <a:stretch/>
          </p:blipFill>
          <p:spPr>
            <a:xfrm>
              <a:off x="6629400" y="1295280"/>
              <a:ext cx="14382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6"/>
            <p:cNvSpPr/>
            <p:nvPr/>
          </p:nvSpPr>
          <p:spPr>
            <a:xfrm>
              <a:off x="6711480" y="26319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20"/>
          <p:cNvGrpSpPr/>
          <p:nvPr/>
        </p:nvGrpSpPr>
        <p:grpSpPr>
          <a:xfrm>
            <a:off x="533520" y="3048120"/>
            <a:ext cx="1752480" cy="1983600"/>
            <a:chOff x="533520" y="3048120"/>
            <a:chExt cx="1752480" cy="1983600"/>
          </a:xfrm>
        </p:grpSpPr>
        <p:pic>
          <p:nvPicPr>
            <p:cNvPr id="157" name="Picture 11" descr="c:\Program Files\Microsoft Office\Clipart\standard\stddir1\bd05507_.wmf"/>
            <p:cNvPicPr/>
            <p:nvPr/>
          </p:nvPicPr>
          <p:blipFill>
            <a:blip r:embed="rId2"/>
            <a:stretch/>
          </p:blipFill>
          <p:spPr>
            <a:xfrm>
              <a:off x="533520" y="3048120"/>
              <a:ext cx="175248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7"/>
            <p:cNvSpPr/>
            <p:nvPr/>
          </p:nvSpPr>
          <p:spPr>
            <a:xfrm>
              <a:off x="991080" y="4572000"/>
              <a:ext cx="7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l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1"/>
          <p:cNvGrpSpPr/>
          <p:nvPr/>
        </p:nvGrpSpPr>
        <p:grpSpPr>
          <a:xfrm>
            <a:off x="6781680" y="4572000"/>
            <a:ext cx="1285920" cy="1983600"/>
            <a:chOff x="6781680" y="4572000"/>
            <a:chExt cx="1285920" cy="1983600"/>
          </a:xfrm>
        </p:grpSpPr>
        <p:pic>
          <p:nvPicPr>
            <p:cNvPr id="160" name="Picture 15" descr="c:\Program Files\Microsoft Office\Clipart\standard\stddir4\pe02603_.wmf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128592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8"/>
            <p:cNvSpPr/>
            <p:nvPr/>
          </p:nvSpPr>
          <p:spPr>
            <a:xfrm>
              <a:off x="7179840" y="6095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22"/>
          <p:cNvSpPr/>
          <p:nvPr/>
        </p:nvSpPr>
        <p:spPr>
          <a:xfrm>
            <a:off x="3582000" y="1766880"/>
            <a:ext cx="27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amos viv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953440" y="35053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n bai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4379400" y="5105520"/>
            <a:ext cx="22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s jug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l fút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762120" y="1371600"/>
            <a:ext cx="1371600" cy="1872720"/>
            <a:chOff x="762120" y="1371600"/>
            <a:chExt cx="1371600" cy="1872720"/>
          </a:xfrm>
        </p:grpSpPr>
        <p:pic>
          <p:nvPicPr>
            <p:cNvPr id="167" name="Picture 2" descr="c:\Program Files\Microsoft Office\Clipart\standard\stddir3\pe01705_.wmf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13716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7"/>
            <p:cNvSpPr/>
            <p:nvPr/>
          </p:nvSpPr>
          <p:spPr>
            <a:xfrm>
              <a:off x="1280880" y="2784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1"/>
          <p:cNvGrpSpPr/>
          <p:nvPr/>
        </p:nvGrpSpPr>
        <p:grpSpPr>
          <a:xfrm>
            <a:off x="6705720" y="3048120"/>
            <a:ext cx="1366560" cy="1983600"/>
            <a:chOff x="6705720" y="3048120"/>
            <a:chExt cx="1366560" cy="1983600"/>
          </a:xfrm>
        </p:grpSpPr>
        <p:pic>
          <p:nvPicPr>
            <p:cNvPr id="170" name="Picture 4" descr="c:\Program Files\Microsoft Office\Clipart\standard\stddir3\fd00784_.wmf"/>
            <p:cNvPicPr/>
            <p:nvPr/>
          </p:nvPicPr>
          <p:blipFill>
            <a:blip r:embed="rId2"/>
            <a:stretch/>
          </p:blipFill>
          <p:spPr>
            <a:xfrm>
              <a:off x="6705720" y="3048120"/>
              <a:ext cx="13665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8"/>
            <p:cNvSpPr/>
            <p:nvPr/>
          </p:nvSpPr>
          <p:spPr>
            <a:xfrm>
              <a:off x="7244280" y="4572000"/>
              <a:ext cx="6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685800" y="4724280"/>
            <a:ext cx="1523880" cy="1755360"/>
            <a:chOff x="685800" y="4724280"/>
            <a:chExt cx="1523880" cy="1755360"/>
          </a:xfrm>
        </p:grpSpPr>
        <p:pic>
          <p:nvPicPr>
            <p:cNvPr id="173" name="Picture 3" descr="c:\Program Files\Microsoft Office\Clipart\standard\stddir1\bd07178_.wmf"/>
            <p:cNvPicPr/>
            <p:nvPr/>
          </p:nvPicPr>
          <p:blipFill>
            <a:blip r:embed="rId3"/>
            <a:stretch/>
          </p:blipFill>
          <p:spPr>
            <a:xfrm>
              <a:off x="685800" y="4724280"/>
              <a:ext cx="152388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9"/>
            <p:cNvSpPr/>
            <p:nvPr/>
          </p:nvSpPr>
          <p:spPr>
            <a:xfrm>
              <a:off x="858240" y="601992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420280" y="17668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oy hab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089600" y="350532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 com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439720" y="537840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is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 Presente Progre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106960" y="2209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07900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5224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838080" y="1676520"/>
            <a:ext cx="7239240" cy="685800"/>
            <a:chOff x="838080" y="1676520"/>
            <a:chExt cx="7239240" cy="685800"/>
          </a:xfrm>
        </p:grpSpPr>
        <p:sp>
          <p:nvSpPr>
            <p:cNvPr id="55" name="Line 3"/>
            <p:cNvSpPr/>
            <p:nvPr/>
          </p:nvSpPr>
          <p:spPr>
            <a:xfrm>
              <a:off x="838080" y="2057400"/>
              <a:ext cx="72392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4"/>
            <p:cNvSpPr/>
            <p:nvPr/>
          </p:nvSpPr>
          <p:spPr>
            <a:xfrm>
              <a:off x="838080" y="1752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4572000" y="1676520"/>
              <a:ext cx="167652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5257080" y="1905120"/>
            <a:ext cx="305280" cy="304560"/>
            <a:chOff x="5257080" y="1905120"/>
            <a:chExt cx="305280" cy="304560"/>
          </a:xfrm>
        </p:grpSpPr>
        <p:sp>
          <p:nvSpPr>
            <p:cNvPr id="59" name="Line 12"/>
            <p:cNvSpPr/>
            <p:nvPr/>
          </p:nvSpPr>
          <p:spPr>
            <a:xfrm flipH="1">
              <a:off x="525744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525708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Rectangle 16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rogress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scribes an action that is in proces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t the mo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 are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913480" y="5635800"/>
            <a:ext cx="333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¡ahora mism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¿Cómo lo </a:t>
            </a:r>
            <a:r>
              <a:rPr b="1" i="1" lang="en-US" sz="4400" spc="-1" strike="noStrike">
                <a:solidFill>
                  <a:srgbClr val="000000"/>
                </a:solidFill>
                <a:latin typeface="Pegasus"/>
              </a:rPr>
              <a:t>formamos</a:t>
            </a: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410080" y="441972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r/-i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619640" y="1362240"/>
            <a:ext cx="585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verb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 tense forms o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artici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mai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gerund / gerun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5"/>
          <p:cNvGrpSpPr/>
          <p:nvPr/>
        </p:nvGrpSpPr>
        <p:grpSpPr>
          <a:xfrm>
            <a:off x="1298160" y="4495680"/>
            <a:ext cx="3524400" cy="1191240"/>
            <a:chOff x="1298160" y="4495680"/>
            <a:chExt cx="3524400" cy="1191240"/>
          </a:xfrm>
        </p:grpSpPr>
        <p:sp>
          <p:nvSpPr>
            <p:cNvPr id="67" name="Text Box 13"/>
            <p:cNvSpPr/>
            <p:nvPr/>
          </p:nvSpPr>
          <p:spPr>
            <a:xfrm>
              <a:off x="1298160" y="4495680"/>
              <a:ext cx="21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o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a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4323240" y="472428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1" name="projctor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Participio presente = </a:t>
            </a:r>
            <a:r>
              <a:rPr b="1" i="1" lang="en-US" sz="4400" spc="-1" strike="noStrike">
                <a:solidFill>
                  <a:srgbClr val="ff0000"/>
                </a:solidFill>
                <a:latin typeface="Pegasus"/>
              </a:rPr>
              <a:t>-ing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70" name="Group 32"/>
          <p:cNvGrpSpPr/>
          <p:nvPr/>
        </p:nvGrpSpPr>
        <p:grpSpPr>
          <a:xfrm>
            <a:off x="1523160" y="1260360"/>
            <a:ext cx="6041880" cy="4988160"/>
            <a:chOff x="1523160" y="1260360"/>
            <a:chExt cx="6041880" cy="4988160"/>
          </a:xfrm>
        </p:grpSpPr>
        <p:sp>
          <p:nvSpPr>
            <p:cNvPr id="71" name="Text Box 15"/>
            <p:cNvSpPr/>
            <p:nvPr/>
          </p:nvSpPr>
          <p:spPr>
            <a:xfrm>
              <a:off x="1523160" y="1260360"/>
              <a:ext cx="604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ivo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ticip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>
              <a:off x="4572000" y="1371600"/>
              <a:ext cx="0" cy="487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Text Box 18"/>
          <p:cNvSpPr/>
          <p:nvPr/>
        </p:nvSpPr>
        <p:spPr>
          <a:xfrm>
            <a:off x="1739880" y="18702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6193080" y="1905120"/>
            <a:ext cx="12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754280" y="2479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6165720" y="251460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1846440" y="31240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232680" y="3159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1653840" y="377496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6105600" y="38098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1737360" y="4384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076440" y="4419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1821240" y="499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6158520" y="5029200"/>
            <a:ext cx="13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0"/>
          <p:cNvSpPr/>
          <p:nvPr/>
        </p:nvSpPr>
        <p:spPr>
          <a:xfrm>
            <a:off x="1584360" y="5527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5883120" y="55627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6000" y="1447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you would never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lking.”  or  “She working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523880" y="266688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a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e’s walkin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e is wal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he’s workin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he is wor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9"/>
          <p:cNvGrpSpPr/>
          <p:nvPr/>
        </p:nvGrpSpPr>
        <p:grpSpPr>
          <a:xfrm>
            <a:off x="1752480" y="5576760"/>
            <a:ext cx="6477120" cy="825120"/>
            <a:chOff x="1752480" y="5576760"/>
            <a:chExt cx="6477120" cy="825120"/>
          </a:xfrm>
        </p:grpSpPr>
        <p:sp>
          <p:nvSpPr>
            <p:cNvPr id="90" name="Text Box 4"/>
            <p:cNvSpPr/>
            <p:nvPr/>
          </p:nvSpPr>
          <p:spPr>
            <a:xfrm>
              <a:off x="1752480" y="5805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T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"/>
            <p:cNvSpPr/>
            <p:nvPr/>
          </p:nvSpPr>
          <p:spPr>
            <a:xfrm>
              <a:off x="3886200" y="557676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5029200" y="580536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ando    or    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7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 Presente Progre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457720" y="4419720"/>
            <a:ext cx="422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 the same in Span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ver leave out the verb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c:\Program Files\Microsoft Office\Clipart\standard\stddir4\pe01857_.wmf"/>
          <p:cNvPicPr/>
          <p:nvPr/>
        </p:nvPicPr>
        <p:blipFill>
          <a:blip r:embed="rId1"/>
          <a:stretch/>
        </p:blipFill>
        <p:spPr>
          <a:xfrm>
            <a:off x="152280" y="3200400"/>
            <a:ext cx="1752840" cy="1200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:\Program Files\Microsoft Office\Clipart\standard\stddir1\bd07127_.wmf"/>
          <p:cNvPicPr/>
          <p:nvPr/>
        </p:nvPicPr>
        <p:blipFill>
          <a:blip r:embed="rId2"/>
          <a:stretch/>
        </p:blipFill>
        <p:spPr>
          <a:xfrm>
            <a:off x="7543800" y="3048120"/>
            <a:ext cx="1114560" cy="144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articipio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380880" y="1219320"/>
            <a:ext cx="7543800" cy="2717280"/>
            <a:chOff x="380880" y="1219320"/>
            <a:chExt cx="7543800" cy="2717280"/>
          </a:xfrm>
        </p:grpSpPr>
        <p:sp>
          <p:nvSpPr>
            <p:cNvPr id="99" name="Text Box 4"/>
            <p:cNvSpPr/>
            <p:nvPr/>
          </p:nvSpPr>
          <p:spPr>
            <a:xfrm>
              <a:off x="5562720" y="1981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5486400" y="27432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12"/>
            <p:cNvGrpSpPr/>
            <p:nvPr/>
          </p:nvGrpSpPr>
          <p:grpSpPr>
            <a:xfrm>
              <a:off x="380880" y="1219320"/>
              <a:ext cx="4768560" cy="2717280"/>
              <a:chOff x="380880" y="1219320"/>
              <a:chExt cx="4768560" cy="2717280"/>
            </a:xfrm>
          </p:grpSpPr>
          <p:sp>
            <p:nvSpPr>
              <p:cNvPr id="102" name="Text Box 3"/>
              <p:cNvSpPr/>
              <p:nvPr/>
            </p:nvSpPr>
            <p:spPr>
              <a:xfrm>
                <a:off x="380880" y="1219320"/>
                <a:ext cx="3353040" cy="27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o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o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ú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él, ella, Ud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am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los, ellas, Uds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9"/>
              <p:cNvSpPr/>
              <p:nvPr/>
            </p:nvSpPr>
            <p:spPr>
              <a:xfrm>
                <a:off x="4650120" y="2209680"/>
                <a:ext cx="49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4" name="Picture 10" descr="c:\Program Files\Microsoft Office\Clipart\standard\stddir4\pe01857_.wmf"/>
          <p:cNvPicPr/>
          <p:nvPr/>
        </p:nvPicPr>
        <p:blipFill>
          <a:blip r:embed="rId1"/>
          <a:stretch/>
        </p:blipFill>
        <p:spPr>
          <a:xfrm>
            <a:off x="1447920" y="4267080"/>
            <a:ext cx="312408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5052960" y="4572000"/>
            <a:ext cx="252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’s wal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stá caminand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articipio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380880" y="1219320"/>
            <a:ext cx="7543800" cy="2717280"/>
            <a:chOff x="380880" y="1219320"/>
            <a:chExt cx="7543800" cy="2717280"/>
          </a:xfrm>
        </p:grpSpPr>
        <p:sp>
          <p:nvSpPr>
            <p:cNvPr id="108" name="Text Box 4"/>
            <p:cNvSpPr/>
            <p:nvPr/>
          </p:nvSpPr>
          <p:spPr>
            <a:xfrm>
              <a:off x="5562720" y="1981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"/>
            <p:cNvSpPr/>
            <p:nvPr/>
          </p:nvSpPr>
          <p:spPr>
            <a:xfrm>
              <a:off x="5486400" y="27432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Group 6"/>
            <p:cNvGrpSpPr/>
            <p:nvPr/>
          </p:nvGrpSpPr>
          <p:grpSpPr>
            <a:xfrm>
              <a:off x="380880" y="1219320"/>
              <a:ext cx="4768560" cy="2717280"/>
              <a:chOff x="380880" y="1219320"/>
              <a:chExt cx="4768560" cy="2717280"/>
            </a:xfrm>
          </p:grpSpPr>
          <p:sp>
            <p:nvSpPr>
              <p:cNvPr id="111" name="Text Box 7"/>
              <p:cNvSpPr/>
              <p:nvPr/>
            </p:nvSpPr>
            <p:spPr>
              <a:xfrm>
                <a:off x="380880" y="1219320"/>
                <a:ext cx="3353040" cy="27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o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o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ú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él, ella, Ud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am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los, ellas, Uds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8"/>
              <p:cNvSpPr/>
              <p:nvPr/>
            </p:nvSpPr>
            <p:spPr>
              <a:xfrm>
                <a:off x="4650120" y="2209680"/>
                <a:ext cx="49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Text Box 10"/>
          <p:cNvSpPr/>
          <p:nvPr/>
        </p:nvSpPr>
        <p:spPr>
          <a:xfrm>
            <a:off x="5051160" y="4572000"/>
            <a:ext cx="275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’s wor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la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stá trabajand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1" descr="c:\Program Files\Microsoft Office\Clipart\standard\stddir1\bd07127_.wmf"/>
          <p:cNvPicPr/>
          <p:nvPr/>
        </p:nvPicPr>
        <p:blipFill>
          <a:blip r:embed="rId1"/>
          <a:stretch/>
        </p:blipFill>
        <p:spPr>
          <a:xfrm>
            <a:off x="2286000" y="4191120"/>
            <a:ext cx="182412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2" name="projctor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En inglés o en español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09480" y="129528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you can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am 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ight 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 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m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6680" y="24382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this.  The progressive in Spanish is ONLY used to describe an action that is in process at the moment we are talking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hora mis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600200" y="3778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we can use the expression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fer to the near futur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493360" y="518148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oy trabaj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hora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069360" y="586728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y a traba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r ejemplo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600200" y="3705120"/>
            <a:ext cx="6019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rib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ca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és y Alic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bur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y y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m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g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las car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057400" y="2909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io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393920" y="1295280"/>
            <a:ext cx="6302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s oraciones usando el presente progre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ght n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uan, Andrés, Alicia, Pedro and I are doing something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0" descr="c:\Program Files\Microsoft Office\Clipart\corpbas\bd19693_.wmf"/>
          <p:cNvPicPr/>
          <p:nvPr/>
        </p:nvPicPr>
        <p:blipFill>
          <a:blip r:embed="rId1"/>
          <a:stretch/>
        </p:blipFill>
        <p:spPr>
          <a:xfrm>
            <a:off x="7620120" y="5334120"/>
            <a:ext cx="1523880" cy="120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:\Program Files\Microsoft Office\Clipart\standard\stddir3\pe01709_.wmf"/>
          <p:cNvPicPr/>
          <p:nvPr/>
        </p:nvPicPr>
        <p:blipFill>
          <a:blip r:embed="rId2"/>
          <a:stretch/>
        </p:blipFill>
        <p:spPr>
          <a:xfrm>
            <a:off x="0" y="525780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5:59:45Z</dcterms:created>
  <dc:creator>Jaime E Olalde</dc:creator>
  <dc:description/>
  <dc:language>en-US</dc:language>
  <cp:lastModifiedBy>Sol Kennally</cp:lastModifiedBy>
  <dcterms:modified xsi:type="dcterms:W3CDTF">2010-09-16T23:41:55Z</dcterms:modified>
  <cp:revision>95</cp:revision>
  <dc:subject>Español 101</dc:subject>
  <dc:title>Presente Progresivo</dc:title>
</cp:coreProperties>
</file>