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21.wmf" ContentType="image/x-wmf"/>
  <Override PartName="/ppt/media/image23.wmf" ContentType="image/x-wmf"/>
  <Override PartName="/ppt/media/whoosh.wav" ContentType="audio/x-wav"/>
  <Override PartName="/ppt/media/image28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arbrake.wav" ContentType="audio/x-wav"/>
  <Override PartName="/ppt/media/image16.wmf" ContentType="image/x-wmf"/>
  <Override PartName="/ppt/media/image8.wmf" ContentType="image/x-wmf"/>
  <Override PartName="/ppt/media/image25.wmf" ContentType="image/x-wmf"/>
  <Override PartName="/ppt/media/image2.wmf" ContentType="image/x-wmf"/>
  <Override PartName="/ppt/media/image9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13.wmf" ContentType="image/x-wmf"/>
  <Override PartName="/ppt/media/image1.wmf" ContentType="image/x-wmf"/>
  <Override PartName="/ppt/media/image24.wmf" ContentType="image/x-wmf"/>
  <Override PartName="/ppt/media/camera.wav" ContentType="audio/x-wav"/>
  <Override PartName="/ppt/media/image11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B6F-1CB0-4439-90BF-23B56870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C0C-EF97-4A93-9A51-29DABB12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38D-55A9-48F1-81F9-F475231C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CB7-5228-44C0-811E-C22ABDA5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585B-AF9B-4A20-95DB-D0EDBC2E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31A4-A09F-4C66-B69D-5B3CB0EB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4ACF-4065-42A3-8A9D-AA5B2139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E650-378B-4711-8BD8-DD66A121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0FD5-3350-4333-A9F2-88EE1B69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E661-B5BF-42B2-B239-C5A18726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E3C1-1F62-4838-9FEF-38C96B84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A8F-6D6B-4B4F-9B18-40B44806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8F16-270C-41E2-8114-2106DD65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3DD7-17CB-4714-8523-C8F239AC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42D2-424E-46E1-9DA2-CBB6C500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01F8-BBE7-477D-8D29-DE7AFC0B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D1F8-8050-4B2D-B9E1-7A5267C1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0B3-7776-4FFC-A0BF-031D056B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108-1307-4BDF-B8E8-9E2CFE23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788-6A6B-4DBF-8B0B-5B627CC1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48F-E01F-404F-9978-C27FC3A3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542-EEE9-40A5-8D09-A10E82C9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546-C141-44A8-A081-53F5ABB1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B96-16DE-4F1A-B291-E3443624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13F1-8DF7-4CEA-8A8C-3B20A32B9DD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FC89-4FEC-4DD6-BD42-D13DA4155D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 to now we’ve talked about actions that happen in the present, that happen on a regular basis, or that are happening right now.  These verbs are in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mple pres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sent progressi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5" descr="C:\Program Files\Microsoft Office\Clipart\standard\stddir1\bd06811_.wmf"/>
          <p:cNvPicPr/>
          <p:nvPr/>
        </p:nvPicPr>
        <p:blipFill>
          <a:blip r:embed="rId1"/>
          <a:stretch/>
        </p:blipFill>
        <p:spPr>
          <a:xfrm>
            <a:off x="1484280" y="2362320"/>
            <a:ext cx="1987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now, a few trickier one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ac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C:\Program Files\Common Files\Microsoft Shared\Clipart\cagcat50\pe02716_.wmf"/>
          <p:cNvPicPr/>
          <p:nvPr/>
        </p:nvPicPr>
        <p:blipFill>
          <a:blip r:embed="rId1"/>
          <a:stretch/>
        </p:blipFill>
        <p:spPr>
          <a:xfrm>
            <a:off x="1371600" y="2438280"/>
            <a:ext cx="28195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c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95320" y="2361960"/>
            <a:ext cx="4419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saq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a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c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q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’s a spelling change to retain the original pronunc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C:\Program Files\Common Files\Microsoft Shared\Clipart\cagcat50\pe02716_.wmf"/>
          <p:cNvPicPr/>
          <p:nvPr/>
        </p:nvPicPr>
        <p:blipFill>
          <a:blip r:embed="rId1"/>
          <a:stretch/>
        </p:blipFill>
        <p:spPr>
          <a:xfrm>
            <a:off x="1447920" y="2362320"/>
            <a:ext cx="2819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 semejant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g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:\Program Files\Microsoft Office\Clipart\standard\stddir1\bd04887_.wmf"/>
          <p:cNvPicPr/>
          <p:nvPr/>
        </p:nvPicPr>
        <p:blipFill>
          <a:blip r:embed="rId1"/>
          <a:stretch/>
        </p:blipFill>
        <p:spPr>
          <a:xfrm>
            <a:off x="1523880" y="2438280"/>
            <a:ext cx="28958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g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1640" y="2361960"/>
            <a:ext cx="4343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pagu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ag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s whose bases end in –gar make a spelling change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 &gt; gu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5" descr="C:\Program Files\Microsoft Office\Clipart\standard\stddir1\bd04887_.wmf"/>
          <p:cNvPicPr/>
          <p:nvPr/>
        </p:nvPicPr>
        <p:blipFill>
          <a:blip r:embed="rId1"/>
          <a:stretch/>
        </p:blipFill>
        <p:spPr>
          <a:xfrm>
            <a:off x="1447920" y="2590920"/>
            <a:ext cx="2895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grup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lmorz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600200" y="2438280"/>
            <a:ext cx="235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morz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6252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almorc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almor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s whose bases end in –zar make a spelling change in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nl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 &gt; c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143000" y="2438280"/>
            <a:ext cx="25131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morza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4495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almorc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almorz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morz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a stem-changing verb, but stem-changers in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o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ange in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5" descr="C:\Program Files\Microsoft Office\Clipart\Pub60Cor\an02122_.wmf"/>
          <p:cNvPicPr/>
          <p:nvPr/>
        </p:nvPicPr>
        <p:blipFill>
          <a:blip r:embed="rId1"/>
          <a:stretch/>
        </p:blipFill>
        <p:spPr>
          <a:xfrm>
            <a:off x="1295280" y="2438280"/>
            <a:ext cx="2664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riousl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ry this on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enza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C:\Program Files\Common Files\Microsoft Shared\Clipart\cagcat50\pe01981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513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zar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omenc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menz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5" descr="C:\Program Files\Common Files\Microsoft Shared\Clipart\cagcat50\pe03738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45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K, how about the reflexiv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ntarse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5" descr="C:\Program Files\Microsoft Office\Clipart\standard\stddir1\bd05555_.wmf"/>
          <p:cNvPicPr/>
          <p:nvPr/>
        </p:nvPicPr>
        <p:blipFill>
          <a:blip r:embed="rId1"/>
          <a:stretch/>
        </p:blipFill>
        <p:spPr>
          <a:xfrm>
            <a:off x="1523880" y="2438280"/>
            <a:ext cx="2732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xt we’re going to learn how to talk about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Spanish.  One way is to talk about an action that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rte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n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finish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the past.  This tense is called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5" descr="C:\Program Files\Microsoft Office\Clipart\Pub60Cor\an00010_.wmf"/>
          <p:cNvPicPr/>
          <p:nvPr/>
        </p:nvPicPr>
        <p:blipFill>
          <a:blip r:embed="rId1"/>
          <a:stretch/>
        </p:blipFill>
        <p:spPr>
          <a:xfrm>
            <a:off x="1174680" y="2362320"/>
            <a:ext cx="2570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ntarse (e &gt; i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m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sent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lexive verbs change in the very same way.  Just don’t forget the reflexive pronoun before the main ver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5" descr="C:\Program Files\Microsoft Office\Clipart\standard\stddir1\bd05555_.wmf"/>
          <p:cNvPicPr/>
          <p:nvPr/>
        </p:nvPicPr>
        <p:blipFill>
          <a:blip r:embed="rId1"/>
          <a:stretch/>
        </p:blipFill>
        <p:spPr>
          <a:xfrm>
            <a:off x="1017720" y="2362320"/>
            <a:ext cx="2579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3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–ER &amp;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identical for –er &amp; -ir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scrib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escrib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7" descr="C:\Program Files\Microsoft Office\Clipart\standard\stddir1\bd05477_.wmf"/>
          <p:cNvPicPr/>
          <p:nvPr/>
        </p:nvPicPr>
        <p:blipFill>
          <a:blip r:embed="rId1"/>
          <a:stretch/>
        </p:blipFill>
        <p:spPr>
          <a:xfrm>
            <a:off x="914400" y="2728800"/>
            <a:ext cx="2819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ke a closer look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a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-er / -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m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ar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are very similar, except that the –er/-ir verb endings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tain an –i- and the –ar verb endings never d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5" descr="C:\Program Files\Microsoft Office\Clipart\standard\stddir1\bd06615_.wmf"/>
          <p:cNvPicPr/>
          <p:nvPr/>
        </p:nvPicPr>
        <p:blipFill>
          <a:blip r:embed="rId1"/>
          <a:stretch/>
        </p:blipFill>
        <p:spPr>
          <a:xfrm>
            <a:off x="1371600" y="2819520"/>
            <a:ext cx="2743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oc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5" descr="C:\Program Files\Common Files\Microsoft Shared\Clipart\cagcat50\bd05584_.wmf"/>
          <p:cNvPicPr/>
          <p:nvPr/>
        </p:nvPicPr>
        <p:blipFill>
          <a:blip r:embed="rId1"/>
          <a:stretch/>
        </p:blipFill>
        <p:spPr>
          <a:xfrm>
            <a:off x="1477800" y="2362320"/>
            <a:ext cx="2338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oc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conoc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5" descr="C:\Program Files\Common Files\Microsoft Shared\Clipart\cagcat50\bd05584_.wmf"/>
          <p:cNvPicPr/>
          <p:nvPr/>
        </p:nvPicPr>
        <p:blipFill>
          <a:blip r:embed="rId1"/>
          <a:stretch/>
        </p:blipFill>
        <p:spPr>
          <a:xfrm>
            <a:off x="1905120" y="2362320"/>
            <a:ext cx="182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ib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5" descr="C:\Program Files\Microsoft Office\Clipart\standard\stddir4\so01579_.wmf"/>
          <p:cNvPicPr/>
          <p:nvPr/>
        </p:nvPicPr>
        <p:blipFill>
          <a:blip r:embed="rId1"/>
          <a:stretch/>
        </p:blipFill>
        <p:spPr>
          <a:xfrm>
            <a:off x="1676520" y="2514600"/>
            <a:ext cx="2385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ib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recib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5" descr="C:\Program Files\Microsoft Office\Clipart\standard\stddir1\bd05560_.wmf"/>
          <p:cNvPicPr/>
          <p:nvPr/>
        </p:nvPicPr>
        <p:blipFill>
          <a:blip r:embed="rId1"/>
          <a:stretch/>
        </p:blipFill>
        <p:spPr>
          <a:xfrm>
            <a:off x="1149480" y="2362320"/>
            <a:ext cx="2538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verb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a little bit unusual because it does not take accent mark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4" descr="C:\Program Files\Microsoft Office\Clipart\standard\stddir1\bd06221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727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5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743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ver (o &gt; 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vol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em-changing –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verbs do not change in the preterite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5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1600200" y="2438280"/>
            <a:ext cx="26668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English, a preterite form looks like th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lk &gt; walk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lay &gt; play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y &gt; sa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rive &gt; dro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 &gt; was, we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 are regular (predictable): play &gt; play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s are irregular (unpredictable): go &gt; w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5" descr="C:\Program Files\Microsoft Office\Clipart\standard\stddir1\an01141_.wmf"/>
          <p:cNvPicPr/>
          <p:nvPr/>
        </p:nvPicPr>
        <p:blipFill>
          <a:blip r:embed="rId1"/>
          <a:stretch/>
        </p:blipFill>
        <p:spPr>
          <a:xfrm>
            <a:off x="977760" y="2362320"/>
            <a:ext cx="29084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stem-changing –IR verb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 you remember tha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i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erbs are special i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–nd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m because they make a vowel chang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rmir (o &gt; ue) &gt;&gt; d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m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vir (e &gt; i) &gt;&gt; s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v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ferir (e &gt; ie) &gt;&gt; pref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ie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ll, guess what?  They change in th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/ellos form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o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ú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él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do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d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u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m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5" descr="C:\Program Files\Microsoft Office\Clipart\Pub60Cor\an00932_.wmf"/>
          <p:cNvPicPr/>
          <p:nvPr/>
        </p:nvPicPr>
        <p:blipFill>
          <a:blip r:embed="rId1"/>
          <a:stretch/>
        </p:blipFill>
        <p:spPr>
          <a:xfrm>
            <a:off x="914400" y="2943360"/>
            <a:ext cx="289548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other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stirse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m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te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nos ve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e v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5" descr="C:\Program Files\Microsoft Office\Clipart\standard\stddir1\bd06634_.wmf"/>
          <p:cNvPicPr/>
          <p:nvPr/>
        </p:nvPicPr>
        <p:blipFill>
          <a:blip r:embed="rId1"/>
          <a:stretch/>
        </p:blipFill>
        <p:spPr>
          <a:xfrm>
            <a:off x="1447920" y="2362320"/>
            <a:ext cx="2741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75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75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75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75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75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momento, por favo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 are three mo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d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p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d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ferir (e &gt; i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pref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prefir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r (e &gt; 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s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irv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Picture 5" descr="C:\Program Files\Microsoft Office\Clipart\standard\stddir1\bd05117_.wmf"/>
          <p:cNvPicPr/>
          <p:nvPr/>
        </p:nvPicPr>
        <p:blipFill>
          <a:blip r:embed="rId1"/>
          <a:stretch/>
        </p:blipFill>
        <p:spPr>
          <a:xfrm>
            <a:off x="1371600" y="2514600"/>
            <a:ext cx="2971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75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75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75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75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75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75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75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75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75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75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______ (llegar) a la oficina a las 8 y ______ (empezar) a trabajar.  Primero, _______ (terminar)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5" descr="C:\Program Files\Microsoft Office\Clipart\standard\stddir1\bd00005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loria lle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la oficina a las 8 y empe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trabajar.  Primero, term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a carta.  Despu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crib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n informe. Luego, pid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l almuerz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4" descr="C:\Program Files\Microsoft Office\Clipart\standard\stddir1\bd00005_.wmf"/>
          <p:cNvPicPr/>
          <p:nvPr/>
        </p:nvPicPr>
        <p:blipFill>
          <a:blip r:embed="rId1"/>
          <a:stretch/>
        </p:blipFill>
        <p:spPr>
          <a:xfrm>
            <a:off x="1523880" y="2362320"/>
            <a:ext cx="226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o 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ás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______ (salir) de casa a las 7,30, ______ (llegar) a la oficina a las 8, y ______ (comenzar) a trabajar.  Primero, _______ (leer)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 (escribir) un informe. Luego, _____ (pedir) el almuerzo.  Por fin, ________ (ver) a muchas personas y ________ (hablar) con ellas.  _________ (volver) a casa a las 4,3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5" descr="C:\Program Files\Microsoft Office\Clipart\standard\stddir1\bd06126_.wmf"/>
          <p:cNvPicPr/>
          <p:nvPr/>
        </p:nvPicPr>
        <p:blipFill>
          <a:blip r:embed="rId1"/>
          <a:stretch/>
        </p:blipFill>
        <p:spPr>
          <a:xfrm>
            <a:off x="1371600" y="2438280"/>
            <a:ext cx="2209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é tal salió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al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 casa a las 7,30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leg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la oficina a las 8,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omenz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trabajar.  Primer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le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arias cartas.  Desp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és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escrib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un informe. Luego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ped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l almuerzo.  Por fin,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muchas personas 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abl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n ellas. 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olvi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 casa a las 4,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Picture 5" descr="C:\Program Files\Microsoft Office\Clipart\smbusbas\bd05380_.wmf"/>
          <p:cNvPicPr/>
          <p:nvPr/>
        </p:nvPicPr>
        <p:blipFill>
          <a:blip r:embed="rId1"/>
          <a:stretch/>
        </p:blipFill>
        <p:spPr>
          <a:xfrm>
            <a:off x="1676520" y="2438280"/>
            <a:ext cx="25905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t’s all, folk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you are ready to work o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r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eterite verb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Picture 6" descr="C:\Documents and Settings\dbricault\Local Settings\Temporary Internet Files\Content.IE5\I7SK3KP9\MC900286930[1].wmf"/>
          <p:cNvPicPr/>
          <p:nvPr/>
        </p:nvPicPr>
        <p:blipFill>
          <a:blip r:embed="rId1"/>
          <a:stretch/>
        </p:blipFill>
        <p:spPr>
          <a:xfrm>
            <a:off x="1371600" y="2895480"/>
            <a:ext cx="213192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is presentation, we’ll look at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regu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terite endin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’s a typical o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habl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Program Files\Common Files\Microsoft Shared\Clipart\cagcat50\bd04956_.wmf"/>
          <p:cNvPicPr/>
          <p:nvPr/>
        </p:nvPicPr>
        <p:blipFill>
          <a:blip r:embed="rId1"/>
          <a:stretch/>
        </p:blipFill>
        <p:spPr>
          <a:xfrm>
            <a:off x="914400" y="2895480"/>
            <a:ext cx="2971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3812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endings for –AR verbs ar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ú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él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 -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tice the accent marks on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y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s.  They are very important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lso notice that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form is the same in both the present and the preter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000080" y="2362320"/>
            <a:ext cx="25812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Practi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C:\Program Files\Microsoft Office\Clipart\standard\stddir1\bd00006_.wmf"/>
          <p:cNvPicPr/>
          <p:nvPr/>
        </p:nvPicPr>
        <p:blipFill>
          <a:blip r:embed="rId1"/>
          <a:stretch/>
        </p:blipFill>
        <p:spPr>
          <a:xfrm>
            <a:off x="1181160" y="2362320"/>
            <a:ext cx="2490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l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l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C:\Program Files\Common Files\Microsoft Shared\Clipart\cagcat50\bd05545_.wmf"/>
          <p:cNvPicPr/>
          <p:nvPr/>
        </p:nvPicPr>
        <p:blipFill>
          <a:blip r:embed="rId1"/>
          <a:stretch/>
        </p:blipFill>
        <p:spPr>
          <a:xfrm>
            <a:off x="1523880" y="2514600"/>
            <a:ext cx="2452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 verbo, por favo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o 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C:\Program Files\Microsoft Office\Clipart\standard\stddir1\bd05569_.wmf"/>
          <p:cNvPicPr/>
          <p:nvPr/>
        </p:nvPicPr>
        <p:blipFill>
          <a:blip r:embed="rId1"/>
          <a:stretch/>
        </p:blipFill>
        <p:spPr>
          <a:xfrm>
            <a:off x="1295280" y="2362320"/>
            <a:ext cx="311328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n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 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ú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é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nosotr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lo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en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:\Program Files\Microsoft Office\Clipart\standard\stddir1\bd05569_.wmf"/>
          <p:cNvPicPr/>
          <p:nvPr/>
        </p:nvPicPr>
        <p:blipFill>
          <a:blip r:embed="rId1"/>
          <a:stretch/>
        </p:blipFill>
        <p:spPr>
          <a:xfrm>
            <a:off x="1003320" y="2362320"/>
            <a:ext cx="29592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1:31:30Z</dcterms:created>
  <dc:creator>test</dc:creator>
  <dc:description/>
  <dc:language>en-US</dc:language>
  <cp:lastModifiedBy>dbricault</cp:lastModifiedBy>
  <dcterms:modified xsi:type="dcterms:W3CDTF">2011-02-21T13:34:29Z</dcterms:modified>
  <cp:revision>13</cp:revision>
  <dc:subject/>
  <dc:title>Preterite</dc:title>
</cp:coreProperties>
</file>