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21.wmf" ContentType="image/x-wmf"/>
  <Override PartName="/ppt/media/image23.wmf" ContentType="image/x-wmf"/>
  <Override PartName="/ppt/media/whoosh.wav" ContentType="audio/x-wav"/>
  <Override PartName="/ppt/media/image28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arbrake.wav" ContentType="audio/x-wav"/>
  <Override PartName="/ppt/media/image16.wmf" ContentType="image/x-wmf"/>
  <Override PartName="/ppt/media/image8.wmf" ContentType="image/x-wmf"/>
  <Override PartName="/ppt/media/image25.wmf" ContentType="image/x-wmf"/>
  <Override PartName="/ppt/media/image2.wmf" ContentType="image/x-wmf"/>
  <Override PartName="/ppt/media/image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13.wmf" ContentType="image/x-wmf"/>
  <Override PartName="/ppt/media/image1.wmf" ContentType="image/x-wmf"/>
  <Override PartName="/ppt/media/image24.wmf" ContentType="image/x-wmf"/>
  <Override PartName="/ppt/media/camera.wav" ContentType="audio/x-wav"/>
  <Override PartName="/ppt/media/image11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1A7-5480-4E15-AC71-C3EFB417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4B7-8F02-4F78-9C08-76277B69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D31-71DD-4CFC-B281-D0BEDDBD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2FE-6E56-43E9-B7CF-0BA25A31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9FC0-7269-411A-BEFE-EF4DBE7E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6B1F-B9CB-4CE4-843B-E4ABD07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96CB-8D89-4522-8959-19538718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5766-1AB0-4373-8E59-290F8BB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71E-9CD0-4BCD-9FB7-8EC9C4F6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0C0A-630C-4567-BE43-2EC22AE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D20-407B-4975-9CBC-8599A99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1AD-2BE9-495A-BFF3-94F1195F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057C-18AB-4FBB-8ED2-F8AA6570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99C-6071-4BDE-84BF-8C5C8293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890A-FCD6-48A1-A011-53D7138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52F1-6C91-41D0-9BC1-D0BE9858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AEDF-EF65-49AA-A8D5-1F4BA5CA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024-CDA5-49B8-850E-4D0910A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EEB-9517-41F2-8CCA-B54FEC74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904-622E-411F-93E6-3453FB0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BAC-B727-4D10-90DA-E78B0464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DC4-5884-4402-8464-665B0B19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FCA-BD74-43E3-9E9A-FD461294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E06-B362-4634-B57A-51395D3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FA14-3569-4131-9E81-E05A1769F5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E20D-598B-4D28-8516-0CE9B29BB0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now we’ve talked about actions that happen in the present, that happen on a regular basis, or that are happening right now.  These verbs ar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mple pres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 progres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5" descr="C:\Program Files\Microsoft Office\Clipart\standard\stddir1\bd06811_.wmf"/>
          <p:cNvPicPr/>
          <p:nvPr/>
        </p:nvPicPr>
        <p:blipFill>
          <a:blip r:embed="rId1"/>
          <a:stretch/>
        </p:blipFill>
        <p:spPr>
          <a:xfrm>
            <a:off x="1484280" y="2362320"/>
            <a:ext cx="198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now, a few trickier one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c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saq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c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q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’s a spelling change to retain the original pronunc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819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 semejan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pag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g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g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447920" y="2590920"/>
            <a:ext cx="2895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grup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mor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252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s whose bases end in –zar make a spelling chang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 &gt; c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143000" y="2438280"/>
            <a:ext cx="25131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morz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a stem-changing verb, but stem-changers i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o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ange in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295280" y="2438280"/>
            <a:ext cx="2664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iousl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y this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enza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Program Files\Common Files\Microsoft Shared\Clipart\cagcat50\pe01981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513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zar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en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C:\Program Files\Common Files\Microsoft Shared\Clipart\cagcat50\pe03738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, how about the reflexiv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ntarse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 we’re going to learn how to talk abou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panish.  One way is to talk about an action tha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e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inish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the past.  This tense is called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C:\Program Files\Microsoft Office\Clipart\Pub60Cor\an00010_.wmf"/>
          <p:cNvPicPr/>
          <p:nvPr/>
        </p:nvPicPr>
        <p:blipFill>
          <a:blip r:embed="rId1"/>
          <a:stretch/>
        </p:blipFill>
        <p:spPr>
          <a:xfrm>
            <a:off x="1174680" y="2362320"/>
            <a:ext cx="257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tarse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m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xive verbs change in the very same way.  Just don’t forget the reflexive pronoun before the main ver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017720" y="2362320"/>
            <a:ext cx="2579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–ER &amp;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identical for –er &amp; -i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crib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7" descr="C:\Program Files\Microsoft Office\Clipart\standard\stddir1\bd05477_.wmf"/>
          <p:cNvPicPr/>
          <p:nvPr/>
        </p:nvPicPr>
        <p:blipFill>
          <a:blip r:embed="rId1"/>
          <a:stretch/>
        </p:blipFill>
        <p:spPr>
          <a:xfrm>
            <a:off x="914400" y="272880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 a closer loo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er / -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m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very similar, except that the –er/-ir verb ending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tain an –i- and the –ar verb endings never 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C:\Program Files\Microsoft Office\Clipart\standard\stddir1\bd06615_.wmf"/>
          <p:cNvPicPr/>
          <p:nvPr/>
        </p:nvPicPr>
        <p:blipFill>
          <a:blip r:embed="rId1"/>
          <a:stretch/>
        </p:blipFill>
        <p:spPr>
          <a:xfrm>
            <a:off x="1371600" y="2819520"/>
            <a:ext cx="2743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o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477800" y="2362320"/>
            <a:ext cx="233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oc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905120" y="23623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5" descr="C:\Program Files\Microsoft Office\Clipart\standard\stddir4\so01579_.wmf"/>
          <p:cNvPicPr/>
          <p:nvPr/>
        </p:nvPicPr>
        <p:blipFill>
          <a:blip r:embed="rId1"/>
          <a:stretch/>
        </p:blipFill>
        <p:spPr>
          <a:xfrm>
            <a:off x="1676520" y="2514600"/>
            <a:ext cx="238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ib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5" descr="C:\Program Files\Microsoft Office\Clipart\standard\stddir1\bd05560_.wmf"/>
          <p:cNvPicPr/>
          <p:nvPr/>
        </p:nvPicPr>
        <p:blipFill>
          <a:blip r:embed="rId1"/>
          <a:stretch/>
        </p:blipFill>
        <p:spPr>
          <a:xfrm>
            <a:off x="1149480" y="2362320"/>
            <a:ext cx="253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er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little bit unusual because it does not take accent mar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C:\Program Files\Microsoft Office\Clipart\standard\stddir1\bd06221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em-changing –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verbs do not change in the preterite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666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English, a preterite form looks like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lk &gt; walk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y &gt; play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y &gt; sa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ive &gt; dr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&gt; was, w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are regular (predictable): play &gt; play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are irregular (unpredictable): go &gt; w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C:\Program Files\Microsoft Office\Clipart\standard\stddir1\an01141_.wmf"/>
          <p:cNvPicPr/>
          <p:nvPr/>
        </p:nvPicPr>
        <p:blipFill>
          <a:blip r:embed="rId1"/>
          <a:stretch/>
        </p:blipFill>
        <p:spPr>
          <a:xfrm>
            <a:off x="977760" y="2362320"/>
            <a:ext cx="2908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tem-changing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 you remember tha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i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bs are special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nd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because they make a vowel chan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mir (o &gt; ue) &gt;&gt; d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m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r (e &gt; i) &gt;&gt; 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v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ir (e &gt; ie) &gt;&gt; pref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ll, guess what?  They change in th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/ellos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5" descr="C:\Program Files\Microsoft Office\Clipart\Pub60Cor\an00932_.wmf"/>
          <p:cNvPicPr/>
          <p:nvPr/>
        </p:nvPicPr>
        <p:blipFill>
          <a:blip r:embed="rId1"/>
          <a:stretch/>
        </p:blipFill>
        <p:spPr>
          <a:xfrm>
            <a:off x="914400" y="2943360"/>
            <a:ext cx="28954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stirse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m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Program Files\Microsoft Office\Clipart\standard\stddir1\bd06634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75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75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75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75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momento, por favo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are three mo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feri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ref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fi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C:\Program Files\Microsoft Office\Clipart\standard\stddir1\bd05117_.wmf"/>
          <p:cNvPicPr/>
          <p:nvPr/>
        </p:nvPicPr>
        <p:blipFill>
          <a:blip r:embed="rId1"/>
          <a:stretch/>
        </p:blipFill>
        <p:spPr>
          <a:xfrm>
            <a:off x="1371600" y="2514600"/>
            <a:ext cx="297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5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______ (llegar) a la oficina a las 8 y ______ (empezar) a trabajar.  Primero, _______ (terminar)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5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lle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la oficina a las 8 y empe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trabajar.  Primero, term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ri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 informe. Luego, pi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4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______ (salir) de casa a las 7,30, ______ (llegar) a la oficina a las 8, y ______ (comenzar) a trabajar.  Primero, _______ (leer)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  Por fin, ________ (ver) a muchas personas y ________ (hablar) con ellas.  _________ (volver) a casa a las 4,3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5" descr="C:\Program Files\Microsoft Office\Clipart\standard\stddir1\bd0612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al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 casa a las 7,30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leg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la oficina a las 8,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menz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trabajar.  Primer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e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scrib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 informe. Lueg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d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l almuerzo.  Por fin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muchas personas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abl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 ellas. 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ol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casa a las 4,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5" descr="C:\Program Files\Microsoft Office\Clipart\smbusbas\bd05380_.wmf"/>
          <p:cNvPicPr/>
          <p:nvPr/>
        </p:nvPicPr>
        <p:blipFill>
          <a:blip r:embed="rId1"/>
          <a:stretch/>
        </p:blipFill>
        <p:spPr>
          <a:xfrm>
            <a:off x="1676520" y="2438280"/>
            <a:ext cx="2590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are ready to work o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terite verb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6" descr="C:\Documents and Settings\dbricault\Local Settings\Temporary Internet Files\Content.IE5\I7SK3KP9\MC900286930[1].wmf"/>
          <p:cNvPicPr/>
          <p:nvPr/>
        </p:nvPicPr>
        <p:blipFill>
          <a:blip r:embed="rId1"/>
          <a:stretch/>
        </p:blipFill>
        <p:spPr>
          <a:xfrm>
            <a:off x="1371600" y="2895480"/>
            <a:ext cx="21319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presentation, we’ll look at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 e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’s a typical o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914400" y="2895480"/>
            <a:ext cx="2971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for –AR verbs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ice the accent marks o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s.  They are very important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so notice that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 is the same in both the present and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000080" y="2362320"/>
            <a:ext cx="2581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C:\Program Files\Microsoft Office\Clipart\standard\stddir1\bd00006_.wmf"/>
          <p:cNvPicPr/>
          <p:nvPr/>
        </p:nvPicPr>
        <p:blipFill>
          <a:blip r:embed="rId1"/>
          <a:stretch/>
        </p:blipFill>
        <p:spPr>
          <a:xfrm>
            <a:off x="1181160" y="2362320"/>
            <a:ext cx="2490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2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295280" y="2362320"/>
            <a:ext cx="31132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003320" y="2362320"/>
            <a:ext cx="2959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31:30Z</dcterms:created>
  <dc:creator>test</dc:creator>
  <dc:description/>
  <dc:language>en-US</dc:language>
  <cp:lastModifiedBy>dbricault</cp:lastModifiedBy>
  <dcterms:modified xsi:type="dcterms:W3CDTF">2011-02-21T13:34:29Z</dcterms:modified>
  <cp:revision>13</cp:revision>
  <dc:subject/>
  <dc:title>Preterite</dc:title>
</cp:coreProperties>
</file>