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image21.wmf" ContentType="image/x-wmf"/>
  <Override PartName="/ppt/media/image23.wmf" ContentType="image/x-wmf"/>
  <Override PartName="/ppt/media/whoosh.wav" ContentType="audio/x-wav"/>
  <Override PartName="/ppt/media/image28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carbrake.wav" ContentType="audio/x-wav"/>
  <Override PartName="/ppt/media/image16.wmf" ContentType="image/x-wmf"/>
  <Override PartName="/ppt/media/image8.wmf" ContentType="image/x-wmf"/>
  <Override PartName="/ppt/media/image25.wmf" ContentType="image/x-wmf"/>
  <Override PartName="/ppt/media/image2.wmf" ContentType="image/x-wmf"/>
  <Override PartName="/ppt/media/image9.wmf" ContentType="image/x-wmf"/>
  <Override PartName="/ppt/media/image26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image5.wmf" ContentType="image/x-wmf"/>
  <Override PartName="/ppt/media/laser.wav" ContentType="audio/x-wav"/>
  <Override PartName="/ppt/media/image12.wmf" ContentType="image/x-wmf"/>
  <Override PartName="/ppt/media/image13.wmf" ContentType="image/x-wmf"/>
  <Override PartName="/ppt/media/image1.wmf" ContentType="image/x-wmf"/>
  <Override PartName="/ppt/media/image24.wmf" ContentType="image/x-wmf"/>
  <Override PartName="/ppt/media/camera.wav" ContentType="audio/x-wav"/>
  <Override PartName="/ppt/media/image11.wmf" ContentType="image/x-wmf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2C32-BCBE-4423-9E13-9E484B52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2334-2D4F-4B21-B731-DD70572E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3C0B-4CC2-4CFA-8F32-06229573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30C8-0B75-4C43-BB06-9AC4CAE5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9BB9-9F51-4D25-8B49-E790D96F2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34A6-1F76-4729-8A0E-7D398878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F963-602E-43B6-BE26-DC022524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D61B-500B-47C3-A2EE-D5A6074F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EFC3-4D5A-4033-AF28-93EBD96E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40A8-BBB6-4F21-912F-9790A505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3348-BE12-4D61-8716-9E28C74D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B15D-157E-4114-981F-28E33F25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6427-18C9-4269-9E9C-F1F32205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FCA0-03A6-459F-86D7-42525346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3031-2BC7-4C47-8FF0-A66C1A09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BBA3-A16D-422B-95A4-4E20C70F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52EA-8C3C-4428-82EA-EB104A03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157D-8547-4254-9BDE-6282CEB4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9F61-2436-4738-AE2B-154A357D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1E5D-9AB6-4E54-9E18-869BA6E4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7FCD-0594-4443-9765-4A4ED569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0DCC-1E14-458E-A9BE-FCC2A1F3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84A9-BDAA-43E0-BBBF-6FE4B6FB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10E8-24C9-4A55-9BE2-1FE468C9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7AF6-6117-406F-9982-DA14006674E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0A14-982D-44CC-9114-358B220A9A8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carbrake.wav"/><Relationship Id="rId13" Type="http://schemas.openxmlformats.org/officeDocument/2006/relationships/audio" Target="../media/carbrake.wav"/><Relationship Id="rId14" Type="http://schemas.openxmlformats.org/officeDocument/2006/relationships/audio" Target="../media/carbrake.wav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ter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92840" y="2361960"/>
            <a:ext cx="39225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p to now we’ve talked about actions that happen in the present, that happen on a regular basis, or that are happening right now.  These verbs are in th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imple prese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esent progressiv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Picture 5" descr="C:\Program Files\Microsoft Office\Clipart\standard\stddir1\bd06811_.wmf"/>
          <p:cNvPicPr/>
          <p:nvPr/>
        </p:nvPicPr>
        <p:blipFill>
          <a:blip r:embed="rId1"/>
          <a:stretch/>
        </p:blipFill>
        <p:spPr>
          <a:xfrm>
            <a:off x="1484280" y="2362320"/>
            <a:ext cx="1987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d now, a few trickier ones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ac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5" descr="C:\Program Files\Common Files\Microsoft Shared\Clipart\cagcat50\pe02716_.wmf"/>
          <p:cNvPicPr/>
          <p:nvPr/>
        </p:nvPicPr>
        <p:blipFill>
          <a:blip r:embed="rId1"/>
          <a:stretch/>
        </p:blipFill>
        <p:spPr>
          <a:xfrm>
            <a:off x="1371600" y="2438280"/>
            <a:ext cx="281952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ac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95320" y="2361960"/>
            <a:ext cx="44197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saqu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sac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sac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sac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sac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erbs whose bases end in –car make a spelling change in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m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onl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 &gt; qu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’s a spelling change to retain the original pronunci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5" descr="C:\Program Files\Common Files\Microsoft Shared\Clipart\cagcat50\pe02716_.wmf"/>
          <p:cNvPicPr/>
          <p:nvPr/>
        </p:nvPicPr>
        <p:blipFill>
          <a:blip r:embed="rId1"/>
          <a:stretch/>
        </p:blipFill>
        <p:spPr>
          <a:xfrm>
            <a:off x="1447920" y="2362320"/>
            <a:ext cx="28191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ro verbo semejante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ag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5" descr="C:\Program Files\Microsoft Office\Clipart\standard\stddir1\bd04887_.wmf"/>
          <p:cNvPicPr/>
          <p:nvPr/>
        </p:nvPicPr>
        <p:blipFill>
          <a:blip r:embed="rId1"/>
          <a:stretch/>
        </p:blipFill>
        <p:spPr>
          <a:xfrm>
            <a:off x="1523880" y="2438280"/>
            <a:ext cx="28958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g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1640" y="2361960"/>
            <a:ext cx="4343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pagu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pag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pag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pag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pag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erbs whose bases end in –gar make a spelling change in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m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onl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 &gt; gu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5" descr="C:\Program Files\Microsoft Office\Clipart\standard\stddir1\bd04887_.wmf"/>
          <p:cNvPicPr/>
          <p:nvPr/>
        </p:nvPicPr>
        <p:blipFill>
          <a:blip r:embed="rId1"/>
          <a:stretch/>
        </p:blipFill>
        <p:spPr>
          <a:xfrm>
            <a:off x="1447920" y="2590920"/>
            <a:ext cx="28954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 grupo 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ás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lmorz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5" descr="C:\Program Files\Microsoft Office\Clipart\Pub60Cor\an02122_.wmf"/>
          <p:cNvPicPr/>
          <p:nvPr/>
        </p:nvPicPr>
        <p:blipFill>
          <a:blip r:embed="rId1"/>
          <a:stretch/>
        </p:blipFill>
        <p:spPr>
          <a:xfrm>
            <a:off x="1600200" y="2438280"/>
            <a:ext cx="2359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morz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62520" y="2361960"/>
            <a:ext cx="4952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o almorc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ú almor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él almor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almor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almor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erbs whose bases end in –zar make a spelling change in th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orm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onl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z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é &gt; c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5" descr="C:\Program Files\Microsoft Office\Clipart\Pub60Cor\an02122_.wmf"/>
          <p:cNvPicPr/>
          <p:nvPr/>
        </p:nvPicPr>
        <p:blipFill>
          <a:blip r:embed="rId1"/>
          <a:stretch/>
        </p:blipFill>
        <p:spPr>
          <a:xfrm>
            <a:off x="1143000" y="2438280"/>
            <a:ext cx="251316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3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3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3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3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morzar (o &gt; u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19720" y="2361960"/>
            <a:ext cx="44956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almorc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almorz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almorz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almorz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almorz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lmorza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s a stem-changing verb, but stem-changers in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–a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–e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o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hange in the preteri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5" descr="C:\Program Files\Microsoft Office\Clipart\Pub60Cor\an02122_.wmf"/>
          <p:cNvPicPr/>
          <p:nvPr/>
        </p:nvPicPr>
        <p:blipFill>
          <a:blip r:embed="rId1"/>
          <a:stretch/>
        </p:blipFill>
        <p:spPr>
          <a:xfrm>
            <a:off x="1295280" y="2438280"/>
            <a:ext cx="26640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riousl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ry this one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enzar (e &gt; i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5" descr="C:\Program Files\Common Files\Microsoft Shared\Clipart\cagcat50\pe01981_.wmf"/>
          <p:cNvPicPr/>
          <p:nvPr/>
        </p:nvPicPr>
        <p:blipFill>
          <a:blip r:embed="rId1"/>
          <a:stretch/>
        </p:blipFill>
        <p:spPr>
          <a:xfrm>
            <a:off x="1523880" y="2362320"/>
            <a:ext cx="25131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enzar (e &gt; i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o comenc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ú comen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él comen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comen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comen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5" descr="C:\Program Files\Common Files\Microsoft Shared\Clipart\cagcat50\pe03738_.wmf"/>
          <p:cNvPicPr/>
          <p:nvPr/>
        </p:nvPicPr>
        <p:blipFill>
          <a:blip r:embed="rId1"/>
          <a:stretch/>
        </p:blipFill>
        <p:spPr>
          <a:xfrm>
            <a:off x="1523880" y="2514600"/>
            <a:ext cx="2457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K, how about the reflexiv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ntarse (e &gt; i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5" descr="C:\Program Files\Microsoft Office\Clipart\standard\stddir1\bd05555_.wmf"/>
          <p:cNvPicPr/>
          <p:nvPr/>
        </p:nvPicPr>
        <p:blipFill>
          <a:blip r:embed="rId1"/>
          <a:stretch/>
        </p:blipFill>
        <p:spPr>
          <a:xfrm>
            <a:off x="1523880" y="2438280"/>
            <a:ext cx="2732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ter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xt we’re going to learn how to talk about th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a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 Spanish.  One way is to talk about an action that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arted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nd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finishe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 the past.  This tense is called th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eteri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5" descr="C:\Program Files\Microsoft Office\Clipart\Pub60Cor\an00010_.wmf"/>
          <p:cNvPicPr/>
          <p:nvPr/>
        </p:nvPicPr>
        <p:blipFill>
          <a:blip r:embed="rId1"/>
          <a:stretch/>
        </p:blipFill>
        <p:spPr>
          <a:xfrm>
            <a:off x="1174680" y="2362320"/>
            <a:ext cx="25704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ntarse (e &gt; i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03812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me sent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te sent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se sent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nos sent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se sent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lexive verbs change in the very same way.  Just don’t forget the reflexive pronoun before the main verb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5" descr="C:\Program Files\Microsoft Office\Clipart\standard\stddir1\bd05555_.wmf"/>
          <p:cNvPicPr/>
          <p:nvPr/>
        </p:nvPicPr>
        <p:blipFill>
          <a:blip r:embed="rId1"/>
          <a:stretch/>
        </p:blipFill>
        <p:spPr>
          <a:xfrm>
            <a:off x="1017720" y="2362320"/>
            <a:ext cx="25794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3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3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3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3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3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3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bout –ER &amp; –IR verb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3812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endings are identical for –er &amp; -ir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m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yo co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ú co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él co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co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co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scribi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yo escrib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ú escrib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él escrib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escrib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escrib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Picture 7" descr="C:\Program Files\Microsoft Office\Clipart\standard\stddir1\bd05477_.wmf"/>
          <p:cNvPicPr/>
          <p:nvPr/>
        </p:nvPicPr>
        <p:blipFill>
          <a:blip r:embed="rId1"/>
          <a:stretch/>
        </p:blipFill>
        <p:spPr>
          <a:xfrm>
            <a:off x="914400" y="2728800"/>
            <a:ext cx="281952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ke a closer look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-a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-er / -i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a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i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ó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i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amo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i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ar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ie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endings are very similar, except that the –er/-ir verb endings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alway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ntain an –i- and the –ar verb endings never d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Picture 5" descr="C:\Program Files\Microsoft Office\Clipart\standard\stddir1\bd06615_.wmf"/>
          <p:cNvPicPr/>
          <p:nvPr/>
        </p:nvPicPr>
        <p:blipFill>
          <a:blip r:embed="rId1"/>
          <a:stretch/>
        </p:blipFill>
        <p:spPr>
          <a:xfrm>
            <a:off x="1371600" y="2819520"/>
            <a:ext cx="27432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t’s practice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noc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5" descr="C:\Program Files\Common Files\Microsoft Shared\Clipart\cagcat50\bd05584_.wmf"/>
          <p:cNvPicPr/>
          <p:nvPr/>
        </p:nvPicPr>
        <p:blipFill>
          <a:blip r:embed="rId1"/>
          <a:stretch/>
        </p:blipFill>
        <p:spPr>
          <a:xfrm>
            <a:off x="1477800" y="2362320"/>
            <a:ext cx="2338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oc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conoc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conoc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conoc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conoc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conoc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5" descr="C:\Program Files\Common Files\Microsoft Shared\Clipart\cagcat50\bd05584_.wmf"/>
          <p:cNvPicPr/>
          <p:nvPr/>
        </p:nvPicPr>
        <p:blipFill>
          <a:blip r:embed="rId1"/>
          <a:stretch/>
        </p:blipFill>
        <p:spPr>
          <a:xfrm>
            <a:off x="1905120" y="2362320"/>
            <a:ext cx="18237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ro verbo, por favor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cibi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8" name="Picture 5" descr="C:\Program Files\Microsoft Office\Clipart\standard\stddir4\so01579_.wmf"/>
          <p:cNvPicPr/>
          <p:nvPr/>
        </p:nvPicPr>
        <p:blipFill>
          <a:blip r:embed="rId1"/>
          <a:stretch/>
        </p:blipFill>
        <p:spPr>
          <a:xfrm>
            <a:off x="1676520" y="2514600"/>
            <a:ext cx="2385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cibi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recib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recib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recib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recib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recib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Picture 5" descr="C:\Program Files\Microsoft Office\Clipart\standard\stddir1\bd05560_.wmf"/>
          <p:cNvPicPr/>
          <p:nvPr/>
        </p:nvPicPr>
        <p:blipFill>
          <a:blip r:embed="rId1"/>
          <a:stretch/>
        </p:blipFill>
        <p:spPr>
          <a:xfrm>
            <a:off x="1149480" y="2362320"/>
            <a:ext cx="2538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ver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verb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a little bit unusual because it does not take accent mark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v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vi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v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vi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v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Picture 4" descr="C:\Program Files\Microsoft Office\Clipart\standard\stddir1\bd06221_.wmf"/>
          <p:cNvPicPr/>
          <p:nvPr/>
        </p:nvPicPr>
        <p:blipFill>
          <a:blip r:embed="rId1"/>
          <a:stretch/>
        </p:blipFill>
        <p:spPr>
          <a:xfrm>
            <a:off x="1523880" y="2514600"/>
            <a:ext cx="2727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lver (o &gt; u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Picture 5" descr="C:\Program Files\Common Files\Microsoft Shared\Clipart\cagcat50\pe03254_.wmf"/>
          <p:cNvPicPr/>
          <p:nvPr/>
        </p:nvPicPr>
        <p:blipFill>
          <a:blip r:embed="rId1"/>
          <a:stretch/>
        </p:blipFill>
        <p:spPr>
          <a:xfrm>
            <a:off x="1523880" y="2362320"/>
            <a:ext cx="274320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lver (o &gt; u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vol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vol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vol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vol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vol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tem-changing –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verbs do not change in the preterite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Picture 5" descr="C:\Program Files\Common Files\Microsoft Shared\Clipart\cagcat50\pe03254_.wmf"/>
          <p:cNvPicPr/>
          <p:nvPr/>
        </p:nvPicPr>
        <p:blipFill>
          <a:blip r:embed="rId1"/>
          <a:stretch/>
        </p:blipFill>
        <p:spPr>
          <a:xfrm>
            <a:off x="1600200" y="2438280"/>
            <a:ext cx="26668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ter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English, a preterite form looks like th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alk &gt; walk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lay &gt; play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ay &gt; sai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rive &gt; drov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e &gt; was, we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me are regular (predictable): play &gt; play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thers are irregular (unpredictable): go &gt; w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5" descr="C:\Program Files\Microsoft Office\Clipart\standard\stddir1\an01141_.wmf"/>
          <p:cNvPicPr/>
          <p:nvPr/>
        </p:nvPicPr>
        <p:blipFill>
          <a:blip r:embed="rId1"/>
          <a:stretch/>
        </p:blipFill>
        <p:spPr>
          <a:xfrm>
            <a:off x="977760" y="2362320"/>
            <a:ext cx="29084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d stem-changing –IR verb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3812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 you remember that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–i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verbs are special in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–ndo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m because they make a vowel chang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ormir (o &gt; ue) &gt;&gt; d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u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mien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rvir (e &gt; i) &gt;&gt; s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vien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eferir (e &gt; ie) &gt;&gt; pref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ien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ll, guess what?  They change in th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/ellos form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onl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yo dor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ú dor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él d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u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r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dor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d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u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r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3" name="Picture 5" descr="C:\Program Files\Microsoft Office\Clipart\Pub60Cor\an00932_.wmf"/>
          <p:cNvPicPr/>
          <p:nvPr/>
        </p:nvPicPr>
        <p:blipFill>
          <a:blip r:embed="rId1"/>
          <a:stretch/>
        </p:blipFill>
        <p:spPr>
          <a:xfrm>
            <a:off x="914400" y="2943360"/>
            <a:ext cx="289548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other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estirse (e &gt; 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me vest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te vest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se 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t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nos vest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se 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t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6" name="Picture 5" descr="C:\Program Files\Microsoft Office\Clipart\standard\stddir1\bd06634_.wmf"/>
          <p:cNvPicPr/>
          <p:nvPr/>
        </p:nvPicPr>
        <p:blipFill>
          <a:blip r:embed="rId1"/>
          <a:stretch/>
        </p:blipFill>
        <p:spPr>
          <a:xfrm>
            <a:off x="1447920" y="2362320"/>
            <a:ext cx="2741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75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75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75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75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75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75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 momento, por favor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re are three mor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dir (e &gt; 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p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d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p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d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ferir (e &gt; i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pref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r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prefir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vir (e &gt; 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s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rv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s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rv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9" name="Picture 5" descr="C:\Program Files\Microsoft Office\Clipart\standard\stddir1\bd05117_.wmf"/>
          <p:cNvPicPr/>
          <p:nvPr/>
        </p:nvPicPr>
        <p:blipFill>
          <a:blip r:embed="rId1"/>
          <a:stretch/>
        </p:blipFill>
        <p:spPr>
          <a:xfrm>
            <a:off x="1371600" y="2514600"/>
            <a:ext cx="29718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75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75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75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75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75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75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75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75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75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75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t’s practice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loria ______ (llegar) a la oficina a las 8 y ______ (empezar) a trabajar.  Primero, _______ (terminar) una carta.  Despu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és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_______ (escribir) un informe. Luego, _____ (pedir) el almuerz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2" name="Picture 5" descr="C:\Program Files\Microsoft Office\Clipart\standard\stddir1\bd00005_.wmf"/>
          <p:cNvPicPr/>
          <p:nvPr/>
        </p:nvPicPr>
        <p:blipFill>
          <a:blip r:embed="rId1"/>
          <a:stretch/>
        </p:blipFill>
        <p:spPr>
          <a:xfrm>
            <a:off x="1523880" y="2362320"/>
            <a:ext cx="2268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é tal salió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loria lle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 la oficina a las 8 y empez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 trabajar.  Primero, termi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una carta.  Despu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és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crib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un informe. Luego, pid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el almuerz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5" name="Picture 4" descr="C:\Program Files\Microsoft Office\Clipart\standard\stddir1\bd00005_.wmf"/>
          <p:cNvPicPr/>
          <p:nvPr/>
        </p:nvPicPr>
        <p:blipFill>
          <a:blip r:embed="rId1"/>
          <a:stretch/>
        </p:blipFill>
        <p:spPr>
          <a:xfrm>
            <a:off x="1523880" y="2362320"/>
            <a:ext cx="2268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o 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ás, por favor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______ (salir) de casa a las 7,30, ______ (llegar) a la oficina a las 8, y ______ (comenzar) a trabajar.  Primero, _______ (leer) varias cartas.  Despu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s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_______ (escribir) un informe. Luego, _____ (pedir) el almuerzo.  Por fin, ________ (ver) a muchas personas y ________ (hablar) con ellas.  _________ (volver) a casa a las 4,3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8" name="Picture 5" descr="C:\Program Files\Microsoft Office\Clipart\standard\stddir1\bd06126_.wmf"/>
          <p:cNvPicPr/>
          <p:nvPr/>
        </p:nvPicPr>
        <p:blipFill>
          <a:blip r:embed="rId1"/>
          <a:stretch/>
        </p:blipFill>
        <p:spPr>
          <a:xfrm>
            <a:off x="1371600" y="2438280"/>
            <a:ext cx="2209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é tal salió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sal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e casa a las 7,30,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llega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 la oficina a las 8, y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comenza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 trabajar.  Primero,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le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varias cartas.  Despu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s,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escrib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un informe. Luego,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ped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l almuerzo.  Por fin,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v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 muchas personas y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habla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n ellas. 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Volv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 casa a las 4,3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1" name="Picture 5" descr="C:\Program Files\Microsoft Office\Clipart\smbusbas\bd05380_.wmf"/>
          <p:cNvPicPr/>
          <p:nvPr/>
        </p:nvPicPr>
        <p:blipFill>
          <a:blip r:embed="rId1"/>
          <a:stretch/>
        </p:blipFill>
        <p:spPr>
          <a:xfrm>
            <a:off x="1676520" y="2438280"/>
            <a:ext cx="259056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at’s all, folks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92840" y="2361960"/>
            <a:ext cx="39225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w you are ready to work on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rregula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reterite verb for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4" name="Picture 6" descr="C:\Documents and Settings\dbricault\Local Settings\Temporary Internet Files\Content.IE5\I7SK3KP9\MC900286930[1].wmf"/>
          <p:cNvPicPr/>
          <p:nvPr/>
        </p:nvPicPr>
        <p:blipFill>
          <a:blip r:embed="rId1"/>
          <a:stretch/>
        </p:blipFill>
        <p:spPr>
          <a:xfrm>
            <a:off x="1371600" y="2895480"/>
            <a:ext cx="213192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ter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this presentation, we’ll look at the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regula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eterite ending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re’s a typical on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habl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habl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habl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habl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habl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5" descr="C:\Program Files\Common Files\Microsoft Shared\Clipart\cagcat50\bd04956_.wmf"/>
          <p:cNvPicPr/>
          <p:nvPr/>
        </p:nvPicPr>
        <p:blipFill>
          <a:blip r:embed="rId1"/>
          <a:stretch/>
        </p:blipFill>
        <p:spPr>
          <a:xfrm>
            <a:off x="914400" y="2895480"/>
            <a:ext cx="297180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75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75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75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75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75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75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75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03812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endings for –AR verbs ar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-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 -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 -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 -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 -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tice the accent marks on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yo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forms.  They are very important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Also notice that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form is the same in both the present and the preteri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5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1000080" y="2362320"/>
            <a:ext cx="25812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t’s Practice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arl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5" descr="C:\Program Files\Microsoft Office\Clipart\standard\stddir1\bd00006_.wmf"/>
          <p:cNvPicPr/>
          <p:nvPr/>
        </p:nvPicPr>
        <p:blipFill>
          <a:blip r:embed="rId1"/>
          <a:stretch/>
        </p:blipFill>
        <p:spPr>
          <a:xfrm>
            <a:off x="1181160" y="2362320"/>
            <a:ext cx="2490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l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o charl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arl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arl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arl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arl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5" descr="C:\Program Files\Common Files\Microsoft Shared\Clipart\cagcat50\bd05545_.wmf"/>
          <p:cNvPicPr/>
          <p:nvPr/>
        </p:nvPicPr>
        <p:blipFill>
          <a:blip r:embed="rId1"/>
          <a:stretch/>
        </p:blipFill>
        <p:spPr>
          <a:xfrm>
            <a:off x="1523880" y="2514600"/>
            <a:ext cx="24526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ro verbo, por favor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en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5" descr="C:\Program Files\Microsoft Office\Clipart\standard\stddir1\bd05569_.wmf"/>
          <p:cNvPicPr/>
          <p:nvPr/>
        </p:nvPicPr>
        <p:blipFill>
          <a:blip r:embed="rId1"/>
          <a:stretch/>
        </p:blipFill>
        <p:spPr>
          <a:xfrm>
            <a:off x="1295280" y="2362320"/>
            <a:ext cx="311328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en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o cen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en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en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en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en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5" descr="C:\Program Files\Microsoft Office\Clipart\standard\stddir1\bd05569_.wmf"/>
          <p:cNvPicPr/>
          <p:nvPr/>
        </p:nvPicPr>
        <p:blipFill>
          <a:blip r:embed="rId1"/>
          <a:stretch/>
        </p:blipFill>
        <p:spPr>
          <a:xfrm>
            <a:off x="1003320" y="2362320"/>
            <a:ext cx="29592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0T21:31:30Z</dcterms:created>
  <dc:creator>test</dc:creator>
  <dc:description/>
  <dc:language>en-US</dc:language>
  <cp:lastModifiedBy>dbricault</cp:lastModifiedBy>
  <dcterms:modified xsi:type="dcterms:W3CDTF">2011-02-21T13:34:29Z</dcterms:modified>
  <cp:revision>13</cp:revision>
  <dc:subject/>
  <dc:title>Preterite</dc:title>
</cp:coreProperties>
</file>