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8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arbrake.wav" ContentType="audio/x-wav"/>
  <Override PartName="/ppt/media/image16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13.wmf" ContentType="image/x-wmf"/>
  <Override PartName="/ppt/media/image1.wmf" ContentType="image/x-wmf"/>
  <Override PartName="/ppt/media/image24.wmf" ContentType="image/x-wmf"/>
  <Override PartName="/ppt/media/camera.wav" ContentType="audio/x-wav"/>
  <Override PartName="/ppt/media/image1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119-D46D-45D8-A181-272A616C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D91-0C2B-4235-BF04-3953CAC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CC1-DFF5-496A-8365-CCDC1437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7CF-D7D8-4D30-A8EC-1FD0A602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2F4C-1739-4546-8970-B756F990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56A3-07B7-4AA0-B625-E7D1383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AE8-0AC6-4C34-A8A5-B2B41EF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E3A-DCA8-42CE-8EDF-9B174B7F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3886-8BD5-4B19-A3C0-F80037A7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34B-8FC3-4A60-BA34-A7A3574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8F67-2D8C-44EB-BDFF-7F6FF1D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0EC-ECDA-47B7-9BFB-C0FA6840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24D-46E4-4730-893F-63A12FF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0F9-2D2C-412D-9726-1CED940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7551-65C8-4574-A253-C915BC2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DE70-BE82-4089-A4DA-6AC41237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DE8B-5670-42E0-9CAA-40F30146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E41-AFD7-4707-9476-486CAF3C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8F8-7DE0-4C11-BFB2-17D153F3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38B-4A71-44E1-A172-3D692BEA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B75-0929-42B4-A649-EE3EDA3A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32B-FC09-401C-ACAF-BCF3683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81C-86A3-4D56-837C-9C616D2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5FB-4F68-4D53-88C0-EB9EEF84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F80C-6B37-457E-B3E3-2D3E6ED1FF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122-6FD4-4848-BE67-9F7D6A04D2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C:\Program Files\Microsoft Office\Clipart\standard\stddir1\bd06811_.wmf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mor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s whose bases end in –zar make a spelling chang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 &gt; 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morz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Program Files\Common Files\Microsoft Shared\Clipart\cagcat50\pe01981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7" descr="C:\Program Files\Microsoft Office\Clipart\standard\stddir1\bd05477_.wmf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C:\Program Files\Microsoft Office\Clipart\standard\stddir1\bd06615_.wmf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o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oc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5" descr="C:\Program Files\Microsoft Office\Clipart\standard\stddir4\so01579_.wmf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5" descr="C:\Program Files\Microsoft Office\Clipart\standard\stddir1\bd05560_.wmf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C:\Program Files\Microsoft Office\Clipart\standard\stddir1\bd06221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C:\Program Files\Microsoft Office\Clipart\standard\stddir1\an01141_.wmf"/>
          <p:cNvPicPr/>
          <p:nvPr/>
        </p:nvPicPr>
        <p:blipFill>
          <a:blip r:embed="rId1"/>
          <a:stretch/>
        </p:blipFill>
        <p:spPr>
          <a:xfrm>
            <a:off x="977760" y="2362320"/>
            <a:ext cx="2908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5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Program Files\Microsoft Office\Clipart\standard\stddir1\bd06634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C:\Program Files\Microsoft Office\Clipart\standard\stddir1\bd05117_.wmf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5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5" descr="C:\Program Files\Microsoft Office\Clipart\standard\stddir1\bd0612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5" descr="C:\Program Files\Microsoft Office\Clipart\smbusbas\bd05380_.wmf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verb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6" descr="C:\Documents and Settings\dbricault\Local Settings\Temporary Internet Files\Content.IE5\I7SK3KP9\MC900286930[1].wmf"/>
          <p:cNvPicPr/>
          <p:nvPr/>
        </p:nvPicPr>
        <p:blipFill>
          <a:blip r:embed="rId1"/>
          <a:stretch/>
        </p:blipFill>
        <p:spPr>
          <a:xfrm>
            <a:off x="1371600" y="2895480"/>
            <a:ext cx="21319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C:\Program Files\Microsoft Office\Clipart\standard\stddir1\bd00006_.wmf"/>
          <p:cNvPicPr/>
          <p:nvPr/>
        </p:nvPicPr>
        <p:blipFill>
          <a:blip r:embed="rId1"/>
          <a:stretch/>
        </p:blipFill>
        <p:spPr>
          <a:xfrm>
            <a:off x="1181160" y="2362320"/>
            <a:ext cx="249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2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dbricault</cp:lastModifiedBy>
  <dcterms:modified xsi:type="dcterms:W3CDTF">2011-02-21T13:34:29Z</dcterms:modified>
  <cp:revision>13</cp:revision>
  <dc:subject/>
  <dc:title>Preterite</dc:title>
</cp:coreProperties>
</file>