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.wav" ContentType="audio/x-wav"/>
  <Override PartName="/ppt/media/image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3C5-0531-4063-9A36-248F55CA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21F4-0C56-4CAD-B95E-5344CD58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0FD-79F0-410B-8020-16A35444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58A-4620-4906-B1FE-2858FD55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63F6-305B-4E96-8E21-A0A6B177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BC61-40CE-48D4-8B20-7BCDB226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ABE9-D07B-404C-9A4F-8A430D99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D06F-5454-4C52-AB65-3BB34E12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6780-AFFA-4596-ABA9-8913831D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694F-5059-4FE2-B3F6-04AF6501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3BA2-5C2A-46EB-8461-CA16D1C5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BD2-6BC4-4B90-8476-82775C54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7D42-510E-46B9-A586-5896FD98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554A-BFF1-4005-B303-D0570F95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EC5F-65FC-4091-B03A-6B48F53D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9561-3290-4D3D-90F4-F573F332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8430-F2A5-452C-838B-00B6403B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7D6-8486-4BB8-8B8C-6BD2A53C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D49E-3D10-4392-AA3F-B8F4FB44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092E-24E1-4EB8-9E66-92F6BFE8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799-AB1D-4031-BCAB-0321E0D1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3027-3099-4153-B75D-04537518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B02-0053-4572-89AD-C6A54A86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F02-F867-48A4-9034-EB916990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9960-D6C2-4A01-85E0-34AC2D6221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505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AE02-BF5C-4166-B679-809B74C83490}" type="slidenum">
              <a:rPr b="0" lang="en-US" sz="14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Page 56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Unidad 1, Etapa 2</a:t>
            </a: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ouns and definite articl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king Nouns Plural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ake nouns plural you usually add  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-</a:t>
            </a:r>
            <a:r>
              <a:rPr b="0" i="1" lang="en-US" sz="3200" spc="-1" strike="noStrike">
                <a:solidFill>
                  <a:srgbClr val="c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words ending in a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vow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-</a:t>
            </a:r>
            <a:r>
              <a:rPr b="0" i="1" lang="en-US" sz="3200" spc="-1" strike="noStrike">
                <a:solidFill>
                  <a:srgbClr val="c00000"/>
                </a:solidFill>
                <a:latin typeface="Tahoma"/>
              </a:rPr>
              <a:t>es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words ending in a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consona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udiant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udiante</a:t>
            </a: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ima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imal</a:t>
            </a: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Definite Articles 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Artículos definido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E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, </a:t>
            </a: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,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Lo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La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called 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definite article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English they mean 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“the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Definite Article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(Artículos definidos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e use </a:t>
            </a:r>
            <a:r>
              <a:rPr b="0" i="1" lang="en-US" sz="4800" spc="-1" strike="noStrike">
                <a:solidFill>
                  <a:srgbClr val="ffcf01"/>
                </a:solidFill>
                <a:latin typeface="Tahoma"/>
              </a:rPr>
              <a:t>El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4800" spc="-1" strike="noStrike">
                <a:solidFill>
                  <a:srgbClr val="ffcf01"/>
                </a:solidFill>
                <a:latin typeface="Tahoma"/>
              </a:rPr>
              <a:t>Los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ith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masculin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nouns and </a:t>
            </a:r>
            <a:r>
              <a:rPr b="0" i="1" lang="en-US" sz="48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4800" spc="-1" strike="noStrike">
                <a:solidFill>
                  <a:srgbClr val="00b050"/>
                </a:solidFill>
                <a:latin typeface="Tahoma"/>
              </a:rPr>
              <a:t>Las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ith </a:t>
            </a:r>
            <a:r>
              <a:rPr b="0" lang="en-US" sz="4800" spc="-1" strike="noStrike">
                <a:solidFill>
                  <a:srgbClr val="00b050"/>
                </a:solidFill>
                <a:latin typeface="Tahoma"/>
              </a:rPr>
              <a:t>feminin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noun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Indefinite Article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Use definite articles to talk about a noun as a general category or when saying what you like with </a:t>
            </a:r>
            <a:r>
              <a:rPr b="0" i="1" lang="en-US" sz="4400" spc="-1" strike="noStrike">
                <a:solidFill>
                  <a:srgbClr val="c00000"/>
                </a:solidFill>
                <a:latin typeface="Tahoma"/>
              </a:rPr>
              <a:t>gustar</a:t>
            </a:r>
            <a:r>
              <a:rPr b="0" i="1" lang="en-US" sz="4400" spc="-1" strike="noStrike">
                <a:solidFill>
                  <a:srgbClr val="ffcf01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¿Cómo es </a:t>
            </a:r>
            <a:r>
              <a:rPr b="0" i="1" lang="en-US" sz="4400" spc="-1" strike="noStrike">
                <a:solidFill>
                  <a:srgbClr val="ffcf01"/>
                </a:solidFill>
                <a:latin typeface="Tahoma"/>
              </a:rPr>
              <a:t>l</a:t>
            </a: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a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pizza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deliciosa.  Me gusta </a:t>
            </a:r>
            <a:r>
              <a:rPr b="0" lang="en-US" sz="44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pizza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1498680" y="1828800"/>
            <a:ext cx="5546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’s a good idea t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rn a noun with i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e article,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e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o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, because that will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ually tell you th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gender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59084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2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NOUNS   (Sustantivos)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Nouns refer to people, animals, places, and thing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NOUNS    (Sustantivos)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n Spanish, nouns have gender.  They are either </a:t>
            </a:r>
            <a:r>
              <a:rPr b="0" i="1" lang="en-US" sz="4800" spc="-1" strike="noStrike">
                <a:solidFill>
                  <a:srgbClr val="ffcf01"/>
                </a:solidFill>
                <a:latin typeface="Tahoma"/>
              </a:rPr>
              <a:t>masculin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i="1" lang="en-US" sz="4800" spc="-1" strike="noStrike">
                <a:solidFill>
                  <a:srgbClr val="00b050"/>
                </a:solidFill>
                <a:latin typeface="Tahoma"/>
              </a:rPr>
              <a:t>feminine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sculine / Feminine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ost nouns that end in  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-o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re masculin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sculine / Feminine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ost nouns that end in </a:t>
            </a:r>
            <a:r>
              <a:rPr b="0" lang="en-US" sz="4800" spc="-1" strike="noStrike">
                <a:solidFill>
                  <a:srgbClr val="00b050"/>
                </a:solidFill>
                <a:latin typeface="Tahoma"/>
              </a:rPr>
              <a:t>-a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re feminin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sculine / Feminine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example: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l libr</a:t>
            </a:r>
            <a:r>
              <a:rPr b="0" lang="en-US" sz="4000" spc="-1" strike="noStrike" u="sng">
                <a:solidFill>
                  <a:srgbClr val="ffcf01"/>
                </a:solidFill>
                <a:uFillTx/>
                <a:latin typeface="Tahoma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 pizz</a:t>
            </a:r>
            <a:r>
              <a:rPr b="0" lang="en-US" sz="4000" spc="-1" strike="noStrike" u="sng">
                <a:solidFill>
                  <a:srgbClr val="00b050"/>
                </a:solidFill>
                <a:uFillTx/>
                <a:latin typeface="Tahoma"/>
              </a:rPr>
              <a:t>a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 exception:  el dí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*</a:t>
            </a:r>
            <a:r>
              <a:rPr b="0" lang="en-US" sz="1800" spc="-1" strike="noStrike">
                <a:solidFill>
                  <a:srgbClr val="ffcf01"/>
                </a:solidFill>
                <a:latin typeface="Tahoma"/>
              </a:rPr>
              <a:t>nouns that end in –ma and –pa are usually mascul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f01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and ones that end in –dad, -ción, and sión are usually femin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Other Spanish Noun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Other Spanish nouns end in </a:t>
            </a:r>
            <a:r>
              <a:rPr b="1" lang="en-US" sz="4800" spc="-1" strike="noStrike">
                <a:solidFill>
                  <a:srgbClr val="c00000"/>
                </a:solidFill>
                <a:latin typeface="Tahoma"/>
              </a:rPr>
              <a:t>-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or a </a:t>
            </a:r>
            <a:r>
              <a:rPr b="1" lang="en-US" sz="4800" spc="-1" strike="noStrike">
                <a:solidFill>
                  <a:srgbClr val="c00000"/>
                </a:solidFill>
                <a:latin typeface="Tahoma"/>
              </a:rPr>
              <a:t>consonant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Other Spanish Noun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r example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l ajedre</a:t>
            </a:r>
            <a:r>
              <a:rPr b="0" lang="en-US" sz="4800" spc="-1" strike="noStrike">
                <a:solidFill>
                  <a:srgbClr val="c00000"/>
                </a:solidFill>
                <a:latin typeface="Tahoma"/>
              </a:rPr>
              <a:t>z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el marcado</a:t>
            </a:r>
            <a:r>
              <a:rPr b="0" lang="en-US" sz="4800" spc="-1" strike="noStrike" u="sng">
                <a:solidFill>
                  <a:srgbClr val="c00000"/>
                </a:solidFill>
                <a:uFillTx/>
                <a:latin typeface="Tahoma"/>
              </a:rPr>
              <a:t>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la clas</a:t>
            </a:r>
            <a:r>
              <a:rPr b="0" lang="en-US" sz="4800" spc="-1" strike="noStrike" u="sng">
                <a:solidFill>
                  <a:srgbClr val="c00000"/>
                </a:solidFill>
                <a:uFillTx/>
                <a:latin typeface="Tahoma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la televisió</a:t>
            </a:r>
            <a:r>
              <a:rPr b="0" lang="en-US" sz="4800" spc="-1" strike="noStrike" u="sng">
                <a:solidFill>
                  <a:srgbClr val="c00000"/>
                </a:solidFill>
                <a:uFillTx/>
                <a:latin typeface="Tahoma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Other Spanish Noun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me can be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both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masculine and feminine: 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el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8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estudian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07:28Z</dcterms:created>
  <dc:creator>Tom Shirley</dc:creator>
  <dc:description/>
  <dc:language>en-US</dc:language>
  <cp:lastModifiedBy>Brian Jarrel</cp:lastModifiedBy>
  <cp:lastPrinted>2009-04-22T19:24:48Z</cp:lastPrinted>
  <dcterms:modified xsi:type="dcterms:W3CDTF">2011-09-20T19:44:05Z</dcterms:modified>
  <cp:revision>22</cp:revision>
  <dc:subject/>
  <dc:title>PowerPoint Presentation</dc:title>
</cp:coreProperties>
</file>