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.wav" ContentType="audio/x-wav"/>
  <Override PartName="/ppt/media/image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E374-617E-4151-818D-64CA2C69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7A7F-DBDB-43CC-8D50-E13FD016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1B4-9BAD-4BB9-9832-7E9A20FA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42F-16F7-4636-B598-7F3612F9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5958-B93B-4851-A9B3-2CEC0376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E909-9E3C-412C-8033-524C7426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451D-0B74-4ECF-98CC-D7E31EB3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87A5-CE87-4266-98E2-EC972E2C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B7DF-2F16-4C6E-834D-3C4417F0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C8EE-D895-40C1-9F3C-9FBAC2B3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31C1-AF41-4739-A013-EB468F5F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77A-1E9C-4AEB-BC57-AB1FD396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DDDB-2C66-4F71-B642-24B39948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3179-9CD3-4E2D-9F52-DECB8977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8955-77CC-4E7F-B0B9-03100C1A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3A43-3757-46EC-8936-1E7D626C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B6FC-528A-41D0-A58C-6087D71E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B14-DF10-494B-B148-FEE6029C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493-55F7-4F77-AF27-A946CA6F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65F-DEE3-481B-BEFC-2A9D4A94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CB5-C6EC-4DF5-98A4-E332BDD9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3CA8-4705-427E-A862-DA543EE0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E6F6-0C40-4F01-88EC-1027D5F3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B9AD-8050-4CFC-A776-C459C29C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99EC-AC0A-456C-92DA-CCDC28DAE0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505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80AE-606C-4B48-AAF4-329A0FBB67E6}" type="slidenum">
              <a:rPr b="0" lang="en-US" sz="14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Page 56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Unidad 1, Etapa 2</a:t>
            </a: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Nouns and definite articl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king Nouns Plural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ake nouns plural you usually add  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-</a:t>
            </a:r>
            <a:r>
              <a:rPr b="0" i="1" lang="en-US" sz="3200" spc="-1" strike="noStrike">
                <a:solidFill>
                  <a:srgbClr val="c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words ending in a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vow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-</a:t>
            </a:r>
            <a:r>
              <a:rPr b="0" i="1" lang="en-US" sz="3200" spc="-1" strike="noStrike">
                <a:solidFill>
                  <a:srgbClr val="c00000"/>
                </a:solidFill>
                <a:latin typeface="Tahoma"/>
              </a:rPr>
              <a:t>es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words ending in a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consona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udiant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udiante</a:t>
            </a: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ima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imal</a:t>
            </a: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Definite Articles 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Artículos definido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E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, </a:t>
            </a: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,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Lo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La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 called 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definite article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English they mean 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“the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Definite Article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(Artículos definidos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e use </a:t>
            </a:r>
            <a:r>
              <a:rPr b="0" i="1" lang="en-US" sz="4800" spc="-1" strike="noStrike">
                <a:solidFill>
                  <a:srgbClr val="ffcf01"/>
                </a:solidFill>
                <a:latin typeface="Tahoma"/>
              </a:rPr>
              <a:t>El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4800" spc="-1" strike="noStrike">
                <a:solidFill>
                  <a:srgbClr val="ffcf01"/>
                </a:solidFill>
                <a:latin typeface="Tahoma"/>
              </a:rPr>
              <a:t>Los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ith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masculin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nouns and </a:t>
            </a:r>
            <a:r>
              <a:rPr b="0" i="1" lang="en-US" sz="48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n-US" sz="4800" spc="-1" strike="noStrike">
                <a:solidFill>
                  <a:srgbClr val="00b050"/>
                </a:solidFill>
                <a:latin typeface="Tahoma"/>
              </a:rPr>
              <a:t>Las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ith </a:t>
            </a:r>
            <a:r>
              <a:rPr b="0" lang="en-US" sz="4800" spc="-1" strike="noStrike">
                <a:solidFill>
                  <a:srgbClr val="00b050"/>
                </a:solidFill>
                <a:latin typeface="Tahoma"/>
              </a:rPr>
              <a:t>feminin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noun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Indefinite Article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Use definite articles to talk about a noun as a general category or when saying what you like with </a:t>
            </a:r>
            <a:r>
              <a:rPr b="0" i="1" lang="en-US" sz="4400" spc="-1" strike="noStrike">
                <a:solidFill>
                  <a:srgbClr val="c00000"/>
                </a:solidFill>
                <a:latin typeface="Tahoma"/>
              </a:rPr>
              <a:t>gustar</a:t>
            </a:r>
            <a:r>
              <a:rPr b="0" i="1" lang="en-US" sz="4400" spc="-1" strike="noStrike">
                <a:solidFill>
                  <a:srgbClr val="ffcf01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¿Cómo es </a:t>
            </a:r>
            <a:r>
              <a:rPr b="0" i="1" lang="en-US" sz="4400" spc="-1" strike="noStrike">
                <a:solidFill>
                  <a:srgbClr val="ffcf01"/>
                </a:solidFill>
                <a:latin typeface="Tahoma"/>
              </a:rPr>
              <a:t>l</a:t>
            </a: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a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pizza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deliciosa.  Me gusta </a:t>
            </a:r>
            <a:r>
              <a:rPr b="0" lang="en-US" sz="44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pizza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"/>
          <p:cNvSpPr/>
          <p:nvPr/>
        </p:nvSpPr>
        <p:spPr>
          <a:xfrm>
            <a:off x="1498680" y="1828800"/>
            <a:ext cx="5546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t’s a good idea t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rn a noun with i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e article,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e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o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, because that will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sually tell you th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gender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159084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2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NOUNS   (Sustantivos)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Nouns refer to people, animals, places, and thing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NOUNS    (Sustantivos)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n Spanish, nouns have gender.  They are either </a:t>
            </a:r>
            <a:r>
              <a:rPr b="0" i="1" lang="en-US" sz="4800" spc="-1" strike="noStrike">
                <a:solidFill>
                  <a:srgbClr val="ffcf01"/>
                </a:solidFill>
                <a:latin typeface="Tahoma"/>
              </a:rPr>
              <a:t>masculin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i="1" lang="en-US" sz="4800" spc="-1" strike="noStrike">
                <a:solidFill>
                  <a:srgbClr val="00b050"/>
                </a:solidFill>
                <a:latin typeface="Tahoma"/>
              </a:rPr>
              <a:t>feminine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sculine / Feminine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ost nouns that end in  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-o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re masculin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sculine / Feminine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ost nouns that end in </a:t>
            </a:r>
            <a:r>
              <a:rPr b="0" lang="en-US" sz="4800" spc="-1" strike="noStrike">
                <a:solidFill>
                  <a:srgbClr val="00b050"/>
                </a:solidFill>
                <a:latin typeface="Tahoma"/>
              </a:rPr>
              <a:t>-a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re feminin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sculine / Feminine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example: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l libr</a:t>
            </a:r>
            <a:r>
              <a:rPr b="0" lang="en-US" sz="4000" spc="-1" strike="noStrike" u="sng">
                <a:solidFill>
                  <a:srgbClr val="ffcf01"/>
                </a:solidFill>
                <a:uFillTx/>
                <a:latin typeface="Tahoma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 pizz</a:t>
            </a:r>
            <a:r>
              <a:rPr b="0" lang="en-US" sz="4000" spc="-1" strike="noStrike" u="sng">
                <a:solidFill>
                  <a:srgbClr val="00b050"/>
                </a:solidFill>
                <a:uFillTx/>
                <a:latin typeface="Tahoma"/>
              </a:rPr>
              <a:t>a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 exception:  el dí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*</a:t>
            </a:r>
            <a:r>
              <a:rPr b="0" lang="en-US" sz="1800" spc="-1" strike="noStrike">
                <a:solidFill>
                  <a:srgbClr val="ffcf01"/>
                </a:solidFill>
                <a:latin typeface="Tahoma"/>
              </a:rPr>
              <a:t>nouns that end in –ma and –pa are usually mascul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f01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</a:rPr>
              <a:t>and ones that end in –dad, -ción, and sión are usually femin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Other Spanish Noun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Other Spanish nouns end in </a:t>
            </a:r>
            <a:r>
              <a:rPr b="1" lang="en-US" sz="4800" spc="-1" strike="noStrike">
                <a:solidFill>
                  <a:srgbClr val="c00000"/>
                </a:solidFill>
                <a:latin typeface="Tahoma"/>
              </a:rPr>
              <a:t>-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or a </a:t>
            </a:r>
            <a:r>
              <a:rPr b="1" lang="en-US" sz="4800" spc="-1" strike="noStrike">
                <a:solidFill>
                  <a:srgbClr val="c00000"/>
                </a:solidFill>
                <a:latin typeface="Tahoma"/>
              </a:rPr>
              <a:t>consonant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Other Spanish Noun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r example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l ajedre</a:t>
            </a:r>
            <a:r>
              <a:rPr b="0" lang="en-US" sz="4800" spc="-1" strike="noStrike">
                <a:solidFill>
                  <a:srgbClr val="c00000"/>
                </a:solidFill>
                <a:latin typeface="Tahoma"/>
              </a:rPr>
              <a:t>z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el marcado</a:t>
            </a:r>
            <a:r>
              <a:rPr b="0" lang="en-US" sz="4800" spc="-1" strike="noStrike" u="sng">
                <a:solidFill>
                  <a:srgbClr val="c00000"/>
                </a:solidFill>
                <a:uFillTx/>
                <a:latin typeface="Tahoma"/>
              </a:rPr>
              <a:t>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la clas</a:t>
            </a:r>
            <a:r>
              <a:rPr b="0" lang="en-US" sz="4800" spc="-1" strike="noStrike" u="sng">
                <a:solidFill>
                  <a:srgbClr val="c00000"/>
                </a:solidFill>
                <a:uFillTx/>
                <a:latin typeface="Tahoma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la televisió</a:t>
            </a:r>
            <a:r>
              <a:rPr b="0" lang="en-US" sz="4800" spc="-1" strike="noStrike" u="sng">
                <a:solidFill>
                  <a:srgbClr val="c00000"/>
                </a:solidFill>
                <a:uFillTx/>
                <a:latin typeface="Tahoma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Other Spanish Noun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me can be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both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masculine and feminine: 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el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8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estudian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1:07:28Z</dcterms:created>
  <dc:creator>Tom Shirley</dc:creator>
  <dc:description/>
  <dc:language>en-US</dc:language>
  <cp:lastModifiedBy>Brian Jarrel</cp:lastModifiedBy>
  <cp:lastPrinted>2009-04-22T19:24:48Z</cp:lastPrinted>
  <dcterms:modified xsi:type="dcterms:W3CDTF">2011-09-20T19:44:05Z</dcterms:modified>
  <cp:revision>22</cp:revision>
  <dc:subject/>
  <dc:title>PowerPoint Presentation</dc:title>
</cp:coreProperties>
</file>