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A5C-72C2-4628-99E9-276B3B74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C3A-F6FA-4F5D-82F8-36914190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20C-8FFC-4402-A29D-76DA952E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CEC-4784-4D96-930F-BF392D52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88BC-844A-40B1-A557-87CF3DCE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1A03-DEF5-468A-A9EB-A67055F5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2561-63E8-4E0D-8CA8-687BB00D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6AF6-19E1-4DC1-ABD7-25D33FFF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BFD0-765E-496B-B092-ABC4DA3D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AEB6-5E4A-46DA-9D4E-28D2A3F7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A9DD-8714-49F2-A13A-D7D1684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085-4DA1-4405-8A7E-0C44D1F8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8537-AB17-4845-BB0B-C80FD6D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B26E-B373-47B1-8752-7BC890C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B39A-2C1A-43D8-8E8A-0872F80D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C2E-71FB-4A80-BC58-DC9C412D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6224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142320" y="152388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8216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6224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142320" y="3956760"/>
            <a:ext cx="2837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B7CF-7A17-4EB3-926D-796CC930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DD9-D063-414F-A254-49AFDFF4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871-A3CC-438D-8CE5-70B6AE0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6E7-2100-4F57-A5DC-E72FC01A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93680" y="228240"/>
            <a:ext cx="8802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E8D-FB56-470D-B23D-8ED2F87E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5B2-98B8-4790-B033-2A355B4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98360" y="395676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A8F-30CD-4760-8316-08A6D8F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98360" y="1523880"/>
            <a:ext cx="430092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82160" y="3956760"/>
            <a:ext cx="8813880" cy="222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29A-4D53-4F8E-981E-3D325063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7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7" name="Oval 9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1000" y="16344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19240" y="365040"/>
              <a:ext cx="210960" cy="141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11" name="Oval 13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809200" y="18900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677440" y="390600"/>
              <a:ext cx="210960" cy="1411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15" name="Oval 17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821800" y="6335640"/>
              <a:ext cx="195120" cy="1317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0040" y="6537240"/>
              <a:ext cx="210960" cy="141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" name="Group 20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19" name="Oval 21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38040" y="6361200"/>
              <a:ext cx="195480" cy="1317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3" h="83">
                  <a:moveTo>
                    <a:pt x="0" y="3"/>
                  </a:moveTo>
                  <a:lnTo>
                    <a:pt x="44" y="0"/>
                  </a:lnTo>
                  <a:lnTo>
                    <a:pt x="60" y="7"/>
                  </a:lnTo>
                  <a:lnTo>
                    <a:pt x="74" y="13"/>
                  </a:lnTo>
                  <a:lnTo>
                    <a:pt x="95" y="25"/>
                  </a:lnTo>
                  <a:lnTo>
                    <a:pt x="107" y="37"/>
                  </a:lnTo>
                  <a:lnTo>
                    <a:pt x="117" y="53"/>
                  </a:lnTo>
                  <a:lnTo>
                    <a:pt x="122" y="82"/>
                  </a:lnTo>
                  <a:lnTo>
                    <a:pt x="116" y="65"/>
                  </a:lnTo>
                  <a:lnTo>
                    <a:pt x="105" y="49"/>
                  </a:lnTo>
                  <a:lnTo>
                    <a:pt x="95" y="38"/>
                  </a:lnTo>
                  <a:lnTo>
                    <a:pt x="78" y="23"/>
                  </a:lnTo>
                  <a:lnTo>
                    <a:pt x="48" y="8"/>
                  </a:lnTo>
                  <a:lnTo>
                    <a:pt x="26" y="5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206280" y="6562800"/>
              <a:ext cx="211320" cy="14112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33" h="89">
                  <a:moveTo>
                    <a:pt x="132" y="80"/>
                  </a:moveTo>
                  <a:lnTo>
                    <a:pt x="99" y="82"/>
                  </a:lnTo>
                  <a:lnTo>
                    <a:pt x="76" y="79"/>
                  </a:lnTo>
                  <a:lnTo>
                    <a:pt x="57" y="71"/>
                  </a:lnTo>
                  <a:lnTo>
                    <a:pt x="39" y="58"/>
                  </a:lnTo>
                  <a:lnTo>
                    <a:pt x="27" y="49"/>
                  </a:lnTo>
                  <a:lnTo>
                    <a:pt x="20" y="40"/>
                  </a:lnTo>
                  <a:lnTo>
                    <a:pt x="0" y="0"/>
                  </a:lnTo>
                  <a:lnTo>
                    <a:pt x="6" y="27"/>
                  </a:lnTo>
                  <a:lnTo>
                    <a:pt x="15" y="46"/>
                  </a:lnTo>
                  <a:lnTo>
                    <a:pt x="30" y="60"/>
                  </a:lnTo>
                  <a:lnTo>
                    <a:pt x="50" y="73"/>
                  </a:lnTo>
                  <a:lnTo>
                    <a:pt x="72" y="85"/>
                  </a:lnTo>
                  <a:lnTo>
                    <a:pt x="95" y="88"/>
                  </a:lnTo>
                  <a:lnTo>
                    <a:pt x="118" y="86"/>
                  </a:lnTo>
                  <a:lnTo>
                    <a:pt x="132" y="80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7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59" name="Oval 8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425520" y="16020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190440" y="3697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63" name="Oval 12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143160" y="109440"/>
              <a:ext cx="254160" cy="238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2908440" y="318960"/>
              <a:ext cx="250560" cy="239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67" name="Oval 16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336600" y="6307200"/>
              <a:ext cx="253800" cy="237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101520" y="65167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71" name="Oval 20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8731080" y="147600"/>
              <a:ext cx="254160" cy="238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8496360" y="3571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75" name="Oval 24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8832960" y="633240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8597880" y="65419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Group 27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79" name="Oval 28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5873760" y="122400"/>
              <a:ext cx="254160" cy="237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30"/>
            <p:cNvSpPr/>
            <p:nvPr/>
          </p:nvSpPr>
          <p:spPr>
            <a:xfrm>
              <a:off x="5638680" y="33192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Group 31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83" name="Oval 32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336600" y="3208320"/>
              <a:ext cx="253800" cy="238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101520" y="3417840"/>
              <a:ext cx="250920" cy="2397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Group 35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87" name="Oval 36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8807400" y="3335400"/>
              <a:ext cx="254160" cy="237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60" h="150">
                  <a:moveTo>
                    <a:pt x="0" y="3"/>
                  </a:moveTo>
                  <a:lnTo>
                    <a:pt x="29" y="0"/>
                  </a:lnTo>
                  <a:lnTo>
                    <a:pt x="55" y="8"/>
                  </a:lnTo>
                  <a:lnTo>
                    <a:pt x="83" y="19"/>
                  </a:lnTo>
                  <a:lnTo>
                    <a:pt x="106" y="34"/>
                  </a:lnTo>
                  <a:lnTo>
                    <a:pt x="127" y="55"/>
                  </a:lnTo>
                  <a:lnTo>
                    <a:pt x="143" y="78"/>
                  </a:lnTo>
                  <a:lnTo>
                    <a:pt x="155" y="107"/>
                  </a:lnTo>
                  <a:lnTo>
                    <a:pt x="159" y="138"/>
                  </a:lnTo>
                  <a:lnTo>
                    <a:pt x="155" y="149"/>
                  </a:lnTo>
                  <a:lnTo>
                    <a:pt x="153" y="134"/>
                  </a:lnTo>
                  <a:lnTo>
                    <a:pt x="146" y="101"/>
                  </a:lnTo>
                  <a:lnTo>
                    <a:pt x="134" y="78"/>
                  </a:lnTo>
                  <a:lnTo>
                    <a:pt x="117" y="58"/>
                  </a:lnTo>
                  <a:lnTo>
                    <a:pt x="97" y="40"/>
                  </a:lnTo>
                  <a:lnTo>
                    <a:pt x="74" y="25"/>
                  </a:lnTo>
                  <a:lnTo>
                    <a:pt x="50" y="15"/>
                  </a:lnTo>
                  <a:lnTo>
                    <a:pt x="27" y="7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8572680" y="3544920"/>
              <a:ext cx="250560" cy="2397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58" h="151">
                  <a:moveTo>
                    <a:pt x="157" y="146"/>
                  </a:moveTo>
                  <a:lnTo>
                    <a:pt x="128" y="150"/>
                  </a:lnTo>
                  <a:lnTo>
                    <a:pt x="101" y="141"/>
                  </a:lnTo>
                  <a:lnTo>
                    <a:pt x="74" y="130"/>
                  </a:lnTo>
                  <a:lnTo>
                    <a:pt x="52" y="115"/>
                  </a:lnTo>
                  <a:lnTo>
                    <a:pt x="30" y="94"/>
                  </a:lnTo>
                  <a:lnTo>
                    <a:pt x="15" y="70"/>
                  </a:lnTo>
                  <a:lnTo>
                    <a:pt x="3" y="41"/>
                  </a:lnTo>
                  <a:lnTo>
                    <a:pt x="0" y="10"/>
                  </a:lnTo>
                  <a:lnTo>
                    <a:pt x="3" y="0"/>
                  </a:lnTo>
                  <a:lnTo>
                    <a:pt x="5" y="15"/>
                  </a:lnTo>
                  <a:lnTo>
                    <a:pt x="12" y="47"/>
                  </a:lnTo>
                  <a:lnTo>
                    <a:pt x="24" y="70"/>
                  </a:lnTo>
                  <a:lnTo>
                    <a:pt x="41" y="91"/>
                  </a:lnTo>
                  <a:lnTo>
                    <a:pt x="61" y="109"/>
                  </a:lnTo>
                  <a:lnTo>
                    <a:pt x="83" y="123"/>
                  </a:lnTo>
                  <a:lnTo>
                    <a:pt x="107" y="134"/>
                  </a:lnTo>
                  <a:lnTo>
                    <a:pt x="129" y="142"/>
                  </a:lnTo>
                  <a:lnTo>
                    <a:pt x="149" y="144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El Verbo “Jugar” (p. 234)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panish, the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ug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used to talk about playing a sport or a g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gar is a “stem-changing verb”.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comes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ue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ll form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osot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m.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verb is also called a “boot verb.” Can you tell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 are the present tense form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410080" y="6248520"/>
            <a:ext cx="32004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04920" y="1523880"/>
            <a:ext cx="3429000" cy="44960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733920" y="3809880"/>
            <a:ext cx="3733560" cy="22100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Jugar (To Play)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4290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É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e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33920" y="152388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sotros        jug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sotros       jugá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jue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04920" y="5791320"/>
            <a:ext cx="1371600" cy="5331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657600" y="20574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365760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3657600" y="26668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3657600" y="33526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rc 14"/>
          <p:cNvSpPr/>
          <p:nvPr/>
        </p:nvSpPr>
        <p:spPr>
          <a:xfrm>
            <a:off x="2895480" y="3657600"/>
            <a:ext cx="914400" cy="2286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914400" h="228600">
                <a:moveTo>
                  <a:pt x="457200" y="0"/>
                </a:moveTo>
                <a:lnTo>
                  <a:pt x="457200" y="0"/>
                </a:lnTo>
                <a:arcTo wR="457200" hR="114300" stAng="-5400000" swAng="5400008"/>
                <a:lnTo>
                  <a:pt x="457200" y="114300"/>
                </a:lnTo>
                <a:close/>
              </a:path>
              <a:path fill="none" w="914400" h="228600">
                <a:moveTo>
                  <a:pt x="457200" y="0"/>
                </a:moveTo>
                <a:lnTo>
                  <a:pt x="457200" y="0"/>
                </a:lnTo>
                <a:arcTo wR="457200" hR="114300" stAng="-5400000" swAng="5400008"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rc 15"/>
          <p:cNvSpPr/>
          <p:nvPr/>
        </p:nvSpPr>
        <p:spPr>
          <a:xfrm flipH="1">
            <a:off x="3733920" y="3657600"/>
            <a:ext cx="761760" cy="228600"/>
          </a:xfrm>
          <a:custGeom>
            <a:avLst/>
            <a:gdLst>
              <a:gd name="textAreaLeft" fmla="*/ 381240 w 761760"/>
              <a:gd name="textAreaRight" fmla="*/ 762480 w 761760"/>
              <a:gd name="textAreaTop" fmla="*/ 0 h 228600"/>
              <a:gd name="textAreaBottom" fmla="*/ 114480 h 228600"/>
            </a:gdLst>
            <a:ahLst/>
            <a:rect l="textAreaLeft" t="textAreaTop" r="textAreaRight" b="textAreaBottom"/>
            <a:pathLst>
              <a:path stroke="0" w="762000" h="228600">
                <a:moveTo>
                  <a:pt x="381000" y="0"/>
                </a:moveTo>
                <a:lnTo>
                  <a:pt x="381000" y="0"/>
                </a:lnTo>
                <a:arcTo wR="381000" hR="114300" stAng="-5400000" swAng="5400009"/>
                <a:lnTo>
                  <a:pt x="381000" y="114300"/>
                </a:lnTo>
                <a:close/>
              </a:path>
              <a:path fill="none" w="762000" h="228600">
                <a:moveTo>
                  <a:pt x="381000" y="0"/>
                </a:moveTo>
                <a:lnTo>
                  <a:pt x="381000" y="0"/>
                </a:lnTo>
                <a:arcTo wR="381000" hR="114300" stAng="-5400000" swAng="5400009"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The Verb Jugar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y Spanish speakers always use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jugar 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the name of the sport or gam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Juegas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l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vóleib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do no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use the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Juegas vóleib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0:15:07Z</dcterms:created>
  <dc:creator>NIHS</dc:creator>
  <dc:description/>
  <dc:language>en-US</dc:language>
  <cp:lastModifiedBy>Sol Kennally</cp:lastModifiedBy>
  <dcterms:modified xsi:type="dcterms:W3CDTF">2011-05-11T23:28:31Z</dcterms:modified>
  <cp:revision>4</cp:revision>
  <dc:subject/>
  <dc:title>The Verb Jugar</dc:title>
</cp:coreProperties>
</file>