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3C0-32C2-4A4F-9D9F-3CC7CF4E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256-1CD0-4155-9BCC-53F6F6D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86E-30DD-4C72-A948-F308D79D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C02-0F98-4EC8-B40A-3834AF2D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EECC-1A02-4DEF-9CA7-B18DD2C0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D784-1D55-41EC-9652-B207E793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3C9F-2C74-4A67-8750-87E375BD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6B58-EE65-4B45-A4B0-E8B24CB6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F77C-8196-4556-BE49-DDC3D5BF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FC79-AAC7-4652-89F8-9972FF42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E3DD-E597-4C45-B47B-12B7B67E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10C-C0E4-4885-AAF4-4C20F3BC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7A18-BCCC-4625-8267-2DF8B1F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93A7-44F4-4B66-B7F1-1973B291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0ED1-B8BC-49EB-89A0-4C71D3B1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69B6-65FD-4AED-8F5A-03EB917C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D673-ED9C-4013-AF7D-B5975060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452-A026-4CC3-BA9D-A8FC55D0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F16-0D5D-4200-AE74-BD35FDB4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208-1DB7-4168-AD0F-AAB06ACE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687-B31D-4640-A741-0C8B3BD8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4D8-5F7B-42BE-A2DC-3920AEA5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0B9-4347-4179-A345-0497B0A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8AF-F14A-4818-9452-FF5F664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7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7" name="Oval 9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1000" y="16344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19240" y="365040"/>
              <a:ext cx="210960" cy="1414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11" name="Oval 13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809200" y="18900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677440" y="390600"/>
              <a:ext cx="210960" cy="1411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15" name="Oval 17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821800" y="633564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0040" y="6537240"/>
              <a:ext cx="210960" cy="1414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" name="Group 20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19" name="Oval 21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38040" y="6361200"/>
              <a:ext cx="195480" cy="1317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206280" y="6562800"/>
              <a:ext cx="211320" cy="14112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7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59" name="Oval 8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425520" y="16020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190440" y="3697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63" name="Oval 12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3143160" y="109440"/>
              <a:ext cx="254160" cy="238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2908440" y="318960"/>
              <a:ext cx="250560" cy="239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67" name="Oval 16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336600" y="6307200"/>
              <a:ext cx="253800" cy="237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101520" y="65167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71" name="Oval 20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8731080" y="147600"/>
              <a:ext cx="254160" cy="238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22"/>
            <p:cNvSpPr/>
            <p:nvPr/>
          </p:nvSpPr>
          <p:spPr>
            <a:xfrm>
              <a:off x="8496360" y="3571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75" name="Oval 24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8832960" y="633240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8597880" y="65419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Group 27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79" name="Oval 28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9"/>
            <p:cNvSpPr/>
            <p:nvPr/>
          </p:nvSpPr>
          <p:spPr>
            <a:xfrm>
              <a:off x="5873760" y="122400"/>
              <a:ext cx="254160" cy="237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30"/>
            <p:cNvSpPr/>
            <p:nvPr/>
          </p:nvSpPr>
          <p:spPr>
            <a:xfrm>
              <a:off x="5638680" y="3319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31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83" name="Oval 32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336600" y="320832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4"/>
            <p:cNvSpPr/>
            <p:nvPr/>
          </p:nvSpPr>
          <p:spPr>
            <a:xfrm>
              <a:off x="101520" y="341784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35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87" name="Oval 36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7"/>
            <p:cNvSpPr/>
            <p:nvPr/>
          </p:nvSpPr>
          <p:spPr>
            <a:xfrm>
              <a:off x="8807400" y="3335400"/>
              <a:ext cx="254160" cy="237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8"/>
            <p:cNvSpPr/>
            <p:nvPr/>
          </p:nvSpPr>
          <p:spPr>
            <a:xfrm>
              <a:off x="8572680" y="3544920"/>
              <a:ext cx="250560" cy="239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El Verbo “Jugar” (p. 234)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panish, the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ug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used to talk about playing a sport or a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gar is a “stem-changing verb”.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u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comes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ue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ll forms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osot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m. 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verb is also called a “boot verb.” Can you tell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 are the present tense form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410080" y="6248520"/>
            <a:ext cx="32004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04920" y="1523880"/>
            <a:ext cx="3429000" cy="44960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733920" y="3809880"/>
            <a:ext cx="3733560" cy="22100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Jugar (To Play)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4290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É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33920" y="152388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sotros        jug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sotros       jugá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jue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04920" y="5791320"/>
            <a:ext cx="1371600" cy="5331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657600" y="205740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365760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3657600" y="266688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3657600" y="335268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rc 14"/>
          <p:cNvSpPr/>
          <p:nvPr/>
        </p:nvSpPr>
        <p:spPr>
          <a:xfrm>
            <a:off x="2895480" y="3657600"/>
            <a:ext cx="914400" cy="2286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914400" h="228600">
                <a:moveTo>
                  <a:pt x="457200" y="0"/>
                </a:moveTo>
                <a:lnTo>
                  <a:pt x="457200" y="0"/>
                </a:lnTo>
                <a:arcTo wR="457200" hR="114300" stAng="-5400000" swAng="5400008"/>
                <a:lnTo>
                  <a:pt x="457200" y="114300"/>
                </a:lnTo>
                <a:close/>
              </a:path>
              <a:path fill="none" w="914400" h="228600">
                <a:moveTo>
                  <a:pt x="457200" y="0"/>
                </a:moveTo>
                <a:lnTo>
                  <a:pt x="457200" y="0"/>
                </a:lnTo>
                <a:arcTo wR="457200" hR="114300" stAng="-5400000" swAng="5400008"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rc 15"/>
          <p:cNvSpPr/>
          <p:nvPr/>
        </p:nvSpPr>
        <p:spPr>
          <a:xfrm flipH="1">
            <a:off x="3733920" y="3657600"/>
            <a:ext cx="761760" cy="228600"/>
          </a:xfrm>
          <a:custGeom>
            <a:avLst/>
            <a:gdLst>
              <a:gd name="textAreaLeft" fmla="*/ 381240 w 761760"/>
              <a:gd name="textAreaRight" fmla="*/ 762480 w 76176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762000" h="228600">
                <a:moveTo>
                  <a:pt x="381000" y="0"/>
                </a:moveTo>
                <a:lnTo>
                  <a:pt x="381000" y="0"/>
                </a:lnTo>
                <a:arcTo wR="381000" hR="114300" stAng="-5400000" swAng="5400009"/>
                <a:lnTo>
                  <a:pt x="381000" y="114300"/>
                </a:lnTo>
                <a:close/>
              </a:path>
              <a:path fill="none" w="762000" h="228600">
                <a:moveTo>
                  <a:pt x="381000" y="0"/>
                </a:moveTo>
                <a:lnTo>
                  <a:pt x="381000" y="0"/>
                </a:lnTo>
                <a:arcTo wR="381000" hR="114300" stAng="-5400000" swAng="5400009"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The Verb Jugar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y Spanish speakers always use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jugar 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the name of the sport or gam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Juegas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l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vóleib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do no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use the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Juegas vóleib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0:15:07Z</dcterms:created>
  <dc:creator>NIHS</dc:creator>
  <dc:description/>
  <dc:language>en-US</dc:language>
  <cp:lastModifiedBy>Sol Kennally</cp:lastModifiedBy>
  <dcterms:modified xsi:type="dcterms:W3CDTF">2011-05-11T23:28:31Z</dcterms:modified>
  <cp:revision>4</cp:revision>
  <dc:subject/>
  <dc:title>The Verb Jugar</dc:title>
</cp:coreProperties>
</file>