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E14-2B1D-4508-A339-485FAF9B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B6E-BDC3-4F62-85C2-81B4BFA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6D6-0053-4053-861F-29DE1552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13A-F97D-41C8-88BA-40B39523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EBB-F675-44EE-84C6-EDAF37FC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6D7-6EF6-4005-9736-3FF26A5D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2C5-014B-4AA3-AD2F-23DC8B7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04F-2DEC-4385-AAC2-3AF5D6A1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C8D-3FC7-41FB-8607-75D0FCF5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10E-863E-4966-85D9-4176E32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B2E-A8FF-4D2B-AAD4-E74E398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967-C537-46F1-9D60-2D35C56C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C4FA-C477-4AE2-8CD2-8783F2B1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92428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oyes ladrar los perros” de Juan Rulfo, México, 19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The image “http://www.tparents.org/Library/Moon/Photos/Mph-1954/SMMPAK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90720" y="3200400"/>
            <a:ext cx="2057400" cy="2575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e image “http://schism.ca/archives/040929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80880" y="106668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he image “http://www.jmarti.ciberia.es/homilias/01/to/15.gif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4800600" y="3048120"/>
            <a:ext cx="37227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838080"/>
            <a:ext cx="358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fama de Juan Rulfo se basa en una obra muy reducida: unos diez y siete relatos reunidos 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llano en lla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3) y una novela corta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dro Pára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43692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0"/>
            <a:ext cx="33526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ació en el sur del estado de Jalisco, México, una zona árida y pobre, y sus relatos captan magistralmente el paisaje, tanto como el habla y la miseria de la existencia humana de ese mundo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57200"/>
            <a:ext cx="82296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igo geog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ormalmente ubica su obra geográfica-mente en su región de nacimiento, Jalisco.  La parte del estado donde nació es árida, rocosa, sobria y bastante despoblada – características que se ven claramente en “No oyes ladrar los perr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79250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457200"/>
            <a:ext cx="8229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histó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vivió durante los años difíciles que siguieron a la Revolución mexicana, y aunque la guerra en sí no aparece en el cuento, el trasfondo de violencia, desesperación e incomunicación es resultado de esa luch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1066680"/>
            <a:ext cx="754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diálogos de sus obras, se percibe el ritmo melódico del español mexicano, pero su “regionalismo” nunca se degenera en simple costumbrismo, o sea, la pintura en palabras del estilo de vida de la gente de una región específica. Al contrario, su regionalismo contiene una faceta mítica que lo eleva a lo univers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 Se ve en el trasfondo de sus relatos todos los problemas históricos y económicos que afectan al campesino mexicano, pero lo que resalta en ellos es la compleja  existencia humana univer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11200" y="457200"/>
            <a:ext cx="8175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sta Verdadero o F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ulfo es famoso por haber escrito muchísimos cuentos novelas. Se puede decir que fue un escritor muy prolífico.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or lo general, las obras de Rulfo toman lugar en su país natal, Mexico.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os personajes de sus obras son de la Ciudad de Mexico.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La Revolución Mexicana influye este cuento que vamos a leer.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l regionalismo de Rulfo no es simple como la vida del campesino, al contrario, su regionalismo tiene temas universales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8:47:51Z</dcterms:created>
  <dc:creator>Ruth Ward</dc:creator>
  <dc:description/>
  <dc:language>en-US</dc:language>
  <cp:lastModifiedBy>teacher</cp:lastModifiedBy>
  <dcterms:modified xsi:type="dcterms:W3CDTF">2010-10-02T22:17:41Z</dcterms:modified>
  <cp:revision>64</cp:revision>
  <dc:subject/>
  <dc:title>PowerPoint Presentation</dc:title>
</cp:coreProperties>
</file>