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C69-F005-4822-97BE-E9A4B010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B86-4512-4940-BD12-819CF02D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E9C-0D4C-4F6E-AB64-73053E61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9BA-7906-4CD3-9F43-C2F51E19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2D7-2AD0-4B4C-B615-3CCA4C6E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450-0AD5-404D-ADF8-C1FB3C9F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018-F3C6-41FF-9199-3CCEE894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42D-DA2B-47AE-86C3-52227EE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1A8-F210-4CDF-A621-6D9DF0BE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698-5E7E-43A8-A6F6-4511C26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679-5B18-4210-B571-957453A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D52-1E50-4739-AB6E-79207034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E934-B4AA-4D6F-849A-ECC9BE41D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92428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66688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oyes ladrar los perros” de Juan Rulfo, México, 19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The image “http://www.tparents.org/Library/Moon/Photos/Mph-1954/SMMPAK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90720" y="3200400"/>
            <a:ext cx="2057400" cy="25750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The image “http://schism.ca/archives/040929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380880" y="106668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he image “http://www.jmarti.ciberia.es/homilias/01/to/15.gif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4800600" y="3048120"/>
            <a:ext cx="37227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838080"/>
            <a:ext cx="358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fama de Juan Rulfo se basa en una obra muy reducida: unos diez y siete relatos reunidos 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 llano en llam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53) y una novela corta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dro Pára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95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43692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520" y="0"/>
            <a:ext cx="335268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nació en el sur del estado de Jalisco, México, una zona árida y pobre, y sus relatos captan magistralmente el paisaje, tanto como el habla y la miseria de la existencia humana de ese mundo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457200"/>
            <a:ext cx="82296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digo geog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normalmente ubica su obra geográfica-mente en su región de nacimiento, Jalisco.  La parte del estado donde nació es árida, rocosa, sobria y bastante despoblada – características que se ven claramente en “No oyes ladrar los perr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79250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457200"/>
            <a:ext cx="82296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histó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lfo vivió durante los años difíciles que siguieron a la Revolución mexicana, y aunque la guerra en sí no aparece en el cuento, el trasfondo de violencia, desesperación e incomunicación es resultado de esa luch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0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1066680"/>
            <a:ext cx="7543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los diálogos de sus obras, se percibe el ritmo melódico del español mexicano, pero su “regionalismo” nunca se degenera en simple costumbrismo, o sea, la pintura en palabras del estilo de vida de la gente de una región específica. Al contrario, su regionalismo contiene una faceta mítica que lo eleva a lo univers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 Se ve en el trasfondo de sus relatos todos los problemas históricos y económicos que afectan al campesino mexicano, pero lo que resalta en ellos es la compleja  existencia humana univer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11200" y="457200"/>
            <a:ext cx="8175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sta Verdadero o F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ulfo es famoso por haber escrito muchísimos cuentos novelas. Se puede decir que fue un escritor muy prolífico.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or lo general, las obras de Rulfo toman lugar en su país natal, Mexico. 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os personajes de sus obras son de la Ciudad de Mexico.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La Revolución Mexicana influye este cuento que vamos a leer.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El regionalismo de Rulfo no es simple como la vida del campesino, al contrario, su regionalismo tiene temas universales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18:47:51Z</dcterms:created>
  <dc:creator>Ruth Ward</dc:creator>
  <dc:description/>
  <dc:language>en-US</dc:language>
  <cp:lastModifiedBy>teacher</cp:lastModifiedBy>
  <dcterms:modified xsi:type="dcterms:W3CDTF">2010-10-02T22:17:41Z</dcterms:modified>
  <cp:revision>64</cp:revision>
  <dc:subject/>
  <dc:title>PowerPoint Presentation</dc:title>
</cp:coreProperties>
</file>