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49C-4C67-41D8-9D79-C677AADA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0AA-03E3-4B2C-9097-84ECA8B9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57F-50FD-4217-83B1-89C15261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A38-8764-46C8-B0A3-E106E6E0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AD1-0143-4FBB-B60E-97E77B71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5A8-2CFC-49B6-BC55-4BCB9442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403-B7DB-4ED3-B99B-9B686BDA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285-05BA-413A-927D-0FCB241E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D7C-39A1-4B83-8D41-27B20989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1F4-4E61-4D77-815F-07243EC3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867-FB5F-407C-B433-C18DA91C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214-13AE-4C56-B320-9DB1AF70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AC41-D00F-4DD4-B69D-8ABC6D3E3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292428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666880" y="3049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oyes ladrar los perros” de Juan Rulfo, México, 19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The image “http://www.tparents.org/Library/Moon/Photos/Mph-1954/SMMPAK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990720" y="3200400"/>
            <a:ext cx="2057400" cy="25750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The image “http://schism.ca/archives/040929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80880" y="1066680"/>
            <a:ext cx="2210040" cy="147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The image “http://www.jmarti.ciberia.es/homilias/01/to/15.gif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4800600" y="3048120"/>
            <a:ext cx="372276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62120" y="838080"/>
            <a:ext cx="358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fama de Juan Rulfo se basa en una obra muy reducida: unos diez y siete relatos reunidos 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 llano en llam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1953) y una novela corta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dro Páram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195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43692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3520" y="0"/>
            <a:ext cx="335268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lfo nació en el sur del estado de Jalisco, México, una zona árida y pobre, y sus relatos captan magistralmente el paisaje, tanto como el habla y la miseria de la existencia humana de ese mundo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4267080" cy="335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457200"/>
            <a:ext cx="82296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digo geog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lfo normalmente ubica su obra geográfica-mente en su región de nacimiento, Jalisco.  La parte del estado donde nació es árida, rocosa, sobria y bastante despoblada – características que se ven claramente en “No oyes ladrar los perr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792504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33520" y="457200"/>
            <a:ext cx="82296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histó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lfo vivió durante los años difíciles que siguieron a la Revolución mexicana, y aunque la guerra en sí no aparece en el cuento, el trasfondo de violencia, desesperación e incomunicación es resultado de esa luch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886200" cy="305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2120" y="1066680"/>
            <a:ext cx="7543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los diálogos de sus obras, se percibe el ritmo melódico del español mexicano, pero su “regionalismo” nunca se degenera en simple costumbrismo, o sea, la pintura en palabras del estilo de vida de la gente de una región específica. Al contrario, su regionalismo contiene una faceta mítica que lo eleva a lo univers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 Se ve en el trasfondo de sus relatos todos los problemas históricos y económicos que afectan al campesino mexicano, pero lo que resalta en ellos es la compleja  existencia humana univer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11200" y="457200"/>
            <a:ext cx="8175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sta Verdadero o F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Rulfo es famoso por haber escrito muchísimos cuentos novelas. Se puede decir que fue un escritor muy prolífico.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or lo general, las obras de Rulfo toman lugar en su país natal, Mexico. 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os personajes de sus obras son de la Ciudad de Mexico.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La Revolución Mexicana influye este cuento que vamos a leer.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El regionalismo de Rulfo no es simple como la vida del campesino, al contrario, su regionalismo tiene temas universales 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18:47:51Z</dcterms:created>
  <dc:creator>Ruth Ward</dc:creator>
  <dc:description/>
  <dc:language>en-US</dc:language>
  <cp:lastModifiedBy>teacher</cp:lastModifiedBy>
  <dcterms:modified xsi:type="dcterms:W3CDTF">2010-10-02T22:17:41Z</dcterms:modified>
  <cp:revision>64</cp:revision>
  <dc:subject/>
  <dc:title>PowerPoint Presentation</dc:title>
</cp:coreProperties>
</file>