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EF5-8CAB-4E70-85F0-3F79C6EE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46B-AF81-4FB2-948B-159BBCC9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CB4-7769-4622-BDF6-96AB1638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0C3-A424-4626-BA3B-69A01851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966-0227-4A43-B292-EE4CBB2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938-445D-4334-8348-74D029FE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FD7-9592-42CE-95BB-18CCE6C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C51-A52A-4D07-8FD4-1A38F5B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5BF-E3DA-41FC-A9AB-A4E0B2C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66B-A3C9-442A-9A39-5BFF4ED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7C-92F1-43B3-98CA-110484F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718-9EB0-4E74-A8F6-4A34FE8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C96-502D-4764-8550-C37AFC60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2428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oyes ladrar los perros” de Juan Rulfo, México, 19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The image “http://www.tparents.org/Library/Moon/Photos/Mph-1954/SMMPAK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e image “http://schism.ca/archives/040929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106668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he image “http://www.jmarti.ciberia.es/homilias/01/to/15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800600" y="3048120"/>
            <a:ext cx="37227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838080"/>
            <a:ext cx="358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fama de Juan Rulfo se basa en una obra muy reducida: unos diez y siete relatos reunidos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llano en lla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3) y una novela corta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dro Pára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4369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0"/>
            <a:ext cx="33526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ació en el sur del estado de Jalisco, México, una zona árida y pobre, y sus relatos captan magistralmente el paisaje, tanto como el habla y la miseria de la existencia humana de ese mund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57200"/>
            <a:ext cx="82296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ormalmente ubica su obra geográfica-mente en su región de nacimiento, Jalisco.  La parte del estado donde nació es árida, rocosa, sobria y bastante despoblada – características que se ven claramente en “No oyes ladrar los per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79250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457200"/>
            <a:ext cx="8229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hist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vivió durante los años difíciles que siguieron a la Revolución mexicana, y aunque la guerra en sí no aparece en el cuento, el trasfondo de violencia, desesperación e incomunicación es resultado de esa luch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1066680"/>
            <a:ext cx="754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diálogos de sus obras, se percibe el ritmo melódico del español mexicano, pero su “regionalismo” nunca se degenera en simple costumbrismo, o sea, la pintura en palabras del estilo de vida de la gente de una región específica. Al contrario, su regionalismo contiene una faceta mítica que lo eleva a lo univers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 Se ve en el trasfondo de sus relatos todos los problemas históricos y económicos que afectan al campesino mexicano, pero lo que resalta en ellos es la compleja  existencia humana uni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11200" y="457200"/>
            <a:ext cx="817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sta Verdadero o F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ulfo es famoso por haber escrito muchísimos cuentos novelas. Se puede decir que fue un escritor muy prolífico.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or lo general, las obras de Rulfo toman lugar en su país natal, Mexico.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os personajes de sus obras son de la Ciudad de Mexico.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a Revolución Mexicana influye este cuento que vamos a leer.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l regionalismo de Rulfo no es simple como la vida del campesino, al contrario, su regionalismo tiene temas universales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8:47:51Z</dcterms:created>
  <dc:creator>Ruth Ward</dc:creator>
  <dc:description/>
  <dc:language>en-US</dc:language>
  <cp:lastModifiedBy>teacher</cp:lastModifiedBy>
  <dcterms:modified xsi:type="dcterms:W3CDTF">2010-10-02T22:17:41Z</dcterms:modified>
  <cp:revision>64</cp:revision>
  <dc:subject/>
  <dc:title>PowerPoint Presentation</dc:title>
</cp:coreProperties>
</file>