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8.wmf" ContentType="image/x-wmf"/>
  <Override PartName="/ppt/media/image12.wmf" ContentType="image/x-wmf"/>
  <Override PartName="/ppt/media/image2.wmf" ContentType="image/x-wmf"/>
  <Override PartName="/ppt/media/clap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44E-938F-4EBC-8132-80EAF02B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BFD-5BA1-4AE4-BBBF-C6A4408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585-3062-439E-A896-7289C78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6A6-DF1F-4F28-A94B-3E09F0D8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9B0-017A-4D66-9E90-8156CDD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DBD-B71E-4866-89BC-FAECEF6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EC1-63B4-43FC-96F7-86FA518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640-5767-453F-A4BE-EF5E506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3E5-3C21-44E8-B5B4-099CD93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226-B33E-43F8-99EE-BCEDA23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CA9-BEC1-4473-857A-3EEBE9F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10F-7ADB-48C7-9CAC-CAD45EB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04920" y="228600"/>
            <a:ext cx="8534160" cy="6400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01B5-AB97-476A-A254-5498F6E06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:\Program Files\Microsoft Office\Clipart\smbusbas\bs00082_.wmf"/>
          <p:cNvPicPr/>
          <p:nvPr/>
        </p:nvPicPr>
        <p:blipFill>
          <a:blip r:embed="rId1"/>
          <a:stretch/>
        </p:blipFill>
        <p:spPr>
          <a:xfrm>
            <a:off x="735120" y="533520"/>
            <a:ext cx="223668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Program Files\Common Files\Microsoft Shared\Clipart\cagcat50\BS00975_.wmf"/>
          <p:cNvPicPr/>
          <p:nvPr/>
        </p:nvPicPr>
        <p:blipFill>
          <a:blip r:embed="rId2"/>
          <a:stretch/>
        </p:blipFill>
        <p:spPr>
          <a:xfrm>
            <a:off x="5105520" y="638280"/>
            <a:ext cx="3289320" cy="202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Program Files\Microsoft Office\Clipart\standard\stddir2\bs00626_.wmf"/>
          <p:cNvPicPr/>
          <p:nvPr/>
        </p:nvPicPr>
        <p:blipFill>
          <a:blip r:embed="rId3"/>
          <a:stretch/>
        </p:blipFill>
        <p:spPr>
          <a:xfrm>
            <a:off x="557280" y="3846600"/>
            <a:ext cx="2262240" cy="2401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858480" y="4295880"/>
            <a:ext cx="4073040" cy="1556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l Calend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spañ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4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"/>
          <p:cNvGrpSpPr/>
          <p:nvPr/>
        </p:nvGrpSpPr>
        <p:grpSpPr>
          <a:xfrm>
            <a:off x="1371600" y="304920"/>
            <a:ext cx="6397560" cy="1241280"/>
            <a:chOff x="1371600" y="304920"/>
            <a:chExt cx="6397560" cy="1241280"/>
          </a:xfrm>
        </p:grpSpPr>
        <p:sp>
          <p:nvSpPr>
            <p:cNvPr id="155" name="Text Box 2"/>
            <p:cNvSpPr/>
            <p:nvPr/>
          </p:nvSpPr>
          <p:spPr>
            <a:xfrm>
              <a:off x="3110760" y="380880"/>
              <a:ext cx="297108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n repaso bre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r>
                <a:rPr b="0" i="1" lang="en-US" sz="2800" spc="-1" strike="noStrike" u="sng">
                  <a:solidFill>
                    <a:srgbClr val="ffffff"/>
                  </a:solidFill>
                  <a:uFillTx/>
                  <a:latin typeface="Arial"/>
                </a:rPr>
                <a:t>los número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3" descr="c:\Program Files\Microsoft Office\Clipart\standard\stddir1\bd05092_.wmf"/>
            <p:cNvPicPr/>
            <p:nvPr/>
          </p:nvPicPr>
          <p:blipFill>
            <a:blip r:embed="rId1"/>
            <a:stretch/>
          </p:blipFill>
          <p:spPr>
            <a:xfrm>
              <a:off x="13716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c:\Program Files\Microsoft Office\Clipart\standard\stddir1\bd05092_.wmf"/>
            <p:cNvPicPr/>
            <p:nvPr/>
          </p:nvPicPr>
          <p:blipFill>
            <a:blip r:embed="rId2"/>
            <a:stretch/>
          </p:blipFill>
          <p:spPr>
            <a:xfrm>
              <a:off x="6400800" y="304920"/>
              <a:ext cx="1368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11"/>
          <p:cNvGrpSpPr/>
          <p:nvPr/>
        </p:nvGrpSpPr>
        <p:grpSpPr>
          <a:xfrm>
            <a:off x="1374840" y="1814400"/>
            <a:ext cx="6597000" cy="1922760"/>
            <a:chOff x="1374840" y="1814400"/>
            <a:chExt cx="6597000" cy="1922760"/>
          </a:xfrm>
        </p:grpSpPr>
        <p:sp>
          <p:nvSpPr>
            <p:cNvPr id="159" name="Text Box 5"/>
            <p:cNvSpPr/>
            <p:nvPr/>
          </p:nvSpPr>
          <p:spPr>
            <a:xfrm>
              <a:off x="1374840" y="1814400"/>
              <a:ext cx="14839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i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ei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uar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ncu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3133440" y="1814400"/>
              <a:ext cx="1264320" cy="192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s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h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657680" y="1816200"/>
              <a:ext cx="33141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u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treinta y cua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iento noventa y nue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12"/>
          <p:cNvSpPr/>
          <p:nvPr/>
        </p:nvSpPr>
        <p:spPr>
          <a:xfrm>
            <a:off x="611280" y="419112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145160" y="502920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35320" y="586728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atr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710520" y="4038480"/>
            <a:ext cx="1721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n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40640" y="5029200"/>
            <a:ext cx="1840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642480" y="58672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t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116760" y="3962520"/>
            <a:ext cx="197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ho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574320" y="4876920"/>
            <a:ext cx="1957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vec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6725160" y="5867280"/>
            <a:ext cx="622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5"/>
          <p:cNvGrpSpPr/>
          <p:nvPr/>
        </p:nvGrpSpPr>
        <p:grpSpPr>
          <a:xfrm>
            <a:off x="609480" y="304920"/>
            <a:ext cx="8001000" cy="1523880"/>
            <a:chOff x="609480" y="304920"/>
            <a:chExt cx="8001000" cy="1523880"/>
          </a:xfrm>
        </p:grpSpPr>
        <p:sp>
          <p:nvSpPr>
            <p:cNvPr id="172" name="Text Box 2"/>
            <p:cNvSpPr/>
            <p:nvPr/>
          </p:nvSpPr>
          <p:spPr>
            <a:xfrm>
              <a:off x="2480400" y="669960"/>
              <a:ext cx="467028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os días de fiesta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3" descr="c:\Program Files\Microsoft Office\Clipart\standard\stddir1\an02339_.wmf"/>
            <p:cNvPicPr/>
            <p:nvPr/>
          </p:nvPicPr>
          <p:blipFill>
            <a:blip r:embed="rId1"/>
            <a:stretch/>
          </p:blipFill>
          <p:spPr>
            <a:xfrm>
              <a:off x="7358040" y="304920"/>
              <a:ext cx="1252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c:\Program Files\Microsoft Office\Clipart\standard\stddir1\bd05634_.wmf"/>
            <p:cNvPicPr/>
            <p:nvPr/>
          </p:nvPicPr>
          <p:blipFill>
            <a:blip r:embed="rId2"/>
            <a:stretch/>
          </p:blipFill>
          <p:spPr>
            <a:xfrm>
              <a:off x="609480" y="380880"/>
              <a:ext cx="167652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6"/>
          <p:cNvSpPr txBox="1"/>
          <p:nvPr/>
        </p:nvSpPr>
        <p:spPr>
          <a:xfrm>
            <a:off x="1447920" y="327672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286000" y="5867280"/>
            <a:ext cx="3276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l cumpleañ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5029200" y="3276720"/>
            <a:ext cx="3324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l Año Nue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5486400" y="2209680"/>
            <a:ext cx="2728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La Noche Viej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533520" y="2286000"/>
            <a:ext cx="3276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Nochebue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838080" y="4800600"/>
            <a:ext cx="653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Día de los Reyes Ma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pull dir="ru"/>
    <p:sndAc>
      <p:stSnd>
        <p:snd r:embed="rId5" name="projctor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6"/>
          <p:cNvGrpSpPr/>
          <p:nvPr/>
        </p:nvGrpSpPr>
        <p:grpSpPr>
          <a:xfrm>
            <a:off x="609480" y="380880"/>
            <a:ext cx="6307920" cy="5791320"/>
            <a:chOff x="609480" y="380880"/>
            <a:chExt cx="6307920" cy="5791320"/>
          </a:xfrm>
        </p:grpSpPr>
        <p:sp>
          <p:nvSpPr>
            <p:cNvPr id="182" name="Text Box 2"/>
            <p:cNvSpPr/>
            <p:nvPr/>
          </p:nvSpPr>
          <p:spPr>
            <a:xfrm>
              <a:off x="2275560" y="380880"/>
              <a:ext cx="4641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El día de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tu santo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3" descr="c:\Program Files\Microsoft Office\Clipart\standard\stddir2\bd07759_.wmf"/>
            <p:cNvPicPr/>
            <p:nvPr/>
          </p:nvPicPr>
          <p:blipFill>
            <a:blip r:embed="rId1"/>
            <a:stretch/>
          </p:blipFill>
          <p:spPr>
            <a:xfrm>
              <a:off x="609480" y="1905120"/>
              <a:ext cx="3562560" cy="42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4"/>
          <p:cNvSpPr/>
          <p:nvPr/>
        </p:nvSpPr>
        <p:spPr>
          <a:xfrm>
            <a:off x="4572000" y="2352600"/>
            <a:ext cx="419112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panic people are oft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fter a Cathol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often celebrat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birthday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umple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cumpleañ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ía de su s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¡Feliz día de tu sa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11280" y="533520"/>
            <a:ext cx="301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884840" y="990720"/>
            <a:ext cx="372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21520" y="1752480"/>
            <a:ext cx="394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fue ante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32560" y="2438280"/>
            <a:ext cx="4318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ho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64120" y="3276720"/>
            <a:ext cx="5029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la fecha de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753200" y="3976560"/>
            <a:ext cx="4732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do es tu cumpleañ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440240" y="4586400"/>
            <a:ext cx="406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día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43400" y="5195880"/>
            <a:ext cx="4990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Qué día es pasado maña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656440" y="5958000"/>
            <a:ext cx="423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l es tu mes favori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1" name="projctor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2"/>
          <p:cNvGrpSpPr/>
          <p:nvPr/>
        </p:nvGrpSpPr>
        <p:grpSpPr>
          <a:xfrm>
            <a:off x="380880" y="380880"/>
            <a:ext cx="8382240" cy="2971800"/>
            <a:chOff x="380880" y="380880"/>
            <a:chExt cx="8382240" cy="2971800"/>
          </a:xfrm>
        </p:grpSpPr>
        <p:sp>
          <p:nvSpPr>
            <p:cNvPr id="47" name="Rectangle 8"/>
            <p:cNvSpPr/>
            <p:nvPr/>
          </p:nvSpPr>
          <p:spPr>
            <a:xfrm>
              <a:off x="380880" y="380880"/>
              <a:ext cx="8382240" cy="2971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80880" y="380880"/>
              <a:ext cx="8382240" cy="1067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000000"/>
                  </a:solidFill>
                  <a:uFillTx/>
                  <a:latin typeface="Harrington"/>
                </a:rPr>
                <a:t>Los Días de la Seman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80880" y="23367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>
              <a:off x="15778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74320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403848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7"/>
            <p:cNvSpPr/>
            <p:nvPr/>
          </p:nvSpPr>
          <p:spPr>
            <a:xfrm>
              <a:off x="5170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8"/>
            <p:cNvSpPr/>
            <p:nvPr/>
          </p:nvSpPr>
          <p:spPr>
            <a:xfrm>
              <a:off x="63673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9"/>
            <p:cNvSpPr/>
            <p:nvPr/>
          </p:nvSpPr>
          <p:spPr>
            <a:xfrm>
              <a:off x="7566120" y="1440000"/>
              <a:ext cx="0" cy="19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339120" y="16002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1382040" y="2590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398320" y="1600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miérc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72880" y="25909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ju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4978080" y="16002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vi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6168240" y="25909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sá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7243560" y="16002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el domi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c:\Program Files\Microsoft Office\Clipart\standard\stddir2\bs00606_.wmf"/>
          <p:cNvPicPr/>
          <p:nvPr/>
        </p:nvPicPr>
        <p:blipFill>
          <a:blip r:embed="rId2"/>
          <a:stretch/>
        </p:blipFill>
        <p:spPr>
          <a:xfrm>
            <a:off x="304920" y="3962520"/>
            <a:ext cx="266688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4"/>
          <p:cNvSpPr/>
          <p:nvPr/>
        </p:nvSpPr>
        <p:spPr>
          <a:xfrm>
            <a:off x="2933640" y="3732120"/>
            <a:ext cx="58068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 of the week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ays are mascu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“el” or “los” to say “on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áb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omin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plu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sá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s do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panic calendar begin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l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8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66" name="Group 5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67" name="Picture 3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4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477120" y="4800600"/>
              <a:ext cx="2246040" cy="17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7"/>
          <p:cNvSpPr/>
          <p:nvPr/>
        </p:nvSpPr>
        <p:spPr>
          <a:xfrm>
            <a:off x="2560680" y="4267080"/>
            <a:ext cx="75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906200" y="4876920"/>
            <a:ext cx="146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70320" y="362736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9040" y="5486400"/>
            <a:ext cx="2734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ado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792800" y="3017880"/>
            <a:ext cx="156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344840" y="4267080"/>
            <a:ext cx="105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45200" y="4876920"/>
            <a:ext cx="166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354200" y="362736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344840" y="5486400"/>
            <a:ext cx="166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af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353840" y="3017880"/>
            <a:ext cx="3509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before 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6560" y="42670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9"/>
          <p:cNvGrpSpPr/>
          <p:nvPr/>
        </p:nvGrpSpPr>
        <p:grpSpPr>
          <a:xfrm>
            <a:off x="685800" y="380880"/>
            <a:ext cx="8037360" cy="6153120"/>
            <a:chOff x="685800" y="380880"/>
            <a:chExt cx="8037360" cy="6153120"/>
          </a:xfrm>
        </p:grpSpPr>
        <p:grpSp>
          <p:nvGrpSpPr>
            <p:cNvPr id="82" name="Group 3"/>
            <p:cNvGrpSpPr/>
            <p:nvPr/>
          </p:nvGrpSpPr>
          <p:grpSpPr>
            <a:xfrm>
              <a:off x="685800" y="380880"/>
              <a:ext cx="7737840" cy="1981440"/>
              <a:chOff x="685800" y="380880"/>
              <a:chExt cx="7737840" cy="1981440"/>
            </a:xfrm>
          </p:grpSpPr>
          <p:pic>
            <p:nvPicPr>
              <p:cNvPr id="83" name="Picture 4" descr="c:\Program Files\Microsoft Office\Clipart\standard\stddir1\bd07213_.wmf"/>
              <p:cNvPicPr/>
              <p:nvPr/>
            </p:nvPicPr>
            <p:blipFill>
              <a:blip r:embed="rId1"/>
              <a:stretch/>
            </p:blipFill>
            <p:spPr>
              <a:xfrm>
                <a:off x="685800" y="380880"/>
                <a:ext cx="16300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5"/>
              <p:cNvSpPr/>
              <p:nvPr/>
            </p:nvSpPr>
            <p:spPr>
              <a:xfrm>
                <a:off x="2489760" y="604800"/>
                <a:ext cx="5933880" cy="155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ás</a:t>
                </a: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 vocabulario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Arial"/>
                  </a:rPr>
                  <a:t>sobre el calendario…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Picture 6" descr="c:\Program Files\Microsoft Office\Clipart\standard\stddir2\bs01036_.wmf"/>
            <p:cNvPicPr/>
            <p:nvPr/>
          </p:nvPicPr>
          <p:blipFill>
            <a:blip r:embed="rId2"/>
            <a:stretch/>
          </p:blipFill>
          <p:spPr>
            <a:xfrm>
              <a:off x="6629400" y="4917960"/>
              <a:ext cx="2093760" cy="161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7"/>
          <p:cNvSpPr/>
          <p:nvPr/>
        </p:nvSpPr>
        <p:spPr>
          <a:xfrm>
            <a:off x="345600" y="3687840"/>
            <a:ext cx="346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que v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448280" y="4297320"/>
            <a:ext cx="237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l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4160" y="3048120"/>
            <a:ext cx="3091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emana pa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37960" y="548640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rim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008720" y="2438280"/>
            <a:ext cx="2794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797720" y="3687840"/>
            <a:ext cx="178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795560" y="4297320"/>
            <a:ext cx="1726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07080" y="3048120"/>
            <a:ext cx="16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98080" y="5486400"/>
            <a:ext cx="17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07800" y="2438280"/>
            <a:ext cx="2199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4069080" y="403848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132000" y="489096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809240" y="4876920"/>
            <a:ext cx="8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3" name="projctor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643400" y="403200"/>
            <a:ext cx="588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del añ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838080" y="1295280"/>
            <a:ext cx="2971800" cy="2210760"/>
            <a:chOff x="838080" y="1295280"/>
            <a:chExt cx="2971800" cy="2210760"/>
          </a:xfrm>
        </p:grpSpPr>
        <p:pic>
          <p:nvPicPr>
            <p:cNvPr id="101" name="Picture 2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838080" y="1295280"/>
              <a:ext cx="29718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1506240" y="3046320"/>
              <a:ext cx="1567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invie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5791320" y="1066680"/>
            <a:ext cx="2057400" cy="2439360"/>
            <a:chOff x="5791320" y="1066680"/>
            <a:chExt cx="2057400" cy="2439360"/>
          </a:xfrm>
        </p:grpSpPr>
        <p:pic>
          <p:nvPicPr>
            <p:cNvPr id="104" name="Picture 3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5791320" y="1066680"/>
              <a:ext cx="2057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5935680" y="3046320"/>
              <a:ext cx="1857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primav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1295280" y="3886200"/>
            <a:ext cx="2024280" cy="2591640"/>
            <a:chOff x="1295280" y="3886200"/>
            <a:chExt cx="2024280" cy="2591640"/>
          </a:xfrm>
        </p:grpSpPr>
        <p:pic>
          <p:nvPicPr>
            <p:cNvPr id="107" name="Picture 4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295280" y="3886200"/>
              <a:ext cx="2024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/>
            <p:cNvSpPr/>
            <p:nvPr/>
          </p:nvSpPr>
          <p:spPr>
            <a:xfrm>
              <a:off x="1573200" y="6018120"/>
              <a:ext cx="1433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vera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6141960" y="3886200"/>
            <a:ext cx="1478160" cy="2591640"/>
            <a:chOff x="6141960" y="3886200"/>
            <a:chExt cx="1478160" cy="2591640"/>
          </a:xfrm>
        </p:grpSpPr>
        <p:pic>
          <p:nvPicPr>
            <p:cNvPr id="110" name="Picture 5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141960" y="3886200"/>
              <a:ext cx="14781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229080" y="6018120"/>
              <a:ext cx="1264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oto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8"/>
          <p:cNvGrpSpPr/>
          <p:nvPr/>
        </p:nvGrpSpPr>
        <p:grpSpPr>
          <a:xfrm>
            <a:off x="1295280" y="487440"/>
            <a:ext cx="2210040" cy="2712960"/>
            <a:chOff x="1295280" y="487440"/>
            <a:chExt cx="2210040" cy="2712960"/>
          </a:xfrm>
        </p:grpSpPr>
        <p:pic>
          <p:nvPicPr>
            <p:cNvPr id="113" name="Picture 3" descr="c:\Program Files\Microsoft Office\Clipart\Pub60Cor\dd00297_.wmf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22100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1692720" y="487440"/>
              <a:ext cx="1500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c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br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6019920" y="380880"/>
            <a:ext cx="1600200" cy="2755080"/>
            <a:chOff x="6019920" y="380880"/>
            <a:chExt cx="1600200" cy="2755080"/>
          </a:xfrm>
        </p:grpSpPr>
        <p:pic>
          <p:nvPicPr>
            <p:cNvPr id="116" name="Picture 6" descr="c:\Program Files\Microsoft Office\Clipart\standard\stddir3\na01014_.wmf"/>
            <p:cNvPicPr/>
            <p:nvPr/>
          </p:nvPicPr>
          <p:blipFill>
            <a:blip r:embed="rId2"/>
            <a:stretch/>
          </p:blipFill>
          <p:spPr>
            <a:xfrm>
              <a:off x="6019920" y="380880"/>
              <a:ext cx="160020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6285240" y="1944720"/>
              <a:ext cx="1028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r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br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20"/>
          <p:cNvGrpSpPr/>
          <p:nvPr/>
        </p:nvGrpSpPr>
        <p:grpSpPr>
          <a:xfrm>
            <a:off x="1676520" y="3544920"/>
            <a:ext cx="1498320" cy="3008160"/>
            <a:chOff x="1676520" y="3544920"/>
            <a:chExt cx="1498320" cy="3008160"/>
          </a:xfrm>
        </p:grpSpPr>
        <p:pic>
          <p:nvPicPr>
            <p:cNvPr id="119" name="Picture 9" descr="c:\Program Files\Microsoft Office\Clipart\Pub60Cor\pe00542_.wmf"/>
            <p:cNvPicPr/>
            <p:nvPr/>
          </p:nvPicPr>
          <p:blipFill>
            <a:blip r:embed="rId3"/>
            <a:stretch/>
          </p:blipFill>
          <p:spPr>
            <a:xfrm>
              <a:off x="1676520" y="5029200"/>
              <a:ext cx="1498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1893240" y="3544920"/>
              <a:ext cx="10951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n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ul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o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941800" y="3657600"/>
            <a:ext cx="1688040" cy="2713680"/>
            <a:chOff x="5941800" y="3657600"/>
            <a:chExt cx="1688040" cy="2713680"/>
          </a:xfrm>
        </p:grpSpPr>
        <p:pic>
          <p:nvPicPr>
            <p:cNvPr id="122" name="Picture 12" descr="c:\Program Files\Microsoft Office\Clipart\standard\stddir4\so02950_.wmf"/>
            <p:cNvPicPr/>
            <p:nvPr/>
          </p:nvPicPr>
          <p:blipFill>
            <a:blip r:embed="rId4"/>
            <a:stretch/>
          </p:blipFill>
          <p:spPr>
            <a:xfrm>
              <a:off x="6248520" y="365760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7"/>
            <p:cNvSpPr/>
            <p:nvPr/>
          </p:nvSpPr>
          <p:spPr>
            <a:xfrm>
              <a:off x="5941800" y="5180040"/>
              <a:ext cx="16880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pt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ctu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viem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  <p:sndAc>
      <p:stSnd>
        <p:snd r:embed="rId5" name="projctor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37600" y="380880"/>
            <a:ext cx="690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 estaciones y los mes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c:\Program Files\Common Files\Microsoft Shared\Clipart\cagcat50\BD04924_.WMF"/>
          <p:cNvPicPr/>
          <p:nvPr/>
        </p:nvPicPr>
        <p:blipFill>
          <a:blip r:embed="rId1"/>
          <a:stretch/>
        </p:blipFill>
        <p:spPr>
          <a:xfrm>
            <a:off x="5638680" y="23842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3520" y="2381400"/>
            <a:ext cx="48924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 and month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d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, except after “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mavera” is the on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inine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spelling / 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778120" y="9637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eas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6240" y="9637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1"/>
          <p:cNvGrpSpPr/>
          <p:nvPr/>
        </p:nvGrpSpPr>
        <p:grpSpPr>
          <a:xfrm>
            <a:off x="1545480" y="299880"/>
            <a:ext cx="6078600" cy="1702080"/>
            <a:chOff x="1545480" y="299880"/>
            <a:chExt cx="6078600" cy="1702080"/>
          </a:xfrm>
        </p:grpSpPr>
        <p:pic>
          <p:nvPicPr>
            <p:cNvPr id="130" name="Picture 2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3505320" y="1066680"/>
              <a:ext cx="205740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"/>
            <p:cNvSpPr/>
            <p:nvPr/>
          </p:nvSpPr>
          <p:spPr>
            <a:xfrm>
              <a:off x="1545480" y="299880"/>
              <a:ext cx="6078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¿Cuál es </a:t>
              </a:r>
              <a:r>
                <a:rPr b="0" i="1" lang="en-US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la fecha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 de hoy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4"/>
          <p:cNvSpPr/>
          <p:nvPr/>
        </p:nvSpPr>
        <p:spPr>
          <a:xfrm>
            <a:off x="382680" y="2160720"/>
            <a:ext cx="79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688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35680" y="2158920"/>
            <a:ext cx="6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05920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419200" y="2158920"/>
            <a:ext cx="1387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120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11696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7872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184000" y="2158920"/>
            <a:ext cx="1169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326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652080" y="2158920"/>
            <a:ext cx="81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469640" y="2158920"/>
            <a:ext cx="388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850520" y="2158920"/>
            <a:ext cx="87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405800" y="2895480"/>
            <a:ext cx="542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15 de octubre de 19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ñana es el 23 de mayo de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ayer fue el 10 de abril de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1407600" y="4876920"/>
            <a:ext cx="628884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owev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25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ado mañana es el 2 de juli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610560" y="1676520"/>
            <a:ext cx="7735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primero”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the first day of any mon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39320" y="2209680"/>
            <a:ext cx="59972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enero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umpleaños es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ag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505320"/>
            <a:ext cx="661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ate,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es fir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902240" y="4089240"/>
            <a:ext cx="445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4 de julio de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/ 7 / 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 . 7 .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2350080" y="380880"/>
            <a:ext cx="4470840" cy="6172200"/>
            <a:chOff x="2350080" y="380880"/>
            <a:chExt cx="4470840" cy="6172200"/>
          </a:xfrm>
        </p:grpSpPr>
        <p:sp>
          <p:nvSpPr>
            <p:cNvPr id="152" name="Text Box 6"/>
            <p:cNvSpPr/>
            <p:nvPr/>
          </p:nvSpPr>
          <p:spPr>
            <a:xfrm>
              <a:off x="2350080" y="380880"/>
              <a:ext cx="4470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La fecha (cont’d)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Picture 7" descr="c:\Program Files\Microsoft Office\Clipart\WebArt\bs00569a.gif"/>
            <p:cNvPicPr/>
            <p:nvPr/>
          </p:nvPicPr>
          <p:blipFill>
            <a:blip r:embed="rId1"/>
            <a:stretch/>
          </p:blipFill>
          <p:spPr>
            <a:xfrm>
              <a:off x="3095640" y="5089680"/>
              <a:ext cx="300024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  <p:sndAc>
      <p:stSnd>
        <p:snd r:embed="rId2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0:41:34Z</dcterms:created>
  <dc:creator>Saint John's Hgh School</dc:creator>
  <dc:description/>
  <dc:language>en-US</dc:language>
  <cp:lastModifiedBy>Sol Kennally</cp:lastModifiedBy>
  <dcterms:modified xsi:type="dcterms:W3CDTF">2010-09-16T23:56:56Z</dcterms:modified>
  <cp:revision>68</cp:revision>
  <dc:subject/>
  <dc:title>PowerPoint Presentation</dc:title>
</cp:coreProperties>
</file>