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1.wmf" ContentType="image/x-wmf"/>
  <Override PartName="/ppt/media/projctor.wav" ContentType="audio/x-wav"/>
  <Override PartName="/ppt/media/image8.wmf" ContentType="image/x-wmf"/>
  <Override PartName="/ppt/media/image12.wmf" ContentType="image/x-wmf"/>
  <Override PartName="/ppt/media/image2.wmf" ContentType="image/x-wmf"/>
  <Override PartName="/ppt/media/clap.wav" ContentType="audio/x-wav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4F7-90D8-47E2-A29F-7C2ABDFA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195-626B-4D87-A5FB-BC1DAB49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6D8-B582-4E6A-900D-CBF74DF6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24A-C8B7-437F-B68C-551A02F3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351-CEC2-453D-A78D-9291581F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A37-2384-4A3C-AE5A-A897F020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238-77A6-41EE-94F9-FAF101C4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5A2-05E5-4DB4-A424-EEB1DBEF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946-C412-4AAB-9358-0643A068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74C-07AD-4914-B09C-8471B477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BD3-3727-4AFB-9A0F-09F947D6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4E4-3A5D-4B27-8AF5-4C9DE650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5e0000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13A5-3CE3-4FF6-B45C-68E1123FA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projctor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:\Program Files\Microsoft Office\Clipart\smbusbas\bs00082_.wmf"/>
          <p:cNvPicPr/>
          <p:nvPr/>
        </p:nvPicPr>
        <p:blipFill>
          <a:blip r:embed="rId1"/>
          <a:stretch/>
        </p:blipFill>
        <p:spPr>
          <a:xfrm>
            <a:off x="735120" y="533520"/>
            <a:ext cx="223668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:\Program Files\Common Files\Microsoft Shared\Clipart\cagcat50\BS00975_.wmf"/>
          <p:cNvPicPr/>
          <p:nvPr/>
        </p:nvPicPr>
        <p:blipFill>
          <a:blip r:embed="rId2"/>
          <a:stretch/>
        </p:blipFill>
        <p:spPr>
          <a:xfrm>
            <a:off x="5105520" y="638280"/>
            <a:ext cx="3289320" cy="2028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:\Program Files\Microsoft Office\Clipart\standard\stddir2\bs00626_.wmf"/>
          <p:cNvPicPr/>
          <p:nvPr/>
        </p:nvPicPr>
        <p:blipFill>
          <a:blip r:embed="rId3"/>
          <a:stretch/>
        </p:blipFill>
        <p:spPr>
          <a:xfrm>
            <a:off x="557280" y="3846600"/>
            <a:ext cx="2262240" cy="2401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3858480" y="4295880"/>
            <a:ext cx="4073040" cy="1556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l Calendar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spañ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4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0"/>
          <p:cNvGrpSpPr/>
          <p:nvPr/>
        </p:nvGrpSpPr>
        <p:grpSpPr>
          <a:xfrm>
            <a:off x="1371600" y="304920"/>
            <a:ext cx="6397560" cy="1241280"/>
            <a:chOff x="1371600" y="304920"/>
            <a:chExt cx="6397560" cy="1241280"/>
          </a:xfrm>
        </p:grpSpPr>
        <p:sp>
          <p:nvSpPr>
            <p:cNvPr id="155" name="Text Box 2"/>
            <p:cNvSpPr/>
            <p:nvPr/>
          </p:nvSpPr>
          <p:spPr>
            <a:xfrm>
              <a:off x="3110760" y="380880"/>
              <a:ext cx="297108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n repaso brev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e </a:t>
              </a:r>
              <a:r>
                <a:rPr b="0" i="1" lang="en-US" sz="2800" spc="-1" strike="noStrike" u="sng">
                  <a:solidFill>
                    <a:srgbClr val="ffffff"/>
                  </a:solidFill>
                  <a:uFillTx/>
                  <a:latin typeface="Arial"/>
                </a:rPr>
                <a:t>los número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Picture 3" descr="c:\Program Files\Microsoft Office\Clipart\standard\stddir1\bd05092_.wmf"/>
            <p:cNvPicPr/>
            <p:nvPr/>
          </p:nvPicPr>
          <p:blipFill>
            <a:blip r:embed="rId1"/>
            <a:stretch/>
          </p:blipFill>
          <p:spPr>
            <a:xfrm>
              <a:off x="1371600" y="304920"/>
              <a:ext cx="136836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" descr="c:\Program Files\Microsoft Office\Clipart\standard\stddir1\bd05092_.wmf"/>
            <p:cNvPicPr/>
            <p:nvPr/>
          </p:nvPicPr>
          <p:blipFill>
            <a:blip r:embed="rId2"/>
            <a:stretch/>
          </p:blipFill>
          <p:spPr>
            <a:xfrm>
              <a:off x="6400800" y="304920"/>
              <a:ext cx="1368360" cy="124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Group 11"/>
          <p:cNvGrpSpPr/>
          <p:nvPr/>
        </p:nvGrpSpPr>
        <p:grpSpPr>
          <a:xfrm>
            <a:off x="1374840" y="1814400"/>
            <a:ext cx="6597000" cy="1922760"/>
            <a:chOff x="1374840" y="1814400"/>
            <a:chExt cx="6597000" cy="1922760"/>
          </a:xfrm>
        </p:grpSpPr>
        <p:sp>
          <p:nvSpPr>
            <p:cNvPr id="159" name="Text Box 5"/>
            <p:cNvSpPr/>
            <p:nvPr/>
          </p:nvSpPr>
          <p:spPr>
            <a:xfrm>
              <a:off x="1374840" y="1814400"/>
              <a:ext cx="1483920" cy="192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i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ei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uar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ncu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>
              <a:off x="3133440" y="1814400"/>
              <a:ext cx="1264320" cy="192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s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t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ch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v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9"/>
            <p:cNvSpPr/>
            <p:nvPr/>
          </p:nvSpPr>
          <p:spPr>
            <a:xfrm>
              <a:off x="4657680" y="1816200"/>
              <a:ext cx="331416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to u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to treinta y cuat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to noventa y nue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Text Box 12"/>
          <p:cNvSpPr/>
          <p:nvPr/>
        </p:nvSpPr>
        <p:spPr>
          <a:xfrm>
            <a:off x="611280" y="4191120"/>
            <a:ext cx="1788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os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145160" y="502920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res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35320" y="5867280"/>
            <a:ext cx="217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uatro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3710520" y="4038480"/>
            <a:ext cx="1721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in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040640" y="5029200"/>
            <a:ext cx="1840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is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3642480" y="5867280"/>
            <a:ext cx="185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te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6116760" y="3962520"/>
            <a:ext cx="197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cho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6574320" y="4876920"/>
            <a:ext cx="1957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ve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6725160" y="5867280"/>
            <a:ext cx="622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9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5"/>
          <p:cNvGrpSpPr/>
          <p:nvPr/>
        </p:nvGrpSpPr>
        <p:grpSpPr>
          <a:xfrm>
            <a:off x="609480" y="304920"/>
            <a:ext cx="8001000" cy="1523880"/>
            <a:chOff x="609480" y="304920"/>
            <a:chExt cx="8001000" cy="1523880"/>
          </a:xfrm>
        </p:grpSpPr>
        <p:sp>
          <p:nvSpPr>
            <p:cNvPr id="172" name="Text Box 2"/>
            <p:cNvSpPr/>
            <p:nvPr/>
          </p:nvSpPr>
          <p:spPr>
            <a:xfrm>
              <a:off x="2480400" y="669960"/>
              <a:ext cx="467028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Los días de fiest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Picture 3" descr="c:\Program Files\Microsoft Office\Clipart\standard\stddir1\an02339_.wmf"/>
            <p:cNvPicPr/>
            <p:nvPr/>
          </p:nvPicPr>
          <p:blipFill>
            <a:blip r:embed="rId1"/>
            <a:stretch/>
          </p:blipFill>
          <p:spPr>
            <a:xfrm>
              <a:off x="7358040" y="304920"/>
              <a:ext cx="1252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4" descr="c:\Program Files\Microsoft Office\Clipart\standard\stddir1\bd05634_.wmf"/>
            <p:cNvPicPr/>
            <p:nvPr/>
          </p:nvPicPr>
          <p:blipFill>
            <a:blip r:embed="rId2"/>
            <a:stretch/>
          </p:blipFill>
          <p:spPr>
            <a:xfrm>
              <a:off x="609480" y="380880"/>
              <a:ext cx="1676520" cy="136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WordArt 6"/>
          <p:cNvSpPr txBox="1"/>
          <p:nvPr/>
        </p:nvSpPr>
        <p:spPr>
          <a:xfrm>
            <a:off x="1447920" y="3276720"/>
            <a:ext cx="279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a Nav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2286000" y="5867280"/>
            <a:ext cx="3276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El cumpleaño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WordArt 8"/>
          <p:cNvSpPr txBox="1"/>
          <p:nvPr/>
        </p:nvSpPr>
        <p:spPr>
          <a:xfrm>
            <a:off x="5029200" y="3276720"/>
            <a:ext cx="33242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El Año Nuev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WordArt 9"/>
          <p:cNvSpPr txBox="1"/>
          <p:nvPr/>
        </p:nvSpPr>
        <p:spPr>
          <a:xfrm>
            <a:off x="5486400" y="2209680"/>
            <a:ext cx="27288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La Noche Viej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WordArt 10"/>
          <p:cNvSpPr txBox="1"/>
          <p:nvPr/>
        </p:nvSpPr>
        <p:spPr>
          <a:xfrm>
            <a:off x="533520" y="2286000"/>
            <a:ext cx="3276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Nochebuen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WordArt 11"/>
          <p:cNvSpPr txBox="1"/>
          <p:nvPr/>
        </p:nvSpPr>
        <p:spPr>
          <a:xfrm>
            <a:off x="838080" y="4800600"/>
            <a:ext cx="653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l Día de los Reyes Mag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pull dir="ru"/>
    <p:sndAc>
      <p:stSnd>
        <p:snd r:embed="rId5" name="projctor.wav"/>
      </p:stSnd>
    </p:sndAc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6"/>
          <p:cNvGrpSpPr/>
          <p:nvPr/>
        </p:nvGrpSpPr>
        <p:grpSpPr>
          <a:xfrm>
            <a:off x="609480" y="380880"/>
            <a:ext cx="6307920" cy="5791320"/>
            <a:chOff x="609480" y="380880"/>
            <a:chExt cx="6307920" cy="5791320"/>
          </a:xfrm>
        </p:grpSpPr>
        <p:sp>
          <p:nvSpPr>
            <p:cNvPr id="182" name="Text Box 2"/>
            <p:cNvSpPr/>
            <p:nvPr/>
          </p:nvSpPr>
          <p:spPr>
            <a:xfrm>
              <a:off x="2275560" y="380880"/>
              <a:ext cx="46418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El día de </a:t>
              </a:r>
              <a:r>
                <a:rPr b="0" i="1" lang="en-US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tu santo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Picture 3" descr="c:\Program Files\Microsoft Office\Clipart\standard\stddir2\bd07759_.wmf"/>
            <p:cNvPicPr/>
            <p:nvPr/>
          </p:nvPicPr>
          <p:blipFill>
            <a:blip r:embed="rId1"/>
            <a:stretch/>
          </p:blipFill>
          <p:spPr>
            <a:xfrm>
              <a:off x="609480" y="1905120"/>
              <a:ext cx="3562560" cy="426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Text Box 4"/>
          <p:cNvSpPr/>
          <p:nvPr/>
        </p:nvSpPr>
        <p:spPr>
          <a:xfrm>
            <a:off x="4572000" y="2352600"/>
            <a:ext cx="419112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panic people are ofte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d after a Catholi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often celebrate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birthday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 cumple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¡Feliz cumpleañ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día de su sa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¡Feliz día de tu san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projctor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7500"/>
                            </p:stCondLst>
                            <p:childTnLst>
                              <p:par>
                                <p:cTn id="58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611280" y="533520"/>
            <a:ext cx="3010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es ho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4884840" y="990720"/>
            <a:ext cx="3722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es maña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21520" y="1752480"/>
            <a:ext cx="394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fue anteay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832560" y="2438280"/>
            <a:ext cx="4318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la fecha de ho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64120" y="3276720"/>
            <a:ext cx="5029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la fecha de maña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753200" y="3976560"/>
            <a:ext cx="4732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ndo es tu cumpleañ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440240" y="4586400"/>
            <a:ext cx="406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tu día favori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743400" y="5195880"/>
            <a:ext cx="4990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es pasado maña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2656440" y="5958000"/>
            <a:ext cx="4237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tu mes favori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1" name="projctor.wav"/>
      </p:stSnd>
    </p:sndAc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32"/>
          <p:cNvGrpSpPr/>
          <p:nvPr/>
        </p:nvGrpSpPr>
        <p:grpSpPr>
          <a:xfrm>
            <a:off x="380880" y="380880"/>
            <a:ext cx="8382240" cy="2971800"/>
            <a:chOff x="380880" y="380880"/>
            <a:chExt cx="8382240" cy="2971800"/>
          </a:xfrm>
        </p:grpSpPr>
        <p:sp>
          <p:nvSpPr>
            <p:cNvPr id="47" name="Rectangle 8"/>
            <p:cNvSpPr/>
            <p:nvPr/>
          </p:nvSpPr>
          <p:spPr>
            <a:xfrm>
              <a:off x="380880" y="380880"/>
              <a:ext cx="8382240" cy="2971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80880" y="380880"/>
              <a:ext cx="8382240" cy="1067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 u="sng">
                  <a:solidFill>
                    <a:srgbClr val="000000"/>
                  </a:solidFill>
                  <a:uFillTx/>
                  <a:latin typeface="Harrington"/>
                </a:rPr>
                <a:t>Los Días de la Seman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10"/>
            <p:cNvSpPr/>
            <p:nvPr/>
          </p:nvSpPr>
          <p:spPr>
            <a:xfrm>
              <a:off x="380880" y="233676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14"/>
            <p:cNvSpPr/>
            <p:nvPr/>
          </p:nvSpPr>
          <p:spPr>
            <a:xfrm>
              <a:off x="157788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5"/>
            <p:cNvSpPr/>
            <p:nvPr/>
          </p:nvSpPr>
          <p:spPr>
            <a:xfrm>
              <a:off x="274320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6"/>
            <p:cNvSpPr/>
            <p:nvPr/>
          </p:nvSpPr>
          <p:spPr>
            <a:xfrm>
              <a:off x="403848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7"/>
            <p:cNvSpPr/>
            <p:nvPr/>
          </p:nvSpPr>
          <p:spPr>
            <a:xfrm>
              <a:off x="517032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8"/>
            <p:cNvSpPr/>
            <p:nvPr/>
          </p:nvSpPr>
          <p:spPr>
            <a:xfrm>
              <a:off x="636732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9"/>
            <p:cNvSpPr/>
            <p:nvPr/>
          </p:nvSpPr>
          <p:spPr>
            <a:xfrm>
              <a:off x="756612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25"/>
          <p:cNvSpPr/>
          <p:nvPr/>
        </p:nvSpPr>
        <p:spPr>
          <a:xfrm>
            <a:off x="339120" y="160020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l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6"/>
          <p:cNvSpPr/>
          <p:nvPr/>
        </p:nvSpPr>
        <p:spPr>
          <a:xfrm>
            <a:off x="1382040" y="2590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m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7"/>
          <p:cNvSpPr/>
          <p:nvPr/>
        </p:nvSpPr>
        <p:spPr>
          <a:xfrm>
            <a:off x="2398320" y="16002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miérc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8"/>
          <p:cNvSpPr/>
          <p:nvPr/>
        </p:nvSpPr>
        <p:spPr>
          <a:xfrm>
            <a:off x="3872880" y="259092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jue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9"/>
          <p:cNvSpPr/>
          <p:nvPr/>
        </p:nvSpPr>
        <p:spPr>
          <a:xfrm>
            <a:off x="4978080" y="16002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vi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0"/>
          <p:cNvSpPr/>
          <p:nvPr/>
        </p:nvSpPr>
        <p:spPr>
          <a:xfrm>
            <a:off x="6168240" y="259092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sá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1"/>
          <p:cNvSpPr/>
          <p:nvPr/>
        </p:nvSpPr>
        <p:spPr>
          <a:xfrm>
            <a:off x="7243560" y="16002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domin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3" descr="c:\Program Files\Microsoft Office\Clipart\standard\stddir2\bs00606_.wmf"/>
          <p:cNvPicPr/>
          <p:nvPr/>
        </p:nvPicPr>
        <p:blipFill>
          <a:blip r:embed="rId2"/>
          <a:stretch/>
        </p:blipFill>
        <p:spPr>
          <a:xfrm>
            <a:off x="304920" y="3962520"/>
            <a:ext cx="2666880" cy="2160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4"/>
          <p:cNvSpPr/>
          <p:nvPr/>
        </p:nvSpPr>
        <p:spPr>
          <a:xfrm>
            <a:off x="2933640" y="3732120"/>
            <a:ext cx="580680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ys of the week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ays are mascu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“el” or “los” to say “on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áb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oming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plu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os sáb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os domin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ispanic calendar begin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l l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0"/>
                            </p:stCondLst>
                            <p:childTnLst>
                              <p:par>
                                <p:cTn id="66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8"/>
          <p:cNvGrpSpPr/>
          <p:nvPr/>
        </p:nvGrpSpPr>
        <p:grpSpPr>
          <a:xfrm>
            <a:off x="685800" y="380880"/>
            <a:ext cx="8037360" cy="6153120"/>
            <a:chOff x="685800" y="380880"/>
            <a:chExt cx="8037360" cy="6153120"/>
          </a:xfrm>
        </p:grpSpPr>
        <p:grpSp>
          <p:nvGrpSpPr>
            <p:cNvPr id="66" name="Group 5"/>
            <p:cNvGrpSpPr/>
            <p:nvPr/>
          </p:nvGrpSpPr>
          <p:grpSpPr>
            <a:xfrm>
              <a:off x="685800" y="380880"/>
              <a:ext cx="7737840" cy="1981440"/>
              <a:chOff x="685800" y="380880"/>
              <a:chExt cx="7737840" cy="1981440"/>
            </a:xfrm>
          </p:grpSpPr>
          <p:pic>
            <p:nvPicPr>
              <p:cNvPr id="67" name="Picture 3" descr="c:\Program Files\Microsoft Office\Clipart\standard\stddir1\bd07213_.wmf"/>
              <p:cNvPicPr/>
              <p:nvPr/>
            </p:nvPicPr>
            <p:blipFill>
              <a:blip r:embed="rId1"/>
              <a:stretch/>
            </p:blipFill>
            <p:spPr>
              <a:xfrm>
                <a:off x="685800" y="380880"/>
                <a:ext cx="16300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Text Box 4"/>
              <p:cNvSpPr/>
              <p:nvPr/>
            </p:nvSpPr>
            <p:spPr>
              <a:xfrm>
                <a:off x="2489760" y="604800"/>
                <a:ext cx="5933880" cy="1556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Vocabulario 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sobre el calendario…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9" name="Picture 6" descr="c:\Program Files\Microsoft Office\Clipart\standard\stddir2\bs01036_.wmf"/>
            <p:cNvPicPr/>
            <p:nvPr/>
          </p:nvPicPr>
          <p:blipFill>
            <a:blip r:embed="rId2"/>
            <a:stretch/>
          </p:blipFill>
          <p:spPr>
            <a:xfrm>
              <a:off x="6477120" y="4800600"/>
              <a:ext cx="2246040" cy="173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7"/>
          <p:cNvSpPr/>
          <p:nvPr/>
        </p:nvSpPr>
        <p:spPr>
          <a:xfrm>
            <a:off x="2560680" y="4267080"/>
            <a:ext cx="755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906200" y="4876920"/>
            <a:ext cx="1467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2470320" y="3627360"/>
            <a:ext cx="87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89040" y="5486400"/>
            <a:ext cx="2734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ado 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1792800" y="3017880"/>
            <a:ext cx="1567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4344840" y="4267080"/>
            <a:ext cx="105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4345200" y="4876920"/>
            <a:ext cx="1663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4354200" y="3627360"/>
            <a:ext cx="1726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4344840" y="5486400"/>
            <a:ext cx="1666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 af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4353840" y="3017880"/>
            <a:ext cx="3509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 before yester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3616560" y="426708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9"/>
          <p:cNvGrpSpPr/>
          <p:nvPr/>
        </p:nvGrpSpPr>
        <p:grpSpPr>
          <a:xfrm>
            <a:off x="685800" y="380880"/>
            <a:ext cx="8037360" cy="6153120"/>
            <a:chOff x="685800" y="380880"/>
            <a:chExt cx="8037360" cy="6153120"/>
          </a:xfrm>
        </p:grpSpPr>
        <p:grpSp>
          <p:nvGrpSpPr>
            <p:cNvPr id="82" name="Group 3"/>
            <p:cNvGrpSpPr/>
            <p:nvPr/>
          </p:nvGrpSpPr>
          <p:grpSpPr>
            <a:xfrm>
              <a:off x="685800" y="380880"/>
              <a:ext cx="7737840" cy="1981440"/>
              <a:chOff x="685800" y="380880"/>
              <a:chExt cx="7737840" cy="1981440"/>
            </a:xfrm>
          </p:grpSpPr>
          <p:pic>
            <p:nvPicPr>
              <p:cNvPr id="83" name="Picture 4" descr="c:\Program Files\Microsoft Office\Clipart\standard\stddir1\bd07213_.wmf"/>
              <p:cNvPicPr/>
              <p:nvPr/>
            </p:nvPicPr>
            <p:blipFill>
              <a:blip r:embed="rId1"/>
              <a:stretch/>
            </p:blipFill>
            <p:spPr>
              <a:xfrm>
                <a:off x="685800" y="380880"/>
                <a:ext cx="16300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Text Box 5"/>
              <p:cNvSpPr/>
              <p:nvPr/>
            </p:nvSpPr>
            <p:spPr>
              <a:xfrm>
                <a:off x="2489760" y="604800"/>
                <a:ext cx="5933880" cy="1556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Más</a:t>
                </a: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 vocabulario 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sobre el calendario…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5" name="Picture 6" descr="c:\Program Files\Microsoft Office\Clipart\standard\stddir2\bs01036_.wmf"/>
            <p:cNvPicPr/>
            <p:nvPr/>
          </p:nvPicPr>
          <p:blipFill>
            <a:blip r:embed="rId2"/>
            <a:stretch/>
          </p:blipFill>
          <p:spPr>
            <a:xfrm>
              <a:off x="6629400" y="4917960"/>
              <a:ext cx="2093760" cy="161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Text Box 7"/>
          <p:cNvSpPr/>
          <p:nvPr/>
        </p:nvSpPr>
        <p:spPr>
          <a:xfrm>
            <a:off x="345600" y="3687840"/>
            <a:ext cx="3467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semana que v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448280" y="4297320"/>
            <a:ext cx="2379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os los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04160" y="3048120"/>
            <a:ext cx="3091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semana pa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037960" y="5486400"/>
            <a:ext cx="176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prim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1008720" y="2438280"/>
            <a:ext cx="279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fin de se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4797720" y="3687840"/>
            <a:ext cx="1783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4795560" y="4297320"/>
            <a:ext cx="1726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4807080" y="3048120"/>
            <a:ext cx="1665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798080" y="5486400"/>
            <a:ext cx="176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4807800" y="2438280"/>
            <a:ext cx="2199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eek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4069080" y="403848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3132000" y="4890960"/>
            <a:ext cx="676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4809240" y="4876920"/>
            <a:ext cx="813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1643400" y="403200"/>
            <a:ext cx="588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s estaciones del añ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13"/>
          <p:cNvGrpSpPr/>
          <p:nvPr/>
        </p:nvGrpSpPr>
        <p:grpSpPr>
          <a:xfrm>
            <a:off x="838080" y="1295280"/>
            <a:ext cx="2971800" cy="2210760"/>
            <a:chOff x="838080" y="1295280"/>
            <a:chExt cx="2971800" cy="2210760"/>
          </a:xfrm>
        </p:grpSpPr>
        <p:pic>
          <p:nvPicPr>
            <p:cNvPr id="101" name="Picture 2" descr="c:\Program Files\Microsoft Office\Clipart\Pub60Cor\dd00297_.wmf"/>
            <p:cNvPicPr/>
            <p:nvPr/>
          </p:nvPicPr>
          <p:blipFill>
            <a:blip r:embed="rId1"/>
            <a:stretch/>
          </p:blipFill>
          <p:spPr>
            <a:xfrm>
              <a:off x="838080" y="1295280"/>
              <a:ext cx="29718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8"/>
            <p:cNvSpPr/>
            <p:nvPr/>
          </p:nvSpPr>
          <p:spPr>
            <a:xfrm>
              <a:off x="1506240" y="3046320"/>
              <a:ext cx="15674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invier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5791320" y="1066680"/>
            <a:ext cx="2057400" cy="2439360"/>
            <a:chOff x="5791320" y="1066680"/>
            <a:chExt cx="2057400" cy="2439360"/>
          </a:xfrm>
        </p:grpSpPr>
        <p:pic>
          <p:nvPicPr>
            <p:cNvPr id="104" name="Picture 3" descr="c:\Program Files\Microsoft Office\Clipart\standard\stddir3\na01014_.wmf"/>
            <p:cNvPicPr/>
            <p:nvPr/>
          </p:nvPicPr>
          <p:blipFill>
            <a:blip r:embed="rId2"/>
            <a:stretch/>
          </p:blipFill>
          <p:spPr>
            <a:xfrm>
              <a:off x="5791320" y="1066680"/>
              <a:ext cx="20574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9"/>
            <p:cNvSpPr/>
            <p:nvPr/>
          </p:nvSpPr>
          <p:spPr>
            <a:xfrm>
              <a:off x="5935680" y="3046320"/>
              <a:ext cx="18572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primav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15"/>
          <p:cNvGrpSpPr/>
          <p:nvPr/>
        </p:nvGrpSpPr>
        <p:grpSpPr>
          <a:xfrm>
            <a:off x="1295280" y="3886200"/>
            <a:ext cx="2024280" cy="2591640"/>
            <a:chOff x="1295280" y="3886200"/>
            <a:chExt cx="2024280" cy="2591640"/>
          </a:xfrm>
        </p:grpSpPr>
        <p:pic>
          <p:nvPicPr>
            <p:cNvPr id="107" name="Picture 4" descr="c:\Program Files\Microsoft Office\Clipart\Pub60Cor\pe00542_.wmf"/>
            <p:cNvPicPr/>
            <p:nvPr/>
          </p:nvPicPr>
          <p:blipFill>
            <a:blip r:embed="rId3"/>
            <a:stretch/>
          </p:blipFill>
          <p:spPr>
            <a:xfrm>
              <a:off x="1295280" y="3886200"/>
              <a:ext cx="20242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/>
            <p:cNvSpPr/>
            <p:nvPr/>
          </p:nvSpPr>
          <p:spPr>
            <a:xfrm>
              <a:off x="1573200" y="6018120"/>
              <a:ext cx="1433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vera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16"/>
          <p:cNvGrpSpPr/>
          <p:nvPr/>
        </p:nvGrpSpPr>
        <p:grpSpPr>
          <a:xfrm>
            <a:off x="6141960" y="3886200"/>
            <a:ext cx="1478160" cy="2591640"/>
            <a:chOff x="6141960" y="3886200"/>
            <a:chExt cx="1478160" cy="2591640"/>
          </a:xfrm>
        </p:grpSpPr>
        <p:pic>
          <p:nvPicPr>
            <p:cNvPr id="110" name="Picture 5" descr="c:\Program Files\Microsoft Office\Clipart\standard\stddir4\so02950_.wmf"/>
            <p:cNvPicPr/>
            <p:nvPr/>
          </p:nvPicPr>
          <p:blipFill>
            <a:blip r:embed="rId4"/>
            <a:stretch/>
          </p:blipFill>
          <p:spPr>
            <a:xfrm>
              <a:off x="6141960" y="3886200"/>
              <a:ext cx="14781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2"/>
            <p:cNvSpPr/>
            <p:nvPr/>
          </p:nvSpPr>
          <p:spPr>
            <a:xfrm>
              <a:off x="6229080" y="6018120"/>
              <a:ext cx="1264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otoñ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  <p:sndAc>
      <p:stSnd>
        <p:snd r:embed="rId5" name="projctor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8"/>
          <p:cNvGrpSpPr/>
          <p:nvPr/>
        </p:nvGrpSpPr>
        <p:grpSpPr>
          <a:xfrm>
            <a:off x="1295280" y="487440"/>
            <a:ext cx="2210040" cy="2712960"/>
            <a:chOff x="1295280" y="487440"/>
            <a:chExt cx="2210040" cy="2712960"/>
          </a:xfrm>
        </p:grpSpPr>
        <p:pic>
          <p:nvPicPr>
            <p:cNvPr id="113" name="Picture 3" descr="c:\Program Files\Microsoft Office\Clipart\Pub60Cor\dd00297_.wmf"/>
            <p:cNvPicPr/>
            <p:nvPr/>
          </p:nvPicPr>
          <p:blipFill>
            <a:blip r:embed="rId1"/>
            <a:stretch/>
          </p:blipFill>
          <p:spPr>
            <a:xfrm>
              <a:off x="1295280" y="1981080"/>
              <a:ext cx="22100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4"/>
            <p:cNvSpPr/>
            <p:nvPr/>
          </p:nvSpPr>
          <p:spPr>
            <a:xfrm>
              <a:off x="1692720" y="487440"/>
              <a:ext cx="15004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ciem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ebr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9"/>
          <p:cNvGrpSpPr/>
          <p:nvPr/>
        </p:nvGrpSpPr>
        <p:grpSpPr>
          <a:xfrm>
            <a:off x="6019920" y="380880"/>
            <a:ext cx="1600200" cy="2755080"/>
            <a:chOff x="6019920" y="380880"/>
            <a:chExt cx="1600200" cy="2755080"/>
          </a:xfrm>
        </p:grpSpPr>
        <p:pic>
          <p:nvPicPr>
            <p:cNvPr id="116" name="Picture 6" descr="c:\Program Files\Microsoft Office\Clipart\standard\stddir3\na01014_.wmf"/>
            <p:cNvPicPr/>
            <p:nvPr/>
          </p:nvPicPr>
          <p:blipFill>
            <a:blip r:embed="rId2"/>
            <a:stretch/>
          </p:blipFill>
          <p:spPr>
            <a:xfrm>
              <a:off x="6019920" y="380880"/>
              <a:ext cx="160020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5"/>
            <p:cNvSpPr/>
            <p:nvPr/>
          </p:nvSpPr>
          <p:spPr>
            <a:xfrm>
              <a:off x="6285240" y="1944720"/>
              <a:ext cx="102816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arz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br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ay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20"/>
          <p:cNvGrpSpPr/>
          <p:nvPr/>
        </p:nvGrpSpPr>
        <p:grpSpPr>
          <a:xfrm>
            <a:off x="1676520" y="3544920"/>
            <a:ext cx="1498320" cy="3008160"/>
            <a:chOff x="1676520" y="3544920"/>
            <a:chExt cx="1498320" cy="3008160"/>
          </a:xfrm>
        </p:grpSpPr>
        <p:pic>
          <p:nvPicPr>
            <p:cNvPr id="119" name="Picture 9" descr="c:\Program Files\Microsoft Office\Clipart\Pub60Cor\pe00542_.wmf"/>
            <p:cNvPicPr/>
            <p:nvPr/>
          </p:nvPicPr>
          <p:blipFill>
            <a:blip r:embed="rId3"/>
            <a:stretch/>
          </p:blipFill>
          <p:spPr>
            <a:xfrm>
              <a:off x="1676520" y="5029200"/>
              <a:ext cx="14983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6"/>
            <p:cNvSpPr/>
            <p:nvPr/>
          </p:nvSpPr>
          <p:spPr>
            <a:xfrm>
              <a:off x="1893240" y="3544920"/>
              <a:ext cx="109512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n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l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os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5941800" y="3657600"/>
            <a:ext cx="1688040" cy="2713680"/>
            <a:chOff x="5941800" y="3657600"/>
            <a:chExt cx="1688040" cy="2713680"/>
          </a:xfrm>
        </p:grpSpPr>
        <p:pic>
          <p:nvPicPr>
            <p:cNvPr id="122" name="Picture 12" descr="c:\Program Files\Microsoft Office\Clipart\standard\stddir4\so02950_.wmf"/>
            <p:cNvPicPr/>
            <p:nvPr/>
          </p:nvPicPr>
          <p:blipFill>
            <a:blip r:embed="rId4"/>
            <a:stretch/>
          </p:blipFill>
          <p:spPr>
            <a:xfrm>
              <a:off x="6248520" y="3657600"/>
              <a:ext cx="10238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7"/>
            <p:cNvSpPr/>
            <p:nvPr/>
          </p:nvSpPr>
          <p:spPr>
            <a:xfrm>
              <a:off x="5941800" y="5180040"/>
              <a:ext cx="168804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ptiem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ctu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viem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  <p:sndAc>
      <p:stSnd>
        <p:snd r:embed="rId5" name="projctor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37600" y="380880"/>
            <a:ext cx="690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s estaciones y los mese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c:\Program Files\Common Files\Microsoft Shared\Clipart\cagcat50\BD04924_.WMF"/>
          <p:cNvPicPr/>
          <p:nvPr/>
        </p:nvPicPr>
        <p:blipFill>
          <a:blip r:embed="rId1"/>
          <a:stretch/>
        </p:blipFill>
        <p:spPr>
          <a:xfrm>
            <a:off x="5638680" y="2384280"/>
            <a:ext cx="2525760" cy="34070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533520" y="2381400"/>
            <a:ext cx="48924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sons and month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d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s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d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sons, except after “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imavera” is the on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inine s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 spelling / pronun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778120" y="9637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eas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096240" y="96372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mont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projctor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1"/>
          <p:cNvGrpSpPr/>
          <p:nvPr/>
        </p:nvGrpSpPr>
        <p:grpSpPr>
          <a:xfrm>
            <a:off x="1545480" y="299880"/>
            <a:ext cx="6078600" cy="1702080"/>
            <a:chOff x="1545480" y="299880"/>
            <a:chExt cx="6078600" cy="1702080"/>
          </a:xfrm>
        </p:grpSpPr>
        <p:pic>
          <p:nvPicPr>
            <p:cNvPr id="130" name="Picture 2" descr="c:\Program Files\Microsoft Office\Clipart\smbusbas\pe02745_.wmf"/>
            <p:cNvPicPr/>
            <p:nvPr/>
          </p:nvPicPr>
          <p:blipFill>
            <a:blip r:embed="rId1"/>
            <a:stretch/>
          </p:blipFill>
          <p:spPr>
            <a:xfrm>
              <a:off x="3505320" y="1066680"/>
              <a:ext cx="205740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3"/>
            <p:cNvSpPr/>
            <p:nvPr/>
          </p:nvSpPr>
          <p:spPr>
            <a:xfrm>
              <a:off x="1545480" y="299880"/>
              <a:ext cx="6078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¿Cuál es </a:t>
              </a:r>
              <a:r>
                <a:rPr b="0" i="1" lang="en-US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la fecha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 de hoy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4"/>
          <p:cNvSpPr/>
          <p:nvPr/>
        </p:nvSpPr>
        <p:spPr>
          <a:xfrm>
            <a:off x="382680" y="2160720"/>
            <a:ext cx="794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0688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435680" y="2158920"/>
            <a:ext cx="695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05920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419200" y="2158920"/>
            <a:ext cx="1387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8120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116960" y="2158920"/>
            <a:ext cx="81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87872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5184000" y="2158920"/>
            <a:ext cx="1169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3266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6652080" y="2158920"/>
            <a:ext cx="81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74696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850520" y="2158920"/>
            <a:ext cx="87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1405800" y="2895480"/>
            <a:ext cx="5421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es el 15 de octubre de 198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ñana es el 23 de mayo de 19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ayer fue el 10 de abril de 199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1407600" y="4876920"/>
            <a:ext cx="6288840" cy="14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Howev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es el 25 de enero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ado mañana es el 2 de julio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projctor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9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610560" y="1676520"/>
            <a:ext cx="7735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“primero”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º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the first day of any mon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939320" y="2209680"/>
            <a:ext cx="599724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es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im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enero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cumpleaños es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im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ag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09480" y="3505320"/>
            <a:ext cx="661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ate,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es fir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902240" y="4089240"/>
            <a:ext cx="44539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4 de julio de 199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/ 7 / 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 . 7 .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2350080" y="380880"/>
            <a:ext cx="4470840" cy="6172200"/>
            <a:chOff x="2350080" y="380880"/>
            <a:chExt cx="4470840" cy="6172200"/>
          </a:xfrm>
        </p:grpSpPr>
        <p:sp>
          <p:nvSpPr>
            <p:cNvPr id="152" name="Text Box 6"/>
            <p:cNvSpPr/>
            <p:nvPr/>
          </p:nvSpPr>
          <p:spPr>
            <a:xfrm>
              <a:off x="2350080" y="380880"/>
              <a:ext cx="44708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La fecha (cont’d)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Picture 7" descr="c:\Program Files\Microsoft Office\Clipart\WebArt\bs00569a.gif"/>
            <p:cNvPicPr/>
            <p:nvPr/>
          </p:nvPicPr>
          <p:blipFill>
            <a:blip r:embed="rId1"/>
            <a:stretch/>
          </p:blipFill>
          <p:spPr>
            <a:xfrm>
              <a:off x="3095640" y="5089680"/>
              <a:ext cx="3000240" cy="1463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  <p:sndAc>
      <p:stSnd>
        <p:snd r:embed="rId2" name="projctor.wav"/>
      </p:stSnd>
    </p:sndAc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0:41:34Z</dcterms:created>
  <dc:creator>Saint John's Hgh School</dc:creator>
  <dc:description/>
  <dc:language>en-US</dc:language>
  <cp:lastModifiedBy>Sol Kennally</cp:lastModifiedBy>
  <dcterms:modified xsi:type="dcterms:W3CDTF">2010-09-16T23:56:56Z</dcterms:modified>
  <cp:revision>68</cp:revision>
  <dc:subject/>
  <dc:title>PowerPoint Presentation</dc:title>
</cp:coreProperties>
</file>