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F09-72BA-4E55-80A4-B7469311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54D-F712-4EBE-AFA7-ACB23CC9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687-E83E-469D-820E-EDBC9AD0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8F7-1373-45DE-A2C1-48791332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B4E-A420-4C54-BE5D-679894D3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943-194E-4996-9BD7-DFDD286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B31-564E-44BC-909F-2FA8A88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E6A-8C56-400A-8E07-0BDD20B4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D43-8D55-47B5-A418-61A36DA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95-FDE8-4F1C-B8FD-746EA5F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151-5DDB-4C42-9955-974C89B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E5D-06C2-4A7C-951B-BB6C1D7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C1E-FE0F-4DA5-9ECB-018C9C88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:\Program Files\Microsoft Office\Clipart\smbusbas\bs00082_.wmf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Program Files\Common Files\Microsoft Shared\Clipart\cagcat50\BS00975_.wmf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Program Files\Microsoft Office\Clipart\standard\stddir2\bs00626_.wmf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Text Box 2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3" descr="c:\Program Files\Microsoft Office\Clipart\standard\stddir1\bd05092_.wmf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c:\Program Files\Microsoft Office\Clipart\standard\stddir1\bd05092_.wmf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11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Text Box 5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12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5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Text Box 2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3" descr="c:\Program Files\Microsoft Office\Clipart\standard\stddir1\an02339_.wmf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c:\Program Files\Microsoft Office\Clipart\standard\stddir1\bd05634_.wmf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6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Text Box 2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3" descr="c:\Program Files\Microsoft Office\Clipart\standard\stddir2\bd07759_.wmf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4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2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Rectangle 8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7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8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9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c:\Program Files\Microsoft Office\Clipart\standard\stddir2\bs00606_.wmf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4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8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Group 5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Picture 3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4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7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9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Group 3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Picture 4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5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7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Picture 2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Picture 3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Picture 4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Picture 5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8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Picture 3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Picture 6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0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Picture 9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Picture 12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Program Files\Common Files\Microsoft Shared\Clipart\cagcat50\BD04924_.WMF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1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Picture 2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4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Text Box 6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Picture 7" descr="c:\Program Files\Microsoft Office\Clipart\WebArt\bs00569a.gif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Sol Kennally</cp:lastModifiedBy>
  <dcterms:modified xsi:type="dcterms:W3CDTF">2010-09-16T23:56:56Z</dcterms:modified>
  <cp:revision>68</cp:revision>
  <dc:subject/>
  <dc:title>PowerPoint Presentation</dc:title>
</cp:coreProperties>
</file>