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3B41-8EF9-451B-B652-46ABD35B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E2BD-306A-4396-B85E-91F91D34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B6CA-6444-4D9A-AEF6-83B25C78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1C2A2-BD56-48C4-A7C1-61E1FC0E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D1A1-0E0A-4FD0-AB4C-1E60D4FD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9037-5D1D-4A4D-A0E8-30C473BD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D66E-A956-49C6-9F35-AED3B27D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1585-C14E-4180-A645-139C5B58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BDD4-07E7-486D-957E-1A495513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7D04-384D-4AF8-B2DB-8F35AF6A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C85D-8D97-4143-9D8F-6D39C473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820D-9FBA-474F-80FF-6BB615D3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22A7-1795-4F1E-879B-D70A4E62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B846-771F-4F7A-9493-0F198639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47AF-5AB5-4A54-80F7-D8258C25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2D16-BE21-4E3D-B176-3DDE4328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A8C0-1373-4595-9029-01B4D6FC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54B8-3614-418A-88D0-A56A5844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4D24-617F-4487-8E54-339785C9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1014-8C24-4D4D-B28A-ED4939DD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2A6C-F308-44B9-A35E-4BDB5151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243F-69FE-4986-918E-9C82F41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5E1D-3459-400D-9EF0-05920C8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DB50-836A-48B9-B859-E5F19D2A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7884-762C-4E1C-B9EB-1C41B57C4E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E4DD-924B-49AE-AAED-A0DC0B83AE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thnologue.com/ethno_docs/distribution.asp?by=siz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atemaster.com/graph/peospaspapop-people-spanish-speaking-population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gistral-mba.com/listofs-speaking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y We Learn Span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886e0"/>
                </a:solidFill>
                <a:latin typeface="Times New Roman"/>
              </a:rPr>
              <a:t>Statistic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nish is the second most popular language in the worl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nese=1,213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nish= 329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lish =328,0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rce- ethnologue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ethnologue.com/ethno_docs/distribution.asp?by=siz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772080" cy="24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anish Count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1 official Spanish speaking coun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24 countries with Spanish as a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4591080"/>
            <a:ext cx="3400560" cy="226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324480" cy="4761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he US has over 25 million Spanish speaking people 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alifornia is 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9,588,6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Maine is 4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and has 12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statemaster.com/graph/peospaspapop-people-spanish-speaking-population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pain has 40 Million Spanish speaking peo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has more with 93.7 million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magistral-mba.com/listofs-speaking.htm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304812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largest Spanish speaking countries are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xico city Mexico – 8,658,57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gota Colombia – 7,353,494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a Peru – 7,186,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ntiago Chile – 4,656,6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drid Spain – 3,228,35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iki.answers.com/Q/largestspanishspeaking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3095640" cy="220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resentation is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ler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el 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rek 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ily 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rew 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84836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4:44:26Z</dcterms:created>
  <dc:creator>Andy</dc:creator>
  <dc:description/>
  <dc:language>en-US</dc:language>
  <cp:lastModifiedBy>teacher</cp:lastModifiedBy>
  <dcterms:modified xsi:type="dcterms:W3CDTF">2010-09-18T22:06:09Z</dcterms:modified>
  <cp:revision>7</cp:revision>
  <dc:subject/>
  <dc:title>Why We Learn Spanish</dc:title>
</cp:coreProperties>
</file>