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8196-DCB8-4465-BF50-9BDAE944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9A61-41B9-4576-B9AF-FB592854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4875-D60F-40C6-A860-57916960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7B88-B086-486F-91F2-511F305F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287A-641A-4410-A370-DF0D8B06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2161-8AFB-4627-A922-8A4187E5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9567-4BC6-4E47-AA2E-0EAA3EB5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1A6B-50F3-47FC-8091-B0A02563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7610-C17F-4845-8295-C4F1F47A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8F52-3733-40A7-A947-223C37DF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08C1-981E-4B25-AE01-F8A44632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A737-DDF1-4C90-AF53-1F1F4107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F1B3-E2C1-4C7C-A746-37ED37D5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D201-A8C5-4B64-913D-BE3A0812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EAE0-9B30-4542-9381-17D9F517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0A53-A9BD-4764-8350-1AF70295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1853-E094-4AD9-8C12-877FBC6A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CDC0-CB74-4411-B1CD-56737BE1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5D0E-D58C-4B32-9432-7B9ABD47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5B51-759C-44A8-8F10-D56CA9B9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924E-4A91-40A1-8BD4-EBDDF5C5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02E6-CC74-40E6-AE80-64B4C31D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78C4-2123-42B4-B49B-35D52D4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AD14-C983-4F68-95D4-6B1EB144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D070-107B-4EF4-BF3D-A480558022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D93E-3391-43CB-9885-7D5ED6281D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thnologue.com/ethno_docs/distribution.asp?by=siz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temaster.com/graph/peospaspapop-people-spanish-speaking-popul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y We Learn Span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886e0"/>
                </a:solidFill>
                <a:latin typeface="Times New Roman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nish is the second most popular language in the worl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nese=1,213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nish= 329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lish =328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rce- ethnologue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thnologue.com/ethno_docs/distribution.asp?by=siz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772080" cy="24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anish Count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1 official Spanish speaking coun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4 countries with Spanish as a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459108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32448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he US has over 25 million Spanish speaking people 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lifornia i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9,588,6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aine is 4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12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statemaster.com/graph/peospaspapop-people-spanish-speaking-populatio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in has 40 Million Spanish speaking peo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has more with 93.7 million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304812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argest Spanish speaking countries are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city Mexico – 8,658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ta Colombia – 7,353,494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a Peru – 7,186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ntiago Chile – 4,656,6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rid Spain – 3,228,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iki.answers.com/Q/largestspanishspeaking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resentation is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ler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l 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ek 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ily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rew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8483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4:44:26Z</dcterms:created>
  <dc:creator>Andy</dc:creator>
  <dc:description/>
  <dc:language>en-US</dc:language>
  <cp:lastModifiedBy>teacher</cp:lastModifiedBy>
  <dcterms:modified xsi:type="dcterms:W3CDTF">2010-09-18T22:06:09Z</dcterms:modified>
  <cp:revision>7</cp:revision>
  <dc:subject/>
  <dc:title>Why We Learn Spanish</dc:title>
</cp:coreProperties>
</file>