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44CF-DC44-4515-93F9-39B9FB6F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C1AF-B283-4824-91DE-DDB398CF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5C79-B9C7-4B31-BA0A-1A7BC5D6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8A76-E3FD-4D71-8143-CE386917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179E-8C3A-47F6-A1D4-D9FCA207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98E4-3482-43E2-8EB4-2EBD664B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8DA5-2230-4C63-91C7-A0BD974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A745-03A0-430F-98E2-45FB00C4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2FD0-E1E5-431C-8AD5-353D8457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F539-15F1-4CA5-8054-A73AB317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4548-697D-4162-B856-EE6D7381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D7EC-4FD4-43B8-9767-6ACB916C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5F2F-F3A1-4D30-9B2A-2FCCB011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2B38-1780-4771-96F6-0785C2C1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6DD5-30C3-4B94-BF82-426324D8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1EE5-C2E9-43DA-B0E8-9C4F6DDA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DDE9-4552-4F82-B2FD-094FA32A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7E26-BCFE-4BFA-8128-2EF7662C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958B-BB61-4C57-80E5-27163EB6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A001-9DB5-4C5A-B9ED-2D819FB4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49C2-530C-4626-AFD7-D48B31F3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8D12-CCDE-4D68-B912-5682E4C4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E96D-E934-481D-B6F4-DB696B52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AC93-B2EE-4022-BE4D-F9AF069F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3F4C-C823-44A9-84F5-B86C471977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CEE3-6073-4212-B540-B331B43B4B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thnologue.com/ethno_docs/distribution.asp?by=siz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atemaster.com/graph/peospaspapop-people-spanish-speaking-population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y We Learn Span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886e0"/>
                </a:solidFill>
                <a:latin typeface="Times New Roman"/>
              </a:rPr>
              <a:t>Statistic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nish is the second most popular language in the worl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nese=1,213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nish= 329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lish =328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rce- ethnologue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thnologue.com/ethno_docs/distribution.asp?by=siz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772080" cy="248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anish Count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1 official Spanish speaking coun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4 countries with Spanish as a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4591080"/>
            <a:ext cx="3400560" cy="226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324480" cy="4761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he US has over 25 million Spanish speaking people 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alifornia is 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9,588,6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aine is 4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12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statemaster.com/graph/peospaspapop-people-spanish-speaking-population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in has 40 Million Spanish speaking peo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has more with 93.7 million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304812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largest Spanish speaking countries are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city Mexico – 8,658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gota Colombia – 7,353,494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a Peru – 7,186,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ntiago Chile – 4,656,6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drid Spain – 3,228,35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iki.answers.com/Q/largestspanishspeaking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3095640" cy="220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resentation is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ler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er 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el 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rek 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ily 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rew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84836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4:44:26Z</dcterms:created>
  <dc:creator>Andy</dc:creator>
  <dc:description/>
  <dc:language>en-US</dc:language>
  <cp:lastModifiedBy>teacher</cp:lastModifiedBy>
  <dcterms:modified xsi:type="dcterms:W3CDTF">2010-09-18T22:06:09Z</dcterms:modified>
  <cp:revision>7</cp:revision>
  <dc:subject/>
  <dc:title>Why We Learn Spanish</dc:title>
</cp:coreProperties>
</file>