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2BDD1-FA1D-4489-B6FA-DF843A90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AC8BD-545D-4596-B530-1075547D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002F5-40B6-4370-90BC-D8EFF96D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7A08-412E-480E-926A-DEEEB285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9C22-7A96-43A4-B32C-1AC718BC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28CC-74EB-49C6-90BF-A4A008AF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8671-E85B-40CD-B4A4-0DA7DA38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66A9-4532-43CC-BCD9-94750334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B605-B0A0-4D8C-9B00-86F47C99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EF79-8D5C-4F1F-82FD-4A212E7F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2036-971D-4448-BEE2-F35DBCC1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E37AF-305A-4456-9685-4F85360E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4FD4-5510-415D-A09B-345336D8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83C5-30B3-40D1-8BDE-5A508A27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EBF9-2479-4D4D-A389-DF351937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45E1-DBFA-46FF-9797-8C24A6AB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0143-A665-4650-8EE8-BC455D85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76D47-D774-4F45-AE06-9106FA87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838E6-9B39-4C28-A57E-05CC0822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60FBE-FEF9-4B49-B2EE-7151C83F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2DE8-CC20-44FD-8EA2-FB924CD8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04612-7F1C-43CE-91C5-981AD7BE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E7312-4F85-4E01-8FD7-2BCA93B1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ED12B-B654-4CCB-93E9-07D70319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C0D1-8AD0-4A51-A683-B379950F93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1051-FEB9-41C7-ADC4-684DB1DC08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thnologue.com/ethno_docs/distribution.asp?by=siz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gistral-mba.com/listofs-speaking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tatemaster.com/graph/peospaspapop-people-spanish-speaking-population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agistral-mba.com/listofs-speaking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hy We Learn Spanis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886e0"/>
                </a:solidFill>
                <a:latin typeface="Times New Roman"/>
              </a:rPr>
              <a:t>Statistic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panish is the second most popular language in the worl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inese=1,213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anish= 329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glish =328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urce- ethnologue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ethnologue.com/ethno_docs/distribution.asp?by=siz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3772080" cy="2486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anish Countr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21 official Spanish speaking coun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24 countries with Spanish as a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langu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magistral-mba.com/listofs-speaking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95680" y="4591080"/>
            <a:ext cx="3400560" cy="2266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324480" cy="4761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he US has over 25 million Spanish speaking people 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alifornia is 1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and has 9,588,62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Maine is 48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and has 12,57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Sourc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statemaster.com/graph/peospaspapop-people-spanish-speaking-population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pain has 40 Million Spanish speaking peo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xico has more with 93.7 million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magistral-mba.com/listofs-speaking.htm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57600" y="3048120"/>
            <a:ext cx="47624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largest Spanish speaking countries are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xico city Mexico – 8,658,57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gota Colombia – 7,353,494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a Peru – 7,186,0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ntiago Chile – 4,656,69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drid Spain – 3,228,35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iki.answers.com/Q/largestspanishspeaking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15000" y="2590920"/>
            <a:ext cx="3095640" cy="2200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presentation is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ler 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ter 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el 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rek 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ily 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rew 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84836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END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68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68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4:44:26Z</dcterms:created>
  <dc:creator>Andy</dc:creator>
  <dc:description/>
  <dc:language>en-US</dc:language>
  <cp:lastModifiedBy>teacher</cp:lastModifiedBy>
  <dcterms:modified xsi:type="dcterms:W3CDTF">2010-09-18T22:06:09Z</dcterms:modified>
  <cp:revision>7</cp:revision>
  <dc:subject/>
  <dc:title>Why We Learn Spanish</dc:title>
</cp:coreProperties>
</file>