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7994-F280-4C14-8500-5448B9CC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8E1D-610A-4A6D-8B21-3E55EF5C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1781-1707-48CC-BF37-DA070F49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5E00-B5D3-4C22-9E09-7AFAD1DD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DE7C-800C-47F0-AB9E-18227F40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B300-74B3-4E39-AE13-902E0BE9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6F72-5BB4-4808-BC9B-64F70D33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D137-3639-404B-8BC6-F35D1ECB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C4AA-2FDA-483C-A295-36647E9B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985E-565B-49D7-B541-4CB5B0EF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7BE2-E0E8-4124-970E-C83129FD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E9C7-5223-40D1-B829-9470688A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BB6C-DB23-4742-9600-AB8FE8F5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B922-8088-4687-9F1D-F75960E6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E59D-16D1-4E7E-B863-AF0D83DF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D687-9D31-4D41-923A-ABFFBEA2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A4B8-C4EB-4D15-9B6B-B07F5516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BBCD-5362-47C2-9A46-FE1BCFE1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76B4-556A-4E9D-B49A-0BA599ED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59EAD-9DDE-4789-98F2-7BC7C16C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D653-7F1A-4DAD-94E3-6C67D61C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EEFC-CFA8-4EF6-B37F-7D88890E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4FAD-2CB8-409F-A043-B5E64BEB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8CCD-0E98-4F27-9DE5-2077781C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B88A-DC50-453D-ABF9-14D2643C59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8A7F-3C89-4FA3-AB73-B6B433B76C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thnologue.com/ethno_docs/distribution.asp?by=siz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atemaster.com/graph/peospaspapop-people-spanish-speaking-population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y We Learn Span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886e0"/>
                </a:solidFill>
                <a:latin typeface="Times New Roman"/>
              </a:rPr>
              <a:t>Statistic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nish is the second most popular language in the worl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nese=1,213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nish= 329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lish =328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rce- ethnologue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thnologue.com/ethno_docs/distribution.asp?by=siz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3772080" cy="248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anish Count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1 official Spanish speaking coun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4 countries with Spanish as a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95680" y="4591080"/>
            <a:ext cx="3400560" cy="226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324480" cy="4761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he US has over 25 million Spanish speaking people 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alifornia is 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9,588,6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aine is 48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12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statemaster.com/graph/peospaspapop-people-spanish-speaking-population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in has 40 Million Spanish speaking peo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has more with 93.7 million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304812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largest Spanish speaking countries are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city Mexico – 8,658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gota Colombia – 7,353,494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a Peru – 7,186,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ntiago Chile – 4,656,6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drid Spain – 3,228,35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iki.answers.com/Q/largestspanishspeaking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3095640" cy="220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presentation is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ler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er 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el 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rek 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ily 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rew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84836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4:44:26Z</dcterms:created>
  <dc:creator>Andy</dc:creator>
  <dc:description/>
  <dc:language>en-US</dc:language>
  <cp:lastModifiedBy>teacher</cp:lastModifiedBy>
  <dcterms:modified xsi:type="dcterms:W3CDTF">2010-09-18T22:06:09Z</dcterms:modified>
  <cp:revision>7</cp:revision>
  <dc:subject/>
  <dc:title>Why We Learn Spanish</dc:title>
</cp:coreProperties>
</file>