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D656-3BFC-4AFE-9819-B36E218A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E557-4336-4E29-B934-24A5F6C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6A8C-4931-44E8-8951-BA3BC002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1CB0-035C-476A-8B2B-1C46DB97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9966-4896-4263-A39C-B72A4675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0C71-CBBC-4F61-83FD-A6E40F8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5692-6CB9-44D1-A359-9519D112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D51-CDF0-4CCB-9E01-F88455E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707-9FCD-4CA8-AF0A-FF8A9425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20C-E88A-491F-B8E4-D7CE5908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51D3-C150-4AE0-9D8B-C67B589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3C22-3FFB-4445-AC02-E65B4B5C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D976-96E1-48E5-9EC1-3C7176C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4E1B-5701-48E7-B08E-CA69B6B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BD5F-D764-45CC-A1C8-7FA5986E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F9BB-4C12-445C-9876-CF2AD45A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A024-1E64-4EDD-B17B-8C8A1027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BA5C-A4D2-416B-AD4D-CFD8C9E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A012-F286-43E5-9852-722CF03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3840-E08F-43F9-98F0-37B1CBB4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A310-5E49-4779-BC96-ED7552B0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5D3E-0468-485B-9F71-F084509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1A6A-040E-4EC2-A684-EF04EF0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C077-BB23-4361-B6A6-028137A9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618-2E59-4CCE-A4C2-E72219767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C1C7-E765-4F13-BEE8-DE2C41409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Arial"/>
              </a:rPr>
              <a:t>El Condicional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alk about what you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o, use the conditional t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helps you talk about what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ppen under certain condi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is used to make polite reque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the future tense, -ar, -er, and –ir verbs all have the same endings that are added directly to the infini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initiv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ías    -ía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os irregula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the verb has an irregular stem in the future, use the same stem in the conditi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c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po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r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quer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b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l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t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v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os ejempl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iloto dijo que despegaríamos a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The pilo said we would take off on tim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Se abrocharía el cinturón de segur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Would you fasten your seatbe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Note: The conditional form of haber is </a:t>
            </a:r>
            <a:r>
              <a:rPr b="1" i="1" lang="en-US" sz="2800" spc="-1" strike="noStrike">
                <a:solidFill>
                  <a:srgbClr val="00007d"/>
                </a:solidFill>
                <a:latin typeface="Comic Sans MS"/>
              </a:rPr>
              <a:t>habría </a:t>
            </a: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(there would b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352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práctica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agínate que vas a viajar a la ciudad de Méxic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¿Qué harías allí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o:  visitar al Palacio de Bellas 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visit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l Palacio de Bellas 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.  ir a las pirámides de Teotihuac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 regalos en la Zona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 música de maria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 a un concierto de Luis Mig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 en el restaurante del San Ángel 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 tarjetas postales a todos mis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 el museo de Frida Kah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pasearme por el Parque de Chapulte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15531"/>
          <p:cNvPicPr/>
          <p:nvPr/>
        </p:nvPicPr>
        <p:blipFill>
          <a:blip r:embed="rId1"/>
          <a:stretch/>
        </p:blipFill>
        <p:spPr>
          <a:xfrm>
            <a:off x="7010280" y="2971800"/>
            <a:ext cx="16002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s respues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 I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 las pirámides de Teotihuac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ía regalos en la Zona 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ía música de maria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ía a un concierto de Luis Mig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ía en el restaurante del San Ángel I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ía trajetas postales a todos mis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ía el museo de Frida Kah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Me pasearía por el Parque de Chapulte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jnfap1yb[1]"/>
          <p:cNvPicPr/>
          <p:nvPr/>
        </p:nvPicPr>
        <p:blipFill>
          <a:blip r:embed="rId1"/>
          <a:stretch/>
        </p:blipFill>
        <p:spPr>
          <a:xfrm>
            <a:off x="6934320" y="1600200"/>
            <a:ext cx="180504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as pregun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cosas querrías hacer y ver durante unas vaccaciones a Eu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pudieras tener un poder extraordinario, ¿qué sería y 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traerías a una isla desier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harías con un millón de dó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j0336911"/>
          <p:cNvPicPr/>
          <p:nvPr/>
        </p:nvPicPr>
        <p:blipFill>
          <a:blip r:embed="rId1"/>
          <a:stretch/>
        </p:blipFill>
        <p:spPr>
          <a:xfrm>
            <a:off x="5715000" y="3505320"/>
            <a:ext cx="13716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21:11:57Z</dcterms:created>
  <dc:creator>Jamie Anderson</dc:creator>
  <dc:description/>
  <dc:language>en-US</dc:language>
  <cp:lastModifiedBy>Thornton Academy</cp:lastModifiedBy>
  <dcterms:modified xsi:type="dcterms:W3CDTF">2012-04-04T00:02:07Z</dcterms:modified>
  <cp:revision>33</cp:revision>
  <dc:subject/>
  <dc:title>El Condicional</dc:title>
</cp:coreProperties>
</file>