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A5BE0-6492-4C82-8D30-3DF00EB04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04004-C217-4954-914E-EDBBBA3B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84C16-EA9E-4D23-895D-323261E82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74982-2A82-47EB-8310-9ECBE0D54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4E2D-5887-481E-ABF5-C56A54976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0E89-991A-4B59-B52A-79AB2AE0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28C3-3464-4090-9F45-DFBB1A37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B073-2AD5-4A2A-80C6-89C0824C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B73B-ED23-4DC6-92F7-2A8B27F3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8451-BD57-452D-B071-FFDB890D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0D79-BDAA-4D00-B76B-72725719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19C88-84FF-4EF7-8E73-6663C218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8B6E-3411-4616-9665-38927281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31DAC-9FF3-468A-8EC8-C9F59319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457B-1E9F-4F85-A329-526D2EC4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391B-3541-44B8-9D59-71123000D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DEAB-EDFE-4B10-8A6D-A88A29E1D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88555-5228-400F-B080-94331EBE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71633-DD70-4CF1-8992-FAC554EA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CCF5F-D2C8-4963-93E3-F39B1163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6302A-762B-4C45-9813-CD3014FB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0C4C3-E345-49BF-A576-1EFE2ABC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38AB0-3C7F-42F2-A8B9-21E1A1B4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2DA17-181D-4094-95DC-1D00E2D7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57D5-B6C0-413A-806A-41726A257F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6956-D9A7-4BE9-9C9E-460D7E89EE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ffffff"/>
                </a:solidFill>
                <a:latin typeface="Arial"/>
              </a:rPr>
              <a:t>El Condicional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El condiciona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 talk about what you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coul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or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woul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do, use the conditional ten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conditional helps you talk about what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woul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appen under certain condi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conditional is used to make polite reques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98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98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98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El condiciona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ike the future tense, -ar, -er, and –ir verbs all have the same endings that are added directly to the infiniti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ía       -íam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initiv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ías    -ía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ía       -í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Los irregular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5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the verb has an irregular stem in the future, use the same stem in the conditiona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200" y="1980720"/>
            <a:ext cx="4035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i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c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d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d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n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pond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er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quer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b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sab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li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sald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n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tend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ni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vend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indefinite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indefinite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indefinite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indefinite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indefinite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indefinite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indefinite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indefinite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98" dur="indefinite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6" dur="indefinite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0" dur="indefinite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4" dur="indefinite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8" dur="indefinite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2" dur="indefinite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6" dur="indefinite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30" dur="indefinite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34" dur="indefinite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Los ejemplo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piloto dijo que despegaríamos a tiem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The pilo said we would take off on tim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Se abrocharía el cinturón de segurid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Would you fasten your seatbel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7d"/>
                </a:solidFill>
                <a:latin typeface="Comic Sans MS"/>
              </a:rPr>
              <a:t>Note: The conditional form of haber is </a:t>
            </a:r>
            <a:r>
              <a:rPr b="1" i="1" lang="en-US" sz="2800" spc="-1" strike="noStrike">
                <a:solidFill>
                  <a:srgbClr val="00007d"/>
                </a:solidFill>
                <a:latin typeface="Comic Sans MS"/>
              </a:rPr>
              <a:t>habría </a:t>
            </a:r>
            <a:r>
              <a:rPr b="0" i="1" lang="en-US" sz="2800" spc="-1" strike="noStrike">
                <a:solidFill>
                  <a:srgbClr val="00007d"/>
                </a:solidFill>
                <a:latin typeface="Comic Sans MS"/>
              </a:rPr>
              <a:t>(there would b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6705720" y="2209680"/>
            <a:ext cx="23526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 práctica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magínate que vas a viajar a la ciudad de México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¿Qué harías allí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odelo:  visitar al Palacio de Bellas A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 visita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ía al Palacio de Bellas Ar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1.  ir a las pirámides de Teotihuac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2.  comprar regalos en la Zona R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3.  escuchar música de maria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4.  asistir a un concierto de Luis Migu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5.  comer en el restaurante del San Ángel I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6.  mandar tarjetas postales a todos mis ami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7.  buscar el museo de Frida Kah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8.  pasearme por el Parque de Chapultep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j0215531"/>
          <p:cNvPicPr/>
          <p:nvPr/>
        </p:nvPicPr>
        <p:blipFill>
          <a:blip r:embed="rId1"/>
          <a:stretch/>
        </p:blipFill>
        <p:spPr>
          <a:xfrm>
            <a:off x="7010280" y="2971800"/>
            <a:ext cx="160020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as respuest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.  I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ía a las pirámides de Teotihuacá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2.  Compraría regalos en la Zona Ro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3.  Escucharía música de mariach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4.  Asistiría a un concierto de Luis Migu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5.  Comería en el restaurante del San Ángel In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6.  Mandaría trajetas postales a todos mis amig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7.  Buscaría el museo de Frida Kah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8.  Me pasearía por el Parque de Chapultep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jnfap1yb[1]"/>
          <p:cNvPicPr/>
          <p:nvPr/>
        </p:nvPicPr>
        <p:blipFill>
          <a:blip r:embed="rId1"/>
          <a:stretch/>
        </p:blipFill>
        <p:spPr>
          <a:xfrm>
            <a:off x="6934320" y="1600200"/>
            <a:ext cx="1805040" cy="17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Las pregunta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é cosas querrías hacer y ver durante unas vaccaciones a Europ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pudieras tener un poder extraordinario, ¿qué sería y por qu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é traerías a una isla desier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é harías con un millón de dóla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j0336911"/>
          <p:cNvPicPr/>
          <p:nvPr/>
        </p:nvPicPr>
        <p:blipFill>
          <a:blip r:embed="rId1"/>
          <a:stretch/>
        </p:blipFill>
        <p:spPr>
          <a:xfrm>
            <a:off x="5715000" y="3505320"/>
            <a:ext cx="137160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8T21:11:57Z</dcterms:created>
  <dc:creator>Jamie Anderson</dc:creator>
  <dc:description/>
  <dc:language>en-US</dc:language>
  <cp:lastModifiedBy>Thornton Academy</cp:lastModifiedBy>
  <dcterms:modified xsi:type="dcterms:W3CDTF">2012-04-04T00:02:07Z</dcterms:modified>
  <cp:revision>33</cp:revision>
  <dc:subject/>
  <dc:title>El Condicional</dc:title>
</cp:coreProperties>
</file>