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1889-2121-4D23-865F-42068BF9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53608-8620-45D9-8F98-1789D082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C0D2-B6CF-4B52-9D2D-FA6B460D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03BC0-5686-481B-AC0A-94DE0D04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0EAD-345E-41F3-8DA4-D5CDE54C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868F-1A93-4C17-A2E2-59E9212E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892C-DAEF-425B-A59C-6416E65E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4AE0-07BD-42E5-BFAF-1A8F9152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D5EE-C330-408A-9CFB-FED26B0C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DC4A-1729-400B-9D95-37C806F8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1560-A1F5-4066-A9C1-132C581F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F4E5E-6CE0-4440-8CF6-DEBFE1E3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883B-2FC6-4158-9E4D-50CB90CB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FC5C-E890-4B47-AA49-38C9A5E0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A867-8CE2-4C5F-BB8E-8B98E6D8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8290-F750-4761-9588-3E7899A1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94AD-674E-4FC0-B9A2-BBD5FB4C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12E41-D939-494A-92D4-D8E2000C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59188-74E8-4552-A1C2-EA4B25C7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B798F-4159-4127-A3CC-86E0B9AE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F6070-7E34-4F08-A1CF-20CAEE35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C893-5196-42CA-B140-FD59D0FC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1D326-3545-4CBE-9149-C60EA4C6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24096-92C4-456D-864E-12CFC6F9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6971-9BFF-47CB-A881-7D7E7A96CA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35F6-70F2-4DC9-AFDA-0ACF61133C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ff"/>
                </a:solidFill>
                <a:latin typeface="Arial"/>
              </a:rPr>
              <a:t>El Condicional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l condicion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talk about what you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coul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or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oul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o, use the conditional te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nditional helps you talk about what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oul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appen under certain condi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nditional is used to make polite reques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condicion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ke the future tense, -ar, -er, and –ir verbs all have the same endings that are added directly to the infini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ía       -íam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initiv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ías    -ía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ía       -í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os irregular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the verb has an irregular stem in the future, use the same stem in the condition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200" y="1980720"/>
            <a:ext cx="403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c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d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pon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r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quer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sab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l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sal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ten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ven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os ejempl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piloto dijo que despegaríamos a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The pilo said we would take off on tim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Se abrocharía el cinturón de segur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Would you fasten your seatbel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Comic Sans MS"/>
              </a:rPr>
              <a:t>Note: The conditional form of haber is </a:t>
            </a:r>
            <a:r>
              <a:rPr b="1" i="1" lang="en-US" sz="2800" spc="-1" strike="noStrike">
                <a:solidFill>
                  <a:srgbClr val="00007d"/>
                </a:solidFill>
                <a:latin typeface="Comic Sans MS"/>
              </a:rPr>
              <a:t>habría </a:t>
            </a:r>
            <a:r>
              <a:rPr b="0" i="1" lang="en-US" sz="2800" spc="-1" strike="noStrike">
                <a:solidFill>
                  <a:srgbClr val="00007d"/>
                </a:solidFill>
                <a:latin typeface="Comic Sans MS"/>
              </a:rPr>
              <a:t>(there would b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2352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práctica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magínate que vas a viajar a la ciudad de Méxic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¿Qué harías allí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lo:  visitar al Palacio de Bellas 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 visit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ía al Palacio de Bellas 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1.  ir a las pirámides de Teotihuac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.  comprar regalos en la Zona R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.  escuchar música de maria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4.  asistir a un concierto de Luis Mig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5.  comer en el restaurante del San Ángel 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6.  mandar tarjetas postales a todos mis ami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7.  buscar el museo de Frida Kah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8.  pasearme por el Parque de Chapulte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15531"/>
          <p:cNvPicPr/>
          <p:nvPr/>
        </p:nvPicPr>
        <p:blipFill>
          <a:blip r:embed="rId1"/>
          <a:stretch/>
        </p:blipFill>
        <p:spPr>
          <a:xfrm>
            <a:off x="7010280" y="2971800"/>
            <a:ext cx="16002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as respuest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 I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ía a las pirámides de Teotihuac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.  Compraría regalos en la Zona R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.  Escucharía música de maria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4.  Asistiría a un concierto de Luis Migu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5.  Comería en el restaurante del San Ángel I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6.  Mandaría trajetas postales a todos mis ami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7.  Buscaría el museo de Frida Kah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8.  Me pasearía por el Parque de Chapulte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jnfap1yb[1]"/>
          <p:cNvPicPr/>
          <p:nvPr/>
        </p:nvPicPr>
        <p:blipFill>
          <a:blip r:embed="rId1"/>
          <a:stretch/>
        </p:blipFill>
        <p:spPr>
          <a:xfrm>
            <a:off x="6934320" y="1600200"/>
            <a:ext cx="1805040" cy="17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as pregun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cosas querrías hacer y ver durante unas vaccaciones a Europ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pudieras tener un poder extraordinario, ¿qué sería y 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traerías a una isla desier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harías con un millón de dóla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j0336911"/>
          <p:cNvPicPr/>
          <p:nvPr/>
        </p:nvPicPr>
        <p:blipFill>
          <a:blip r:embed="rId1"/>
          <a:stretch/>
        </p:blipFill>
        <p:spPr>
          <a:xfrm>
            <a:off x="5715000" y="3505320"/>
            <a:ext cx="137160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21:11:57Z</dcterms:created>
  <dc:creator>Jamie Anderson</dc:creator>
  <dc:description/>
  <dc:language>en-US</dc:language>
  <cp:lastModifiedBy>Thornton Academy</cp:lastModifiedBy>
  <dcterms:modified xsi:type="dcterms:W3CDTF">2012-04-04T00:02:07Z</dcterms:modified>
  <cp:revision>33</cp:revision>
  <dc:subject/>
  <dc:title>El Condicional</dc:title>
</cp:coreProperties>
</file>