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8F4EC8-5D62-450C-9F12-17DCEE5E7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62F5AC-192E-4F91-9053-C735BDCDF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D20278-150C-43C4-80CA-66726627A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5E5416-5313-4F79-AC69-DA877D97C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B66B9-4C41-4B47-850A-E5BF13E26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86AC6-D1D2-4E71-B374-E696E7044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F2B64-00B7-4E0F-9FA0-B88C84D18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EC924-7012-48EF-8AC3-A8F9E144E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CAABC-975F-4200-9BC2-831D45D9D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17749-042D-46AD-95DA-C50B48D98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8E59D-4713-46B1-B0CD-B7358FDAD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D74C16-843E-419F-AFF8-029DA4646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C8BEE-9C0D-4751-867C-5A9736521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C2E4A-3D58-43E2-B693-83B943B48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EC16C-9162-4542-84A6-11A79F4E3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E482D-531D-497E-BEC2-4F019DE31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140C5-F31A-4A92-9B60-FA5CEC741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E024A4-8287-4E2A-AE2D-1A2E57F31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6B1011-2C5A-43D8-BD5C-D29F937C7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49C851-90F2-45AB-973F-5A2541DEE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94D20A-8A62-47E6-A191-AE9933796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16507E-7F82-4DA9-B679-E6019A91D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BD82F5-7B30-4138-B061-763279940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D61B6A-ED3D-4E56-BEFE-59E7B09EE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D3AF9-4530-4B59-BA54-65A550F0D0E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042C2-868A-497D-AEAC-3F9D17C02BD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900" spc="-1" strike="noStrike">
                <a:solidFill>
                  <a:srgbClr val="ffffff"/>
                </a:solidFill>
                <a:latin typeface="Arial"/>
              </a:rPr>
              <a:t>El Condicional</a:t>
            </a:r>
            <a:endParaRPr b="0" lang="en-US" sz="6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10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El condicional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o talk about what you </a:t>
            </a:r>
            <a:r>
              <a:rPr b="1" i="1" lang="en-US" sz="3600" spc="-1" strike="noStrike">
                <a:solidFill>
                  <a:srgbClr val="000000"/>
                </a:solidFill>
                <a:latin typeface="Comic Sans MS"/>
              </a:rPr>
              <a:t>could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, or </a:t>
            </a:r>
            <a:r>
              <a:rPr b="1" i="1" lang="en-US" sz="3600" spc="-1" strike="noStrike">
                <a:solidFill>
                  <a:srgbClr val="000000"/>
                </a:solidFill>
                <a:latin typeface="Comic Sans MS"/>
              </a:rPr>
              <a:t>would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do, use the conditional tens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e conditional helps you talk about what </a:t>
            </a:r>
            <a:r>
              <a:rPr b="1" i="1" lang="en-US" sz="3600" spc="-1" strike="noStrike">
                <a:solidFill>
                  <a:srgbClr val="000000"/>
                </a:solidFill>
                <a:latin typeface="Comic Sans MS"/>
              </a:rPr>
              <a:t>would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happen under certain condition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e conditional is used to make polite request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0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19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898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898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898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El condicional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4000"/>
          </a:bodyPr>
          <a:p>
            <a:pPr marL="185040" indent="-18504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Like the future tense, -ar, -er, and –ir verbs all have the same endings that are added directly to the infinitiv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           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-ía       -íamo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1850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finitive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-ías    -íai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18504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-ía       -í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0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0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5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0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5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0" dur="5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Los irregulare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5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If the verb has an irregular stem in the future, use the same stem in the conditional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200" y="1980720"/>
            <a:ext cx="4035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ecir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ir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acer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ar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oder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odr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oner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pondr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querer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querr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aber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sabr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alir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saldr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ener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tendr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venir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vendr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0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indefinite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indefinite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indefinite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indefinite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indefinite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indefinite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indefinite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indefinite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indefinite"/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indefinite"/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98" dur="indefinite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102" dur="indefinite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106" dur="indefinite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110" dur="indefinite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114" dur="indefinite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118" dur="indefinite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122" dur="indefinite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126" dur="indefinite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130" dur="indefinite"/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134" dur="indefinite"/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Los ejemplos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l piloto dijo que despegaríamos a tiemp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(The pilo said we would take off on time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¿Se abrocharía el cinturón de segurida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(Would you fasten your seatbel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7d"/>
                </a:solidFill>
                <a:latin typeface="Comic Sans MS"/>
              </a:rPr>
              <a:t>Note: The conditional form of haber is </a:t>
            </a:r>
            <a:r>
              <a:rPr b="1" i="1" lang="en-US" sz="2800" spc="-1" strike="noStrike">
                <a:solidFill>
                  <a:srgbClr val="00007d"/>
                </a:solidFill>
                <a:latin typeface="Comic Sans MS"/>
              </a:rPr>
              <a:t>habría </a:t>
            </a:r>
            <a:r>
              <a:rPr b="0" i="1" lang="en-US" sz="2800" spc="-1" strike="noStrike">
                <a:solidFill>
                  <a:srgbClr val="00007d"/>
                </a:solidFill>
                <a:latin typeface="Comic Sans MS"/>
              </a:rPr>
              <a:t>(there would be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1" descr=""/>
          <p:cNvPicPr/>
          <p:nvPr/>
        </p:nvPicPr>
        <p:blipFill>
          <a:blip r:embed="rId1"/>
          <a:stretch/>
        </p:blipFill>
        <p:spPr>
          <a:xfrm>
            <a:off x="6705720" y="2209680"/>
            <a:ext cx="235260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0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2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20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20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2000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a práctica</a:t>
            </a:r>
            <a:br>
              <a:rPr sz="3600"/>
            </a:b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Imagínate que vas a viajar a la ciudad de México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¿Qué harías allí?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Modelo:  visitar al Palacio de Bellas Ar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Yo visitar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ía al Palacio de Bellas Ar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1.  ir a las pirámides de Teotihuacá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2.  comprar regalos en la Zona Ro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3.  escuchar música de mariach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4.  asistir a un concierto de Luis Migu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5.  comer en el restaurante del San Ángel In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6.  mandar tarjetas postales a todos mis amig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7.  buscar el museo de Frida Kah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8.  pasearme por el Parque de Chapultepe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4" descr="j0215531"/>
          <p:cNvPicPr/>
          <p:nvPr/>
        </p:nvPicPr>
        <p:blipFill>
          <a:blip r:embed="rId1"/>
          <a:stretch/>
        </p:blipFill>
        <p:spPr>
          <a:xfrm>
            <a:off x="7010280" y="2971800"/>
            <a:ext cx="1600200" cy="127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Las respuesta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1.  Ir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ía a las pirámides de Teotihuacá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2.  Compraría regalos en la Zona Ros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3.  Escucharía música de mariach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4.  Asistiría a un concierto de Luis Migu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5.  Comería en el restaurante del San Ángel In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6.  Mandaría trajetas postales a todos mis amig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7.  Buscaría el museo de Frida Kahl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8.  Me pasearía por el Parque de Chapultepe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7" descr="jnfap1yb[1]"/>
          <p:cNvPicPr/>
          <p:nvPr/>
        </p:nvPicPr>
        <p:blipFill>
          <a:blip r:embed="rId1"/>
          <a:stretch/>
        </p:blipFill>
        <p:spPr>
          <a:xfrm>
            <a:off x="6934320" y="1600200"/>
            <a:ext cx="1805040" cy="1736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0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5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500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500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Las preguntas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¿Qué cosas querrías hacer y ver durante unas vaccaciones a Europ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 pudieras tener un poder extraordinario, ¿qué sería y por qué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¿Qué traerías a una isla desiert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¿Qué harías con un millón de dólar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4" descr="j0336911"/>
          <p:cNvPicPr/>
          <p:nvPr/>
        </p:nvPicPr>
        <p:blipFill>
          <a:blip r:embed="rId1"/>
          <a:stretch/>
        </p:blipFill>
        <p:spPr>
          <a:xfrm>
            <a:off x="5715000" y="3505320"/>
            <a:ext cx="1371600" cy="102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18T21:11:57Z</dcterms:created>
  <dc:creator>Jamie Anderson</dc:creator>
  <dc:description/>
  <dc:language>en-US</dc:language>
  <cp:lastModifiedBy>Thornton Academy</cp:lastModifiedBy>
  <dcterms:modified xsi:type="dcterms:W3CDTF">2012-04-04T00:02:07Z</dcterms:modified>
  <cp:revision>33</cp:revision>
  <dc:subject/>
  <dc:title>El Condicional</dc:title>
</cp:coreProperties>
</file>