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0C0-59AC-4C6F-854D-A6BA700C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B15-2D07-4D27-9BCC-79F0E30E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FF3-07AE-44C9-AFC4-04702FDA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237-CE8D-4F6D-851B-198599F3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C30-AAAC-466C-A242-AACC8FCA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6BC-A4E1-4809-8105-49BC72A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CA3-FCEE-4B0D-A4E3-8DD22EE4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29F-FC85-48D5-BEC5-0EDC811A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62E-7713-4878-B88F-BF506F3F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86D-95AC-48D3-B3A6-D792DFDA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FD7-3BC2-4695-A3B3-56A22EC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3DB-7543-4A09-9383-9E67C920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3078-9F83-4693-BC06-F7D1B18C0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eacher</cp:lastModifiedBy>
  <dcterms:modified xsi:type="dcterms:W3CDTF">2010-10-20T22:00:43Z</dcterms:modified>
  <cp:revision>4</cp:revision>
  <dc:subject/>
  <dc:title>PowerPoint Presentation</dc:title>
</cp:coreProperties>
</file>