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D07-99E8-4C56-B0FA-F261ECAA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E1F-76EE-452B-B92E-FBAB667D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D7D-EA0F-4AD1-AAD7-8B1B1BB9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D8B-7A62-42EC-921A-DF89BD5C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C20-85E8-474F-B540-A62FC89B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576-35C7-4553-A60B-0B6D7EE2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3CA-EEED-4DBB-8F78-2C9EC8D6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07D-5DC4-493F-A62E-8D478C89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6E5-9F35-4A9E-A81C-79D14D77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0A2-4769-4541-B998-44CE9DD8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67A-CE0C-4658-A2F5-D42D6E1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5E8-7883-43CD-A702-4B3AC21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0BB8-E23F-4162-A3FA-EA80A0A26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eacher</cp:lastModifiedBy>
  <dcterms:modified xsi:type="dcterms:W3CDTF">2010-10-20T22:00:43Z</dcterms:modified>
  <cp:revision>4</cp:revision>
  <dc:subject/>
  <dc:title>PowerPoint Presentation</dc:title>
</cp:coreProperties>
</file>