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7E1-C806-402E-8AC6-8535943B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D3A-FE39-40B2-B27B-BAC14E3B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494-2C4D-42B1-9D39-241DF0D8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B52-CBB6-4754-A2CF-A0B74A23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7F9-E1EE-4932-9C7C-DAB7995C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2ED-F4E2-4D00-8450-F80FEADF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164-879E-40E3-A58F-4D464008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3ED-55C0-4604-A3C7-6A8141A0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671-B805-44AC-B628-6768DB84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D56-2F85-49B6-A098-7D905600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09D-8A90-4673-AAA1-4CF8A529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600-DB17-4854-8C5D-E4B931FE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A5C7-CA7F-472B-8D0D-C45F67EDF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507960"/>
          <a:ext cx="8636040" cy="661356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rect objec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s who or what receives the action of the verb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 always go before the conjugated verb or attached to the infinit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void repeating a direct object noun you replace it with a direct object prono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, la, 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n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and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, te, n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opl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come los ta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 a com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va a come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es? Si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o much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e la cuenta por favor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353960" y="846000"/>
          <a:ext cx="3556080" cy="2577960"/>
        </p:xfrm>
        <a:graphic>
          <a:graphicData uri="http://schemas.openxmlformats.org/drawingml/2006/table">
            <a:tbl>
              <a:tblPr/>
              <a:tblGrid>
                <a:gridCol w="1684440"/>
                <a:gridCol w="187164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(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(it, hi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(it, her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1716120" cy="95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365760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507960"/>
          <a:ext cx="8636040" cy="683100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In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 are nouns that tel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______/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_____ _______/ 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 pronouns ________ or accompany _________________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nouns ____ and 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. To clarify what they mean they are often accompanied b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_______, ___________ or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d emphasis use: a + 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15920" y="677880"/>
          <a:ext cx="3726000" cy="3313080"/>
        </p:xfrm>
        <a:graphic>
          <a:graphicData uri="http://schemas.openxmlformats.org/drawingml/2006/table">
            <a:tbl>
              <a:tblPr/>
              <a:tblGrid>
                <a:gridCol w="1763640"/>
                <a:gridCol w="19623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1716120" cy="869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532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eacher</cp:lastModifiedBy>
  <dcterms:modified xsi:type="dcterms:W3CDTF">2010-10-20T22:00:43Z</dcterms:modified>
  <cp:revision>4</cp:revision>
  <dc:subject/>
  <dc:title>PowerPoint Presentation</dc:title>
</cp:coreProperties>
</file>