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06F7-5DE1-48F4-8B74-78580B599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7EF0-2ABF-490D-A78F-BBD591E53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D825-2E30-491D-B9C3-63F601C71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66D8-9BFD-4A65-95DF-96A03CD46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4CE4-BEC5-4A1E-A4DE-DA844F4D2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5AAA-74E2-42B6-9FFB-75E143FD8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3117-5560-4C16-972D-84D20BF5A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D5EB-98FA-42AE-B79F-7D3E93A31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D18C-7748-450B-905D-C5ABE0457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8B17-E85E-4CA0-91C6-FFDBF11A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FEB5-B8E7-448C-A1E6-A40F258F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E5CE-3779-4C8E-9F5E-2E100B05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470E7-25FF-43BA-8704-06A7DE5C32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2120" y="507960"/>
          <a:ext cx="8636040" cy="6613560"/>
        </p:xfrm>
        <a:graphic>
          <a:graphicData uri="http://schemas.openxmlformats.org/drawingml/2006/table">
            <a:tbl>
              <a:tblPr/>
              <a:tblGrid>
                <a:gridCol w="4317840"/>
                <a:gridCol w="4318200"/>
              </a:tblGrid>
              <a:tr h="3639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out Direct Object Pronoun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342720"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direct object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ls who or what receives the action of the verb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342720"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P always go before the conjugated verb or attached to the infinitiv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342720"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avoid repeating a direct object noun you replace it with a direct object pronou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342720"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, la, lo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la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an refer to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h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cts and peopl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342720"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, te, no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u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efer to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l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eople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3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jemplos: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ia come los tac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ia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o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ia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o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va a come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ia va a comer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o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¿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M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quieres? Si,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quiero mucho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¿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No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rae la cuenta por favor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a rima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t objects before ver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 next to the “r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ep them close to the 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cannot go far…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" name=""/>
          <p:cNvGraphicFramePr/>
          <p:nvPr/>
        </p:nvGraphicFramePr>
        <p:xfrm>
          <a:off x="1353960" y="846000"/>
          <a:ext cx="3556080" cy="2577960"/>
        </p:xfrm>
        <a:graphic>
          <a:graphicData uri="http://schemas.openxmlformats.org/drawingml/2006/table">
            <a:tbl>
              <a:tblPr/>
              <a:tblGrid>
                <a:gridCol w="1684440"/>
                <a:gridCol w="1871640"/>
              </a:tblGrid>
              <a:tr h="3711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 (m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 (u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 (you) fam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(you) fam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 (it, him, yo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 (them, yo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(it, her, yo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s (them, yo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267080" y="3505320"/>
            <a:ext cx="1716120" cy="954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343400" y="3657600"/>
            <a:ext cx="1593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nou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revie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762120" y="507960"/>
          <a:ext cx="8636040" cy="6831000"/>
        </p:xfrm>
        <a:graphic>
          <a:graphicData uri="http://schemas.openxmlformats.org/drawingml/2006/table">
            <a:tbl>
              <a:tblPr/>
              <a:tblGrid>
                <a:gridCol w="4317840"/>
                <a:gridCol w="4318200"/>
              </a:tblGrid>
              <a:tr h="3639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out Inirect Object Pronoun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342720"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rect objects are nouns that tell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______/_______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r _____ _______/ wh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342720"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rect object pronouns ________ or accompany _________________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1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a rima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t objects before ver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 next to the “r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ep them close to the 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cannot go far…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pronouns ____ and ______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 to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_____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rect objects. To clarify what they mean they are often accompanied by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+ _______, ___________ or 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add emphasis use: a + 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1015920" y="677880"/>
          <a:ext cx="3726000" cy="3313080"/>
        </p:xfrm>
        <a:graphic>
          <a:graphicData uri="http://schemas.openxmlformats.org/drawingml/2006/table">
            <a:tbl>
              <a:tblPr/>
              <a:tblGrid>
                <a:gridCol w="1763640"/>
                <a:gridCol w="1962360"/>
              </a:tblGrid>
              <a:tr h="403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7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495680" y="3505320"/>
            <a:ext cx="1716120" cy="869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0" y="3505320"/>
            <a:ext cx="1593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irect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nou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.1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teacher</cp:lastModifiedBy>
  <dcterms:modified xsi:type="dcterms:W3CDTF">2010-10-20T22:00:43Z</dcterms:modified>
  <cp:revision>4</cp:revision>
  <dc:subject/>
  <dc:title>PowerPoint Presentation</dc:title>
</cp:coreProperties>
</file>