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426C-4457-4AFA-824E-06D965EE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7B1-8A8E-4413-B08B-4A0FBD93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DED-C01D-4ED7-A40C-B32CD067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CD8-AC15-48C9-A017-5B9AB2F0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0CB-2F5A-41CD-8448-19958794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6C4E-1C80-46E8-A005-1FA45C4A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301-001D-468B-A74E-EFB0B325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EA6-0205-4903-B9AD-F93A19BD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FE50-B410-4D94-8A18-77BC66BD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C9F-56D8-43DB-8378-99BE28A5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C4F-89E6-4C77-9917-64198D5D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782-B00D-4AA3-B5C1-854C34FD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546A-6121-46FC-BB01-914918380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2120" y="507960"/>
          <a:ext cx="8636040" cy="6613560"/>
        </p:xfrm>
        <a:graphic>
          <a:graphicData uri="http://schemas.openxmlformats.org/drawingml/2006/table">
            <a:tbl>
              <a:tblPr/>
              <a:tblGrid>
                <a:gridCol w="4317840"/>
                <a:gridCol w="4318200"/>
              </a:tblGrid>
              <a:tr h="363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Direct Object Pronou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rect objec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ls who or what receives the action of the verb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P always go before the conjugated verb or attached to the infinitiv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void repeating a direct object noun you replace it with a direct object prono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, la, l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a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n 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s and peop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, te, n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opl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s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come los tac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a a com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va a comer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eres? Si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ero much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rae la cuenta por favor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rim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bjects befor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next to the “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p them close to the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cannot go far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353960" y="846000"/>
          <a:ext cx="3556080" cy="2577960"/>
        </p:xfrm>
        <a:graphic>
          <a:graphicData uri="http://schemas.openxmlformats.org/drawingml/2006/table">
            <a:tbl>
              <a:tblPr/>
              <a:tblGrid>
                <a:gridCol w="1684440"/>
                <a:gridCol w="187164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(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 (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 (you) f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you) f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 (it, hi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(the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(it, her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(the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67080" y="3505320"/>
            <a:ext cx="1716120" cy="95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43400" y="3657600"/>
            <a:ext cx="159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62120" y="507960"/>
          <a:ext cx="8636040" cy="6831000"/>
        </p:xfrm>
        <a:graphic>
          <a:graphicData uri="http://schemas.openxmlformats.org/drawingml/2006/table">
            <a:tbl>
              <a:tblPr/>
              <a:tblGrid>
                <a:gridCol w="4317840"/>
                <a:gridCol w="4318200"/>
              </a:tblGrid>
              <a:tr h="363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Indirect Object Pronou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s are nouns that tell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______/_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 _____ _______/ 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 pronouns ________ or accompany _________________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1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rim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bjects befor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next to the “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p them close to the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cannot go far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nouns ____ and 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s. To clarify what they mean they are often accompanied b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_______, ___________ or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dd emphasis use: a + 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015920" y="677880"/>
          <a:ext cx="3726000" cy="3313080"/>
        </p:xfrm>
        <a:graphic>
          <a:graphicData uri="http://schemas.openxmlformats.org/drawingml/2006/table">
            <a:tbl>
              <a:tblPr/>
              <a:tblGrid>
                <a:gridCol w="1763640"/>
                <a:gridCol w="1962360"/>
              </a:tblGrid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95680" y="3505320"/>
            <a:ext cx="1716120" cy="869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505320"/>
            <a:ext cx="159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rec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bjhs</cp:lastModifiedBy>
  <dcterms:modified xsi:type="dcterms:W3CDTF">2012-11-20T19:49:36Z</dcterms:modified>
  <cp:revision>5</cp:revision>
  <dc:subject/>
  <dc:title>PowerPoint Presentation</dc:title>
</cp:coreProperties>
</file>