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B947-9345-45B5-A978-393BC27B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A5FF-4285-4310-B920-D47F5EFD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F1E-BD8B-485F-AA44-218339D2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2625-6F1A-4AA9-A6F9-3445576A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A70-1114-411D-9AEB-83C15105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3BF-D4F2-4950-83BA-C810C5CA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A701-AE58-410E-885E-C2A76C60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33DA-DE12-4E95-B8A4-FA66D7B5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9D18-9598-448F-A977-861624EE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2B46-DFF6-46F6-8AD2-6319E6DE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2D8-2DC7-4D30-9425-E5ACAAFC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38F-19BA-45E9-8622-0102D190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A14C-C133-4DB9-BC6F-00AA9B356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2120" y="507960"/>
          <a:ext cx="8636040" cy="6613560"/>
        </p:xfrm>
        <a:graphic>
          <a:graphicData uri="http://schemas.openxmlformats.org/drawingml/2006/table">
            <a:tbl>
              <a:tblPr/>
              <a:tblGrid>
                <a:gridCol w="4317840"/>
                <a:gridCol w="4318200"/>
              </a:tblGrid>
              <a:tr h="363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Direct Object Pronou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rect objec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ls who or what receives the action of the verb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P always go before the conjugated verb or attached to the infinitiv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void repeating a direct object noun you replace it with a direct object prono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, la, l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a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n 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s and peop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, te, n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opl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s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come los tac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a a com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va a comer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eres? Si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ero much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rae la cuenta por favor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rim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bjects befor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next to the “r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p them close to the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cannot go far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353960" y="846000"/>
          <a:ext cx="3556080" cy="2577960"/>
        </p:xfrm>
        <a:graphic>
          <a:graphicData uri="http://schemas.openxmlformats.org/drawingml/2006/table">
            <a:tbl>
              <a:tblPr/>
              <a:tblGrid>
                <a:gridCol w="1684440"/>
                <a:gridCol w="187164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(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 (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 (you) f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you) f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 (it, hi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(the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(it, her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(the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67080" y="3505320"/>
            <a:ext cx="1716120" cy="95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43400" y="3657600"/>
            <a:ext cx="159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62120" y="507960"/>
          <a:ext cx="8636040" cy="6831000"/>
        </p:xfrm>
        <a:graphic>
          <a:graphicData uri="http://schemas.openxmlformats.org/drawingml/2006/table">
            <a:tbl>
              <a:tblPr/>
              <a:tblGrid>
                <a:gridCol w="4317840"/>
                <a:gridCol w="4318200"/>
              </a:tblGrid>
              <a:tr h="363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Indirect Object Pronou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s are nouns that tell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______/_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 _____ _______/ 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 pronouns ________ or accompany _________________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1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rim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bjects befor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next to the “r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p them close to the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cannot go far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nouns ____ and 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s. To clarify what they mean they are often accompanied b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_______, ___________ or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dd emphasis use: a + 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015920" y="677880"/>
          <a:ext cx="3726000" cy="3313080"/>
        </p:xfrm>
        <a:graphic>
          <a:graphicData uri="http://schemas.openxmlformats.org/drawingml/2006/table">
            <a:tbl>
              <a:tblPr/>
              <a:tblGrid>
                <a:gridCol w="1763640"/>
                <a:gridCol w="1962360"/>
              </a:tblGrid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95680" y="3505320"/>
            <a:ext cx="1716120" cy="869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505320"/>
            <a:ext cx="159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rec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bjhs</cp:lastModifiedBy>
  <dcterms:modified xsi:type="dcterms:W3CDTF">2012-11-20T19:49:36Z</dcterms:modified>
  <cp:revision>5</cp:revision>
  <dc:subject/>
  <dc:title>PowerPoint Presentation</dc:title>
</cp:coreProperties>
</file>