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58C-CDCC-4173-B990-119BA911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F15-793F-498F-8BED-993AA4A8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AF2-F3DF-41B9-9434-BF002086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FC3-D187-4DEA-A22F-484797BC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9A4-DDCE-448E-B298-C18A8F33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314-5BED-430C-B8C3-A847E2D9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47C-E2CF-42EC-82B0-E39DFD2E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08A-E3E7-4EE0-AC3D-5A970FC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AFB-8E7C-4B34-ABC8-B275BEA1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4E7-524E-40BB-9028-25C2AB16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FF3-029D-4305-9268-6236578F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EDD-FB0F-44DD-B986-BDE75FD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9B61-F996-4C81-8F08-12585CD41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jhs</cp:lastModifiedBy>
  <dcterms:modified xsi:type="dcterms:W3CDTF">2012-11-20T19:49:36Z</dcterms:modified>
  <cp:revision>5</cp:revision>
  <dc:subject/>
  <dc:title>PowerPoint Presentation</dc:title>
</cp:coreProperties>
</file>