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940D-421F-4AAD-A7F1-5EEB0F9F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188B-16E4-4428-B38A-F7ACE60D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8DB6-ACF8-4544-8194-2D70280D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B696-25A5-463A-9698-116C4A27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0C26-8E86-49A4-AE8D-2A297B71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3AF6-9401-46C0-87AB-D5F66F1E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58DE-7871-4E9C-B0FC-5BCE1AC6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C7E1-C413-449E-94C8-011A23CF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2B48-3023-4514-A944-C39424AF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E9C3-F680-46E9-BB7A-BC7F76B1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ABC6-6E85-485C-9037-986A78B2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F375-E3C8-440B-8DCC-56FA5CE9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6488-67C7-42E8-9B47-7D4433D0E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2120" y="507960"/>
          <a:ext cx="8636040" cy="6613560"/>
        </p:xfrm>
        <a:graphic>
          <a:graphicData uri="http://schemas.openxmlformats.org/drawingml/2006/table">
            <a:tbl>
              <a:tblPr/>
              <a:tblGrid>
                <a:gridCol w="4317840"/>
                <a:gridCol w="4318200"/>
              </a:tblGrid>
              <a:tr h="3639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Direct Object Pronoun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irect objec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ls who or what receives the action of the verb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P always go before the conjugated verb or attached to the infinitiv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void repeating a direct object noun you replace it with a direct object prono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, la, lo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a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an refer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s and peop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, te, no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fer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opl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s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come los tac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a a com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va a comer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ieres? Si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iero much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rae la cuenta por favor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rim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 objects befor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next to the “r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ep them close to the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cannot go far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353960" y="846000"/>
          <a:ext cx="3556080" cy="2577960"/>
        </p:xfrm>
        <a:graphic>
          <a:graphicData uri="http://schemas.openxmlformats.org/drawingml/2006/table">
            <a:tbl>
              <a:tblPr/>
              <a:tblGrid>
                <a:gridCol w="1684440"/>
                <a:gridCol w="187164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 (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 (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 (you) fa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(you) fa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 (it, him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(them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(it, her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(them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67080" y="3505320"/>
            <a:ext cx="1716120" cy="95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343400" y="3657600"/>
            <a:ext cx="159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no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vie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62120" y="507960"/>
          <a:ext cx="8636040" cy="6831000"/>
        </p:xfrm>
        <a:graphic>
          <a:graphicData uri="http://schemas.openxmlformats.org/drawingml/2006/table">
            <a:tbl>
              <a:tblPr/>
              <a:tblGrid>
                <a:gridCol w="4317840"/>
                <a:gridCol w="4318200"/>
              </a:tblGrid>
              <a:tr h="3639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Indirect Object Pronoun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 objects are nouns that tell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______/______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r _____ _______/ wh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 object pronouns ________ or accompany _________________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1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rim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 objects befor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next to the “r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ep them close to the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cannot go far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nouns ____ and _____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 objects. To clarify what they mean they are often accompanied b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_______, ___________ or 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dd emphasis use: a + 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015920" y="677880"/>
          <a:ext cx="3726000" cy="3313080"/>
        </p:xfrm>
        <a:graphic>
          <a:graphicData uri="http://schemas.openxmlformats.org/drawingml/2006/table">
            <a:tbl>
              <a:tblPr/>
              <a:tblGrid>
                <a:gridCol w="1763640"/>
                <a:gridCol w="1962360"/>
              </a:tblGrid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495680" y="3505320"/>
            <a:ext cx="1716120" cy="869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3505320"/>
            <a:ext cx="159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rec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no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bjhs</cp:lastModifiedBy>
  <dcterms:modified xsi:type="dcterms:W3CDTF">2012-11-20T19:49:36Z</dcterms:modified>
  <cp:revision>5</cp:revision>
  <dc:subject/>
  <dc:title>PowerPoint Presentation</dc:title>
</cp:coreProperties>
</file>