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31B-4372-4A04-A797-269F63A5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74F-6ACD-4C0D-B9C5-D15520DA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CF3-A52C-40E9-A739-60C607EE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2F7-D0D7-4FC2-98A2-84DB4CFC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6BB-AC2B-493E-9839-1A42C045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46B-C60A-4273-AD9E-9954C25F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5BA-63B4-48C9-966A-E399D200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125-66EF-4341-9553-9D3D068A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051-8E0E-4036-8838-F1BEEA60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1D6-5D0F-4675-AB44-8F3F37FD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53F-994C-4FD4-8EB2-0BFC1260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5EB-3BFE-4F6B-817E-E24F1FA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0753-D082-4E3B-BCCF-D2B936EFA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jhs</cp:lastModifiedBy>
  <dcterms:modified xsi:type="dcterms:W3CDTF">2012-11-20T19:49:36Z</dcterms:modified>
  <cp:revision>5</cp:revision>
  <dc:subject/>
  <dc:title>PowerPoint Presentation</dc:title>
</cp:coreProperties>
</file>