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E4F-C67B-4072-9A23-33EF8C97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A77-F6A8-40BE-9DB1-1BB41C22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4C3-8E9C-4070-A70A-F78DB8AB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E6B-0417-4DBF-A802-53B6FBF5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9F4-EC48-4562-98D9-EAEC6061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D00-2C07-4B68-9855-B699CB5D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460-F3BD-4845-8769-BC924384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AA6-8612-4E50-AFC8-74C200C8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168-894B-4297-A353-94E32828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32D-F8BA-461D-BB80-7F1224BD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AB7-F835-4E60-B904-B854F298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783-A386-49EB-8D85-B373AA50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D2F8-E952-4667-8EED-C2269163D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507960"/>
          <a:ext cx="8636040" cy="661356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rect objec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who or what receives the action of the ver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P always go before the conjugated verb or attached to the infinit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void repeating a direct object noun you replace it with a direct object prono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, la, 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n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and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, te, n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op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come los ta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 a com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 va a com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es? Si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iero much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e la cuenta por favor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353960" y="846000"/>
          <a:ext cx="3556080" cy="2577960"/>
        </p:xfrm>
        <a:graphic>
          <a:graphicData uri="http://schemas.openxmlformats.org/drawingml/2006/table">
            <a:tbl>
              <a:tblPr/>
              <a:tblGrid>
                <a:gridCol w="1684440"/>
                <a:gridCol w="187164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(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 (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you) f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(it, hi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(it, her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(them, yo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1716120" cy="95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365760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507960"/>
          <a:ext cx="8636040" cy="6831000"/>
        </p:xfrm>
        <a:graphic>
          <a:graphicData uri="http://schemas.openxmlformats.org/drawingml/2006/table">
            <a:tbl>
              <a:tblPr/>
              <a:tblGrid>
                <a:gridCol w="4317840"/>
                <a:gridCol w="4318200"/>
              </a:tblGrid>
              <a:tr h="363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Indirect Object Pronou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 are nouns that tel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______/_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_____ _______/ 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342720">
                        <a:lnSpc>
                          <a:spcPct val="9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 pronouns ________ or accompany _________________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1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ri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bjects befor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next to the “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p them close to the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cannot go far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nouns ____ and _____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 objects. To clarify what they mean they are often accompanied b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_______, ___________ or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d emphasis use: a + 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15920" y="677880"/>
          <a:ext cx="3726000" cy="3313080"/>
        </p:xfrm>
        <a:graphic>
          <a:graphicData uri="http://schemas.openxmlformats.org/drawingml/2006/table">
            <a:tbl>
              <a:tblPr/>
              <a:tblGrid>
                <a:gridCol w="1763640"/>
                <a:gridCol w="19623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1716120" cy="86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5320"/>
            <a:ext cx="159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rec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jhs</cp:lastModifiedBy>
  <dcterms:modified xsi:type="dcterms:W3CDTF">2012-11-20T19:49:36Z</dcterms:modified>
  <cp:revision>5</cp:revision>
  <dc:subject/>
  <dc:title>PowerPoint Presentation</dc:title>
</cp:coreProperties>
</file>