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1080" y="39783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916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81080" y="39783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9160" y="39783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96880" y="18288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2680" y="18288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81080" y="39783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96880" y="39783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2680" y="39783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981080" y="1828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9160" y="18288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81080" y="3427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9160" y="18288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81080" y="39783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81080" y="1828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916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9160" y="39783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916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81080" y="39783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81080" y="39783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916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981080" y="39783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9160" y="39783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96880" y="18288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12680" y="182880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981080" y="39783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196880" y="39783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12680" y="397836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39160" y="18288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81080" y="3427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39160" y="18288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81080" y="39783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916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9160" y="397836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9160" y="182880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81080" y="397836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984320" cy="6846840"/>
            <a:chOff x="0" y="0"/>
            <a:chExt cx="1984320" cy="6846840"/>
          </a:xfrm>
        </p:grpSpPr>
        <p:sp>
          <p:nvSpPr>
            <p:cNvPr id="1" name=""/>
            <p:cNvSpPr/>
            <p:nvPr/>
          </p:nvSpPr>
          <p:spPr>
            <a:xfrm>
              <a:off x="812880" y="4572000"/>
              <a:ext cx="941400" cy="231840"/>
            </a:xfrm>
            <a:custGeom>
              <a:avLst/>
              <a:gdLst/>
              <a:ahLst/>
              <a:rect l="l" t="t" r="r" b="b"/>
              <a:pathLst>
                <a:path w="593" h="146">
                  <a:moveTo>
                    <a:pt x="0" y="104"/>
                  </a:moveTo>
                  <a:lnTo>
                    <a:pt x="208" y="48"/>
                  </a:lnTo>
                  <a:lnTo>
                    <a:pt x="400" y="145"/>
                  </a:lnTo>
                  <a:lnTo>
                    <a:pt x="592" y="0"/>
                  </a:lnTo>
                </a:path>
              </a:pathLst>
            </a:custGeom>
            <a:noFill/>
            <a:ln cap="rnd" w="25560">
              <a:solidFill>
                <a:srgbClr val="76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63640" y="4000680"/>
              <a:ext cx="1081080" cy="369720"/>
            </a:xfrm>
            <a:custGeom>
              <a:avLst/>
              <a:gdLst/>
              <a:ahLst/>
              <a:rect l="l" t="t" r="r" b="b"/>
              <a:pathLst>
                <a:path w="681" h="233">
                  <a:moveTo>
                    <a:pt x="0" y="232"/>
                  </a:moveTo>
                  <a:lnTo>
                    <a:pt x="203" y="108"/>
                  </a:lnTo>
                  <a:lnTo>
                    <a:pt x="315" y="223"/>
                  </a:lnTo>
                  <a:lnTo>
                    <a:pt x="471" y="0"/>
                  </a:lnTo>
                  <a:lnTo>
                    <a:pt x="680" y="71"/>
                  </a:lnTo>
                </a:path>
              </a:pathLst>
            </a:custGeom>
            <a:noFill/>
            <a:ln cap="rnd" w="25560">
              <a:solidFill>
                <a:srgbClr val="76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76240" y="5100480"/>
              <a:ext cx="1087560" cy="301680"/>
            </a:xfrm>
            <a:custGeom>
              <a:avLst/>
              <a:gdLst/>
              <a:ahLst/>
              <a:rect l="l" t="t" r="r" b="b"/>
              <a:pathLst>
                <a:path w="685" h="190">
                  <a:moveTo>
                    <a:pt x="0" y="3"/>
                  </a:moveTo>
                  <a:lnTo>
                    <a:pt x="129" y="0"/>
                  </a:lnTo>
                  <a:lnTo>
                    <a:pt x="229" y="150"/>
                  </a:lnTo>
                  <a:lnTo>
                    <a:pt x="422" y="49"/>
                  </a:lnTo>
                  <a:lnTo>
                    <a:pt x="684" y="189"/>
                  </a:lnTo>
                </a:path>
              </a:pathLst>
            </a:custGeom>
            <a:noFill/>
            <a:ln cap="rnd" w="25560">
              <a:solidFill>
                <a:srgbClr val="76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0"/>
              <a:ext cx="1984320" cy="6846840"/>
            </a:xfrm>
            <a:custGeom>
              <a:avLst/>
              <a:gdLst/>
              <a:ahLst/>
              <a:rect l="l" t="t" r="r" b="b"/>
              <a:pathLst>
                <a:path w="1250" h="4313">
                  <a:moveTo>
                    <a:pt x="888" y="0"/>
                  </a:moveTo>
                  <a:lnTo>
                    <a:pt x="1249" y="1967"/>
                  </a:lnTo>
                  <a:lnTo>
                    <a:pt x="927" y="1968"/>
                  </a:lnTo>
                  <a:lnTo>
                    <a:pt x="927" y="2385"/>
                  </a:lnTo>
                  <a:lnTo>
                    <a:pt x="890" y="2385"/>
                  </a:lnTo>
                  <a:lnTo>
                    <a:pt x="855" y="2390"/>
                  </a:lnTo>
                  <a:lnTo>
                    <a:pt x="824" y="2400"/>
                  </a:lnTo>
                  <a:lnTo>
                    <a:pt x="791" y="2411"/>
                  </a:lnTo>
                  <a:lnTo>
                    <a:pt x="754" y="2426"/>
                  </a:lnTo>
                  <a:lnTo>
                    <a:pt x="721" y="2442"/>
                  </a:lnTo>
                  <a:lnTo>
                    <a:pt x="686" y="2463"/>
                  </a:lnTo>
                  <a:lnTo>
                    <a:pt x="655" y="2484"/>
                  </a:lnTo>
                  <a:lnTo>
                    <a:pt x="621" y="2514"/>
                  </a:lnTo>
                  <a:lnTo>
                    <a:pt x="590" y="2545"/>
                  </a:lnTo>
                  <a:lnTo>
                    <a:pt x="565" y="2575"/>
                  </a:lnTo>
                  <a:lnTo>
                    <a:pt x="541" y="2609"/>
                  </a:lnTo>
                  <a:lnTo>
                    <a:pt x="520" y="2645"/>
                  </a:lnTo>
                  <a:lnTo>
                    <a:pt x="503" y="2678"/>
                  </a:lnTo>
                  <a:lnTo>
                    <a:pt x="488" y="2715"/>
                  </a:lnTo>
                  <a:lnTo>
                    <a:pt x="471" y="2757"/>
                  </a:lnTo>
                  <a:lnTo>
                    <a:pt x="459" y="2796"/>
                  </a:lnTo>
                  <a:lnTo>
                    <a:pt x="450" y="2841"/>
                  </a:lnTo>
                  <a:lnTo>
                    <a:pt x="444" y="2880"/>
                  </a:lnTo>
                  <a:lnTo>
                    <a:pt x="440" y="2921"/>
                  </a:lnTo>
                  <a:lnTo>
                    <a:pt x="440" y="2961"/>
                  </a:lnTo>
                  <a:lnTo>
                    <a:pt x="440" y="3014"/>
                  </a:lnTo>
                  <a:lnTo>
                    <a:pt x="445" y="3057"/>
                  </a:lnTo>
                  <a:lnTo>
                    <a:pt x="451" y="3105"/>
                  </a:lnTo>
                  <a:lnTo>
                    <a:pt x="464" y="3155"/>
                  </a:lnTo>
                  <a:lnTo>
                    <a:pt x="481" y="3204"/>
                  </a:lnTo>
                  <a:lnTo>
                    <a:pt x="498" y="3246"/>
                  </a:lnTo>
                  <a:lnTo>
                    <a:pt x="521" y="3291"/>
                  </a:lnTo>
                  <a:lnTo>
                    <a:pt x="553" y="3339"/>
                  </a:lnTo>
                  <a:lnTo>
                    <a:pt x="584" y="3386"/>
                  </a:lnTo>
                  <a:lnTo>
                    <a:pt x="618" y="3420"/>
                  </a:lnTo>
                  <a:lnTo>
                    <a:pt x="650" y="3452"/>
                  </a:lnTo>
                  <a:lnTo>
                    <a:pt x="686" y="3480"/>
                  </a:lnTo>
                  <a:lnTo>
                    <a:pt x="730" y="3504"/>
                  </a:lnTo>
                  <a:lnTo>
                    <a:pt x="774" y="3524"/>
                  </a:lnTo>
                  <a:lnTo>
                    <a:pt x="829" y="3539"/>
                  </a:lnTo>
                  <a:lnTo>
                    <a:pt x="878" y="3542"/>
                  </a:lnTo>
                  <a:lnTo>
                    <a:pt x="928" y="3540"/>
                  </a:lnTo>
                  <a:lnTo>
                    <a:pt x="928" y="4312"/>
                  </a:lnTo>
                  <a:lnTo>
                    <a:pt x="0" y="4312"/>
                  </a:lnTo>
                  <a:lnTo>
                    <a:pt x="0" y="0"/>
                  </a:lnTo>
                  <a:lnTo>
                    <a:pt x="8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981080" y="1828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r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r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 algn="r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 algn="r">
              <a:spcBef>
                <a:spcPts val="799"/>
              </a:spcBef>
              <a:buClr>
                <a:srgbClr val="fafd00"/>
              </a:buClr>
              <a:buFont typeface="Helvetica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 algn="r">
              <a:spcBef>
                <a:spcPts val="799"/>
              </a:spcBef>
              <a:buClr>
                <a:srgbClr val="fafd00"/>
              </a:buClr>
              <a:buFont typeface="Helvetica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 algn="r">
              <a:spcBef>
                <a:spcPts val="799"/>
              </a:spcBef>
              <a:buClr>
                <a:srgbClr val="ffffff"/>
              </a:buClr>
              <a:buFont typeface="Helvetica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 algn="r">
              <a:spcBef>
                <a:spcPts val="799"/>
              </a:spcBef>
              <a:buClr>
                <a:srgbClr val="ffffff"/>
              </a:buClr>
              <a:buFont typeface="Helvetica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95440" y="976320"/>
            <a:ext cx="712800" cy="7128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5760"/>
                <a:tab algn="l" pos="371520"/>
                <a:tab algn="l" pos="557280"/>
                <a:tab algn="l" pos="743040"/>
                <a:tab algn="l" pos="928800"/>
                <a:tab algn="l" pos="1114560"/>
                <a:tab algn="l" pos="1300320"/>
                <a:tab algn="l" pos="1486080"/>
                <a:tab algn="l" pos="1671480"/>
                <a:tab algn="l" pos="1857240"/>
                <a:tab algn="l" pos="2043000"/>
                <a:tab algn="l" pos="2228760"/>
                <a:tab algn="l" pos="2414520"/>
                <a:tab algn="l" pos="2600280"/>
                <a:tab algn="l" pos="2786040"/>
                <a:tab algn="l" pos="2971800"/>
                <a:tab algn="l" pos="3157560"/>
                <a:tab algn="l" pos="3343320"/>
                <a:tab algn="l" pos="3529080"/>
                <a:tab algn="l" pos="37148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1984320" cy="6846840"/>
            <a:chOff x="0" y="0"/>
            <a:chExt cx="1984320" cy="6846840"/>
          </a:xfrm>
        </p:grpSpPr>
        <p:sp>
          <p:nvSpPr>
            <p:cNvPr id="45" name=""/>
            <p:cNvSpPr/>
            <p:nvPr/>
          </p:nvSpPr>
          <p:spPr>
            <a:xfrm>
              <a:off x="812880" y="4572000"/>
              <a:ext cx="941400" cy="231840"/>
            </a:xfrm>
            <a:custGeom>
              <a:avLst/>
              <a:gdLst/>
              <a:ahLst/>
              <a:rect l="l" t="t" r="r" b="b"/>
              <a:pathLst>
                <a:path w="593" h="146">
                  <a:moveTo>
                    <a:pt x="0" y="104"/>
                  </a:moveTo>
                  <a:lnTo>
                    <a:pt x="208" y="48"/>
                  </a:lnTo>
                  <a:lnTo>
                    <a:pt x="400" y="145"/>
                  </a:lnTo>
                  <a:lnTo>
                    <a:pt x="592" y="0"/>
                  </a:lnTo>
                </a:path>
              </a:pathLst>
            </a:custGeom>
            <a:noFill/>
            <a:ln cap="rnd" w="25560">
              <a:solidFill>
                <a:srgbClr val="76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63640" y="4000680"/>
              <a:ext cx="1081080" cy="369720"/>
            </a:xfrm>
            <a:custGeom>
              <a:avLst/>
              <a:gdLst/>
              <a:ahLst/>
              <a:rect l="l" t="t" r="r" b="b"/>
              <a:pathLst>
                <a:path w="681" h="233">
                  <a:moveTo>
                    <a:pt x="0" y="232"/>
                  </a:moveTo>
                  <a:lnTo>
                    <a:pt x="203" y="108"/>
                  </a:lnTo>
                  <a:lnTo>
                    <a:pt x="315" y="223"/>
                  </a:lnTo>
                  <a:lnTo>
                    <a:pt x="471" y="0"/>
                  </a:lnTo>
                  <a:lnTo>
                    <a:pt x="680" y="71"/>
                  </a:lnTo>
                </a:path>
              </a:pathLst>
            </a:custGeom>
            <a:noFill/>
            <a:ln cap="rnd" w="25560">
              <a:solidFill>
                <a:srgbClr val="76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6240" y="5100480"/>
              <a:ext cx="1087560" cy="301680"/>
            </a:xfrm>
            <a:custGeom>
              <a:avLst/>
              <a:gdLst/>
              <a:ahLst/>
              <a:rect l="l" t="t" r="r" b="b"/>
              <a:pathLst>
                <a:path w="685" h="190">
                  <a:moveTo>
                    <a:pt x="0" y="3"/>
                  </a:moveTo>
                  <a:lnTo>
                    <a:pt x="129" y="0"/>
                  </a:lnTo>
                  <a:lnTo>
                    <a:pt x="229" y="150"/>
                  </a:lnTo>
                  <a:lnTo>
                    <a:pt x="422" y="49"/>
                  </a:lnTo>
                  <a:lnTo>
                    <a:pt x="684" y="189"/>
                  </a:lnTo>
                </a:path>
              </a:pathLst>
            </a:custGeom>
            <a:noFill/>
            <a:ln cap="rnd" w="25560">
              <a:solidFill>
                <a:srgbClr val="76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1984320" cy="6846840"/>
            </a:xfrm>
            <a:custGeom>
              <a:avLst/>
              <a:gdLst/>
              <a:ahLst/>
              <a:rect l="l" t="t" r="r" b="b"/>
              <a:pathLst>
                <a:path w="1250" h="4313">
                  <a:moveTo>
                    <a:pt x="888" y="0"/>
                  </a:moveTo>
                  <a:lnTo>
                    <a:pt x="1249" y="1967"/>
                  </a:lnTo>
                  <a:lnTo>
                    <a:pt x="927" y="1968"/>
                  </a:lnTo>
                  <a:lnTo>
                    <a:pt x="927" y="2385"/>
                  </a:lnTo>
                  <a:lnTo>
                    <a:pt x="890" y="2385"/>
                  </a:lnTo>
                  <a:lnTo>
                    <a:pt x="855" y="2390"/>
                  </a:lnTo>
                  <a:lnTo>
                    <a:pt x="824" y="2400"/>
                  </a:lnTo>
                  <a:lnTo>
                    <a:pt x="791" y="2411"/>
                  </a:lnTo>
                  <a:lnTo>
                    <a:pt x="754" y="2426"/>
                  </a:lnTo>
                  <a:lnTo>
                    <a:pt x="721" y="2442"/>
                  </a:lnTo>
                  <a:lnTo>
                    <a:pt x="686" y="2463"/>
                  </a:lnTo>
                  <a:lnTo>
                    <a:pt x="655" y="2484"/>
                  </a:lnTo>
                  <a:lnTo>
                    <a:pt x="621" y="2514"/>
                  </a:lnTo>
                  <a:lnTo>
                    <a:pt x="590" y="2545"/>
                  </a:lnTo>
                  <a:lnTo>
                    <a:pt x="565" y="2575"/>
                  </a:lnTo>
                  <a:lnTo>
                    <a:pt x="541" y="2609"/>
                  </a:lnTo>
                  <a:lnTo>
                    <a:pt x="520" y="2645"/>
                  </a:lnTo>
                  <a:lnTo>
                    <a:pt x="503" y="2678"/>
                  </a:lnTo>
                  <a:lnTo>
                    <a:pt x="488" y="2715"/>
                  </a:lnTo>
                  <a:lnTo>
                    <a:pt x="471" y="2757"/>
                  </a:lnTo>
                  <a:lnTo>
                    <a:pt x="459" y="2796"/>
                  </a:lnTo>
                  <a:lnTo>
                    <a:pt x="450" y="2841"/>
                  </a:lnTo>
                  <a:lnTo>
                    <a:pt x="444" y="2880"/>
                  </a:lnTo>
                  <a:lnTo>
                    <a:pt x="440" y="2921"/>
                  </a:lnTo>
                  <a:lnTo>
                    <a:pt x="440" y="2961"/>
                  </a:lnTo>
                  <a:lnTo>
                    <a:pt x="440" y="3014"/>
                  </a:lnTo>
                  <a:lnTo>
                    <a:pt x="445" y="3057"/>
                  </a:lnTo>
                  <a:lnTo>
                    <a:pt x="451" y="3105"/>
                  </a:lnTo>
                  <a:lnTo>
                    <a:pt x="464" y="3155"/>
                  </a:lnTo>
                  <a:lnTo>
                    <a:pt x="481" y="3204"/>
                  </a:lnTo>
                  <a:lnTo>
                    <a:pt x="498" y="3246"/>
                  </a:lnTo>
                  <a:lnTo>
                    <a:pt x="521" y="3291"/>
                  </a:lnTo>
                  <a:lnTo>
                    <a:pt x="553" y="3339"/>
                  </a:lnTo>
                  <a:lnTo>
                    <a:pt x="584" y="3386"/>
                  </a:lnTo>
                  <a:lnTo>
                    <a:pt x="618" y="3420"/>
                  </a:lnTo>
                  <a:lnTo>
                    <a:pt x="650" y="3452"/>
                  </a:lnTo>
                  <a:lnTo>
                    <a:pt x="686" y="3480"/>
                  </a:lnTo>
                  <a:lnTo>
                    <a:pt x="730" y="3504"/>
                  </a:lnTo>
                  <a:lnTo>
                    <a:pt x="774" y="3524"/>
                  </a:lnTo>
                  <a:lnTo>
                    <a:pt x="829" y="3539"/>
                  </a:lnTo>
                  <a:lnTo>
                    <a:pt x="878" y="3542"/>
                  </a:lnTo>
                  <a:lnTo>
                    <a:pt x="928" y="3540"/>
                  </a:lnTo>
                  <a:lnTo>
                    <a:pt x="928" y="4312"/>
                  </a:lnTo>
                  <a:lnTo>
                    <a:pt x="0" y="4312"/>
                  </a:lnTo>
                  <a:lnTo>
                    <a:pt x="0" y="0"/>
                  </a:lnTo>
                  <a:lnTo>
                    <a:pt x="8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3885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5440" y="976320"/>
            <a:ext cx="712800" cy="7128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5760"/>
                <a:tab algn="l" pos="371520"/>
                <a:tab algn="l" pos="557280"/>
                <a:tab algn="l" pos="743040"/>
                <a:tab algn="l" pos="928800"/>
                <a:tab algn="l" pos="1114560"/>
                <a:tab algn="l" pos="1300320"/>
                <a:tab algn="l" pos="1486080"/>
                <a:tab algn="l" pos="1671480"/>
                <a:tab algn="l" pos="1857240"/>
                <a:tab algn="l" pos="2043000"/>
                <a:tab algn="l" pos="2228760"/>
                <a:tab algn="l" pos="2414520"/>
                <a:tab algn="l" pos="2600280"/>
                <a:tab algn="l" pos="2786040"/>
                <a:tab algn="l" pos="2971800"/>
                <a:tab algn="l" pos="3157560"/>
                <a:tab algn="l" pos="3343320"/>
                <a:tab algn="l" pos="3529080"/>
                <a:tab algn="l" pos="37148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Helvetica"/>
              <a:buChar char="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Helvetica"/>
              <a:buChar char="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Helvetica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Helvetica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040" y="2361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Present Progressive: 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rregular Forms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and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Present Progressive with Pronouns</a:t>
            </a:r>
            <a:endParaRPr b="1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5105160"/>
            <a:ext cx="60962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.2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esent Progressive:  REVIEW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523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remember your regular present progressive fo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say that something is happening right now, use the present tense forms of </a:t>
            </a:r>
            <a:r>
              <a:rPr b="0" i="1" lang="en-US" sz="4000" spc="-1" strike="noStrike">
                <a:solidFill>
                  <a:srgbClr val="dc0081"/>
                </a:solidFill>
                <a:latin typeface="Arial"/>
              </a:rPr>
              <a:t>estar</a:t>
            </a:r>
            <a:r>
              <a:rPr b="0" lang="en-US" sz="4000" spc="-1" strike="noStrike">
                <a:solidFill>
                  <a:srgbClr val="dc0081"/>
                </a:solidFill>
                <a:latin typeface="Arial"/>
              </a:rPr>
              <a:t> + the present participle         (-ando or -iendo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esent Progressive:  REVIEW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blar &gt; doblan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la </a:t>
            </a:r>
            <a:r>
              <a:rPr b="0" lang="en-US" sz="3600" spc="-1" strike="noStrike">
                <a:solidFill>
                  <a:srgbClr val="dc0081"/>
                </a:solidFill>
                <a:latin typeface="Arial"/>
              </a:rPr>
              <a:t>está dobland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 la izquier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ender &gt; aprendien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0081"/>
                </a:solidFill>
                <a:latin typeface="Arial"/>
              </a:rPr>
              <a:t>Estoy aprendiend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 cocin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cribir &gt; esciribien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0081"/>
                </a:solidFill>
                <a:latin typeface="Arial"/>
              </a:rPr>
              <a:t>Ellos están escribiend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na ca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esent Progressive:  Irregular Form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verbs have irregular present participle for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form the present participle of </a:t>
            </a:r>
            <a:r>
              <a:rPr b="0" i="1" lang="en-US" sz="4000" spc="-1" strike="noStrike">
                <a:solidFill>
                  <a:srgbClr val="dc0081"/>
                </a:solidFill>
                <a:latin typeface="Arial"/>
              </a:rPr>
              <a:t>-i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em-changing verbs, the </a:t>
            </a:r>
            <a:r>
              <a:rPr b="0" i="1" lang="en-US" sz="4000" spc="-1" strike="noStrike">
                <a:solidFill>
                  <a:srgbClr val="dc0081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the infinitive form changes to </a:t>
            </a:r>
            <a:r>
              <a:rPr b="0" i="1" lang="en-US" sz="4000" spc="-1" strike="noStrike">
                <a:solidFill>
                  <a:srgbClr val="dc0081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the </a:t>
            </a:r>
            <a:r>
              <a:rPr b="0" i="1" lang="en-US" sz="4000" spc="-1" strike="noStrike">
                <a:solidFill>
                  <a:srgbClr val="dc0081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the infinitive form changes to </a:t>
            </a:r>
            <a:r>
              <a:rPr b="0" i="1" lang="en-US" sz="4000" spc="-1" strike="noStrike">
                <a:solidFill>
                  <a:srgbClr val="dc0081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esent Progressive:  Irregular Form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d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et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gu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st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rm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4120" y="182880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dc008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dc008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</a:t>
            </a:r>
            <a:r>
              <a:rPr b="0" lang="en-US" sz="3200" spc="-1" strike="noStrike">
                <a:solidFill>
                  <a:srgbClr val="dc008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dc008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dc008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v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dc008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dc0081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esent Progressive:  Irregular Form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0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ollowing </a:t>
            </a:r>
            <a:r>
              <a:rPr b="0" i="1" lang="en-US" sz="4000" spc="-1" strike="noStrike">
                <a:solidFill>
                  <a:srgbClr val="dc0081"/>
                </a:solidFill>
                <a:latin typeface="Arial"/>
              </a:rPr>
              <a:t>-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bs, the </a:t>
            </a:r>
            <a:r>
              <a:rPr b="0" i="1" lang="en-US" sz="4000" spc="-1" strike="noStrike">
                <a:solidFill>
                  <a:srgbClr val="dc0081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-iend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nges to </a:t>
            </a:r>
            <a:r>
              <a:rPr b="0" i="1" lang="en-US" sz="4000" spc="-1" strike="noStrike">
                <a:solidFill>
                  <a:srgbClr val="dc0081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er:  cre</a:t>
            </a:r>
            <a:r>
              <a:rPr b="0" lang="en-US" sz="4000" spc="-1" strike="noStrike">
                <a:solidFill>
                  <a:srgbClr val="dc0081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er:  le</a:t>
            </a:r>
            <a:r>
              <a:rPr b="0" lang="en-US" sz="4000" spc="-1" strike="noStrike">
                <a:solidFill>
                  <a:srgbClr val="dc0081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er:  tra</a:t>
            </a:r>
            <a:r>
              <a:rPr b="0" lang="en-US" sz="4000" spc="-1" strike="noStrike">
                <a:solidFill>
                  <a:srgbClr val="dc0081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ir: o</a:t>
            </a:r>
            <a:r>
              <a:rPr b="0" lang="en-US" sz="4000" spc="-1" strike="noStrike">
                <a:solidFill>
                  <a:srgbClr val="dc0081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Using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Pronouns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with the Present Progressive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0720" y="1447920"/>
            <a:ext cx="71629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use pronouns with the present progressive, you can put them in </a:t>
            </a:r>
            <a:r>
              <a:rPr b="0" lang="en-US" sz="2800" spc="-1" strike="noStrike">
                <a:solidFill>
                  <a:srgbClr val="dc0081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l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conjugated form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t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¿Están Uds. esperando </a:t>
            </a:r>
            <a:r>
              <a:rPr b="0" lang="en-US" sz="2800" spc="-1" strike="noStrike">
                <a:solidFill>
                  <a:srgbClr val="dc0081"/>
                </a:solidFill>
                <a:latin typeface="Arial"/>
              </a:rPr>
              <a:t>el autobú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Sí, </a:t>
            </a:r>
            <a:r>
              <a:rPr b="0" lang="en-US" sz="2800" spc="-1" strike="noStrike">
                <a:solidFill>
                  <a:srgbClr val="dc0081"/>
                </a:solidFill>
                <a:latin typeface="Arial"/>
              </a:rPr>
              <a:t>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stamos esperan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m to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present partici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¿Están Uds. esperando </a:t>
            </a:r>
            <a:r>
              <a:rPr b="0" lang="en-US" sz="2800" spc="-1" strike="noStrike">
                <a:solidFill>
                  <a:srgbClr val="dc0081"/>
                </a:solidFill>
                <a:latin typeface="Arial"/>
              </a:rPr>
              <a:t>el autobú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, estamos esperándo</a:t>
            </a:r>
            <a:r>
              <a:rPr b="0" lang="en-US" sz="2800" spc="-1" strike="noStrike">
                <a:solidFill>
                  <a:srgbClr val="dc0081"/>
                </a:solidFill>
                <a:latin typeface="Arial"/>
                <a:ea typeface="ＭＳ Ｐゴシック"/>
              </a:rPr>
              <a:t>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42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 Accen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 that if a pronoun is attached to the present participle, an accent mark is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¿Q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é estás haciendo con las joy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-Estoy limpi</a:t>
            </a:r>
            <a:r>
              <a:rPr b="0" lang="en-US" sz="2800" spc="-1" strike="noStrike">
                <a:solidFill>
                  <a:srgbClr val="dc0081"/>
                </a:solidFill>
                <a:latin typeface="Arial"/>
                <a:ea typeface="ＭＳ Ｐゴシック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dol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20:43:59Z</dcterms:created>
  <dc:creator>NIHS</dc:creator>
  <dc:description/>
  <cp:keywords/>
  <dc:language>en-US</dc:language>
  <cp:lastModifiedBy>teacher</cp:lastModifiedBy>
  <cp:lastPrinted>2014-02-11T06:44:45Z</cp:lastPrinted>
  <dcterms:modified xsi:type="dcterms:W3CDTF">2011-01-27T21:17:42Z</dcterms:modified>
  <cp:revision>7</cp:revision>
  <dc:subject/>
  <dc:title>Present Progressive:   Irregular Forms</dc:title>
</cp:coreProperties>
</file>