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4E8-9BD4-43FA-A9C3-397CB81A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4AB6-87E4-44BF-B9E1-7E75A48B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D369-5C8A-408F-9B7E-26BA6085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2A4-B8EB-4335-947A-C6F67D9F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6EC6-B92E-4738-8EE4-EBF7D04F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F221-A5D2-4C5A-A542-6959C6B9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72E7-1095-4CDB-A1C7-E89AECF8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DC16-09F9-4918-A7D3-59D7BC4C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8DD9-5FE7-4711-A218-9BE7DD4A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80FC-E6BB-4925-8AD0-A7292E68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A76D-DF83-48F5-BBB3-EF4C965B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F396-9566-4E75-B14C-6A4CBEA9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C9BE-BBBA-41A0-AAA6-C0074864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9053-188B-46D6-9EF5-95B7626F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1762-4F18-4692-8882-F5C903A5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CF16-B03D-4F88-A6FF-32BFD919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D9CF-9AD2-4C48-A8B1-2F7211E1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5B3B-5826-402A-B7AE-1C24F50B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69E7-6585-4E01-B072-D1E3CD1F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CE90-297D-4582-B0DF-F05BB242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97A0-0F8B-44B5-852F-F2ED4669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C0C4-3DCE-443F-AD7D-F66E18F8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350-24E8-4E67-96A0-896FA8F6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5FFC-28AE-4750-9DF3-A3BBF215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8768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7600" y="3124080"/>
            <a:ext cx="258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LEG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5840" y="41911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le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3960" y="41911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leg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4495680"/>
            <a:ext cx="380880" cy="381240"/>
          </a:xfrm>
          <a:custGeom>
            <a:avLst/>
            <a:gdLst>
              <a:gd name="textAreaLeft" fmla="*/ 0 w 380880"/>
              <a:gd name="textAreaRight" fmla="*/ 381240 w 380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30480" y="4191120"/>
            <a:ext cx="6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0200" y="5410080"/>
            <a:ext cx="436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llegu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ar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3040" y="2209680"/>
            <a:ext cx="324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gar (g…gu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7240" y="3124080"/>
            <a:ext cx="265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Z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5840" y="419112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3600" y="419112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4495680"/>
            <a:ext cx="380880" cy="381240"/>
          </a:xfrm>
          <a:custGeom>
            <a:avLst/>
            <a:gdLst>
              <a:gd name="textAreaLeft" fmla="*/ 0 w 380880"/>
              <a:gd name="textAreaRight" fmla="*/ 381240 w 380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30480" y="4191120"/>
            <a:ext cx="6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5410080"/>
            <a:ext cx="409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cruc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qu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600" y="2209680"/>
            <a:ext cx="283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zar (z…c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 verbs, such as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e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st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ave irregular negative tú command for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541008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39084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t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2438280"/>
            <a:ext cx="3390840" cy="35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d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esté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vay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se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4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member that pronouns are attached to 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affirmative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an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541008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the pronoun is added to a command form that has two or more syllables, write an accent mark on the syllable stressed in the present ten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624852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Pico las ceboll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í, píca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la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41008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negative commands, pronouns always go right 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befor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verb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541008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Pico los tomates tambié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, no los piq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form negativ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ú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commands with regular verbs, we drop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present-tens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orm and add the following ending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5867280"/>
            <a:ext cx="2209680" cy="0"/>
          </a:xfrm>
          <a:prstGeom prst="line">
            <a:avLst/>
          </a:prstGeom>
          <a:ln cap="sq" w="7632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5080" y="2376360"/>
            <a:ext cx="268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3920" y="320040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3581280"/>
            <a:ext cx="99072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30280" y="312408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b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352680"/>
            <a:ext cx="381240" cy="381240"/>
          </a:xfrm>
          <a:custGeom>
            <a:avLst/>
            <a:gdLst>
              <a:gd name="textAreaLeft" fmla="*/ 0 w 381240"/>
              <a:gd name="textAreaRight" fmla="*/ 381600 w 38124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8560" y="3048120"/>
            <a:ext cx="6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5080" y="4433760"/>
            <a:ext cx="424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habl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ho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080" y="2376360"/>
            <a:ext cx="234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3920" y="320040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3581280"/>
            <a:ext cx="99072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30280" y="312408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352680"/>
            <a:ext cx="381240" cy="381240"/>
          </a:xfrm>
          <a:custGeom>
            <a:avLst/>
            <a:gdLst>
              <a:gd name="textAreaLeft" fmla="*/ 0 w 381240"/>
              <a:gd name="textAreaRight" fmla="*/ 381600 w 38124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68560" y="3048120"/>
            <a:ext cx="72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000" y="4433760"/>
            <a:ext cx="382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coma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5440" y="2376360"/>
            <a:ext cx="204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R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3560" y="320040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3581280"/>
            <a:ext cx="99072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30280" y="3124080"/>
            <a:ext cx="95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3352680"/>
            <a:ext cx="380880" cy="381240"/>
          </a:xfrm>
          <a:custGeom>
            <a:avLst/>
            <a:gdLst>
              <a:gd name="textAreaLeft" fmla="*/ 0 w 380880"/>
              <a:gd name="textAreaRight" fmla="*/ 381240 w 380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68560" y="3048120"/>
            <a:ext cx="72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00" y="4433760"/>
            <a:ext cx="529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abra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a puer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ice that -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verbs take the ending -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nd that -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rbs take the ending -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tem-changing verbs the stem change rema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5867280"/>
            <a:ext cx="1828800" cy="0"/>
          </a:xfrm>
          <a:prstGeom prst="line">
            <a:avLst/>
          </a:prstGeom>
          <a:ln cap="sq"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encienda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el horn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añada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demasiado s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ponga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los camarones en la sartén todaví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rbs ending i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-c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-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g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and -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z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ave the following spelling changes in negativ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ú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commands in order to maintain the original s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6095880"/>
            <a:ext cx="251460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6880" y="3124080"/>
            <a:ext cx="224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C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5480" y="419112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4320" y="419112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q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4495680"/>
            <a:ext cx="380880" cy="381240"/>
          </a:xfrm>
          <a:custGeom>
            <a:avLst/>
            <a:gdLst>
              <a:gd name="textAreaLeft" fmla="*/ 0 w 380880"/>
              <a:gd name="textAreaRight" fmla="*/ 381240 w 380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30480" y="4191120"/>
            <a:ext cx="6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0560" y="5410080"/>
            <a:ext cx="502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toqu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el pian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2320" y="2209680"/>
            <a:ext cx="317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car (c…qu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03:03:31Z</dcterms:created>
  <dc:creator>NIHS</dc:creator>
  <dc:description/>
  <dc:language>en-US</dc:language>
  <cp:lastModifiedBy>teacher</cp:lastModifiedBy>
  <dcterms:modified xsi:type="dcterms:W3CDTF">2011-01-22T15:12:35Z</dcterms:modified>
  <cp:revision>4</cp:revision>
  <dc:subject/>
  <dc:title>No Slide Title</dc:title>
</cp:coreProperties>
</file>