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17C-A6C6-4D13-8693-65E79408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964-09DE-4441-ABFF-C5A20D09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BA1-5420-496C-9F86-1A8B8A82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0D4-3207-41FB-9458-40202715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ED64-754E-4399-B5A6-52A8F8D8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2C90-4E29-4B44-AF6D-7B9E9BBA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A3C-0318-438A-A21F-B4349F3D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A9C1-902C-4973-8088-FE270B6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86EC-CFCF-4E4F-951B-C7817C4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A275-962B-4F3A-A69C-47486A02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1581-5930-445E-B716-CDBC5B25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717-8AA3-4B33-9314-2F2D7445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91D2-8697-4307-A96D-ED6F5DB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2E54-EFAD-4510-928E-32D62EC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B6DC-B14C-45D8-92CE-79F2F4A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27A-BD25-4C17-BFCE-34835EEF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1275-86C8-4E2B-8E2C-5C02183D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974-4376-4E8C-B4CA-52A8DDA4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EDC-AF1F-4B13-8246-8FA8C4C1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C81-1825-4942-99F7-5D401FF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6EB-B03F-4262-A8EC-FFA76D2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1DA-09F1-4FEA-981E-BAD5BB6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D1E-4BFC-40B3-A13C-5BF809D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923-42EF-4735-9D72-8C7BC56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600" y="3124080"/>
            <a:ext cx="258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58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96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5410080"/>
            <a:ext cx="43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lleg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3040" y="2209680"/>
            <a:ext cx="32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gar (g…g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240" y="312408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5840" y="41911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360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410080"/>
            <a:ext cx="409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ruc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600" y="220968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zar (z…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verbs, such a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irregular negative tú comm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3908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438280"/>
            <a:ext cx="33908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té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pronouns are attached to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ffirmativ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pronoun is added to a command form that has two or more syllables, write an accent mark on the syllable stressed in the present te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624852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as ceboll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píca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egative commands, pronouns always go right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Pico los tomates tambié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, no los piq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orm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with regular verbs, we drop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present-ten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m and add the following end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867280"/>
            <a:ext cx="2209680" cy="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080" y="2376360"/>
            <a:ext cx="26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8560" y="3048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5080" y="4433760"/>
            <a:ext cx="42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hab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h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080" y="2376360"/>
            <a:ext cx="23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0 w 381240"/>
              <a:gd name="textAreaRight" fmla="*/ 381600 w 381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" y="443376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om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440" y="2376360"/>
            <a:ext cx="20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3560" y="320040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30280" y="312408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00" y="4433760"/>
            <a:ext cx="52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br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a puer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ice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that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take the ending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em-changing verbs the stem change rem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867280"/>
            <a:ext cx="182880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ncien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hor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añad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masiado 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pong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os camarones en la sartén todav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ending i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-c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-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z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he following spelling changes in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in order to maintain the original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6095880"/>
            <a:ext cx="251460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880" y="31240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54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4320" y="4191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q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048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560" y="5410080"/>
            <a:ext cx="50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toq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pi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320" y="22096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r (c…q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03:31Z</dcterms:created>
  <dc:creator>NIHS</dc:creator>
  <dc:description/>
  <dc:language>en-US</dc:language>
  <cp:lastModifiedBy>teacher</cp:lastModifiedBy>
  <dcterms:modified xsi:type="dcterms:W3CDTF">2011-01-22T15:12:35Z</dcterms:modified>
  <cp:revision>4</cp:revision>
  <dc:subject/>
  <dc:title>No Slide Title</dc:title>
</cp:coreProperties>
</file>