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651-9D14-4A7A-9CF3-EF24A848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066-5FC8-45FC-9A12-30DC5E8D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0D4-60EF-485E-8434-E6699F3E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466-E0F4-4930-BE60-440F6060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CF02-8012-4193-BAA8-49094C17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A686-EAA3-4D98-BC2E-C68CF1F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94B-DCBB-440B-BE13-0932E0DE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A898-62F4-435E-9B3E-A4C2A7C0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3F35-2BEB-4DDC-8DB8-E1A6A17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012-5F58-4613-8687-AFE3979E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B6F-A2E4-4479-A162-C780E5B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475-7A97-4EF4-8298-B5F7C623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041-C766-447D-BB31-3A727AB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89E5-A823-45CD-ACD8-20B8A5D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5AE-83A3-4BA3-9324-CFAED6E7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1857-4D6D-4380-A61E-CEFAC650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AD3-24C1-46F5-BB37-6E09BADA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FC2-7A79-4092-AD82-064BDDB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F32-E33B-4DE8-969C-B96AB725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915-0ABB-46A6-B3E8-CA9C9147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D8D-110D-4288-94AE-4971228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A7-8AA0-4D56-BAEE-0250E5F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415-D462-439C-87EF-D4F9F1A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859-3316-420D-936F-5CE724E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60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5410080"/>
            <a:ext cx="43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24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584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360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410080"/>
            <a:ext cx="40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60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as ceboll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píc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os tomat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, no los piq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08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856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508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08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2376360"/>
            <a:ext cx="20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3560" y="320040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0280" y="31240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00" y="443376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br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a pue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ncien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hor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ña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masiado 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pong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os camarones en la sartén todav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560" y="541008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32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teacher</cp:lastModifiedBy>
  <dcterms:modified xsi:type="dcterms:W3CDTF">2011-01-22T15:12:35Z</dcterms:modified>
  <cp:revision>4</cp:revision>
  <dc:subject/>
  <dc:title>No Slide Title</dc:title>
</cp:coreProperties>
</file>