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0BB0-DE8A-4F77-B747-62374DDA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803A-3A79-41E2-BD7D-CFCE8FB1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7B05-0606-4459-A0F2-4B897560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1AC8-D01B-4F5F-B41A-B827CDE1B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C702-1E4F-401F-96B8-DE905F088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7098-7AF5-4BB6-AAC9-41B9DFBE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2D93-6E24-4193-8D93-A724414A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E1AC-2706-4800-AD32-28F02F62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1687-6507-42BC-92C6-14ABB034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5EAF-2410-43D7-B528-A794199A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8ED1-056A-4BF5-9C31-712F307F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C6C6-4CFD-403B-9480-3A81F5E2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1345-D8E7-4A20-966F-A516BFB6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D4A5-CF06-4B4E-B385-7FD13C42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2BB5-3ADF-4E48-9105-6242C64E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69AD-4F8B-40FD-AF26-6B581183E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8996-47B2-401C-8009-2F605E1C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9954-35E4-4129-B4E1-3C5224F7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493C-5E7F-4288-A1A4-D129F3F7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8DB1-A622-4D75-AB59-0322642B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7544-FE5A-4B47-B12B-1FCD1186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03D0-69B9-47B7-B65B-CB1A2E5F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DC4D-A611-42C1-AE1F-07F30551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3839-6D7A-435E-9875-470688A4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6160" y="0"/>
            <a:ext cx="8772480" cy="6726240"/>
            <a:chOff x="146160" y="0"/>
            <a:chExt cx="8772480" cy="6726240"/>
          </a:xfrm>
        </p:grpSpPr>
        <p:grpSp>
          <p:nvGrpSpPr>
            <p:cNvPr id="1" name=""/>
            <p:cNvGrpSpPr/>
            <p:nvPr/>
          </p:nvGrpSpPr>
          <p:grpSpPr>
            <a:xfrm>
              <a:off x="146160" y="649440"/>
              <a:ext cx="8772480" cy="6076800"/>
              <a:chOff x="146160" y="649440"/>
              <a:chExt cx="8772480" cy="6076800"/>
            </a:xfrm>
          </p:grpSpPr>
          <p:sp>
            <p:nvSpPr>
              <p:cNvPr id="2" name=""/>
              <p:cNvSpPr/>
              <p:nvPr/>
            </p:nvSpPr>
            <p:spPr>
              <a:xfrm>
                <a:off x="146160" y="649440"/>
                <a:ext cx="8772480" cy="6076800"/>
              </a:xfrm>
              <a:custGeom>
                <a:avLst/>
                <a:gdLst/>
                <a:ahLst/>
                <a:rect l="l" t="t" r="r" b="b"/>
                <a:pathLst>
                  <a:path w="5526" h="3828">
                    <a:moveTo>
                      <a:pt x="684" y="3"/>
                    </a:moveTo>
                    <a:lnTo>
                      <a:pt x="708" y="2"/>
                    </a:lnTo>
                    <a:lnTo>
                      <a:pt x="5523" y="0"/>
                    </a:lnTo>
                    <a:lnTo>
                      <a:pt x="5525" y="3827"/>
                    </a:lnTo>
                    <a:lnTo>
                      <a:pt x="0" y="3827"/>
                    </a:lnTo>
                    <a:lnTo>
                      <a:pt x="7" y="577"/>
                    </a:lnTo>
                    <a:lnTo>
                      <a:pt x="9" y="544"/>
                    </a:lnTo>
                    <a:lnTo>
                      <a:pt x="14" y="516"/>
                    </a:lnTo>
                    <a:lnTo>
                      <a:pt x="22" y="490"/>
                    </a:lnTo>
                    <a:lnTo>
                      <a:pt x="35" y="470"/>
                    </a:lnTo>
                    <a:lnTo>
                      <a:pt x="51" y="456"/>
                    </a:lnTo>
                    <a:lnTo>
                      <a:pt x="64" y="446"/>
                    </a:lnTo>
                    <a:lnTo>
                      <a:pt x="594" y="52"/>
                    </a:lnTo>
                    <a:lnTo>
                      <a:pt x="630" y="26"/>
                    </a:lnTo>
                    <a:lnTo>
                      <a:pt x="654" y="9"/>
                    </a:lnTo>
                    <a:lnTo>
                      <a:pt x="684" y="3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6633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189000" y="677880"/>
                <a:ext cx="984240" cy="896760"/>
                <a:chOff x="189000" y="677880"/>
                <a:chExt cx="984240" cy="89676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201600" y="728640"/>
                  <a:ext cx="920880" cy="846000"/>
                </a:xfrm>
                <a:custGeom>
                  <a:avLst/>
                  <a:gdLst/>
                  <a:ahLst/>
                  <a:rect l="l" t="t" r="r" b="b"/>
                  <a:pathLst>
                    <a:path w="580" h="533">
                      <a:moveTo>
                        <a:pt x="154" y="440"/>
                      </a:moveTo>
                      <a:lnTo>
                        <a:pt x="323" y="493"/>
                      </a:lnTo>
                      <a:lnTo>
                        <a:pt x="372" y="517"/>
                      </a:lnTo>
                      <a:lnTo>
                        <a:pt x="411" y="532"/>
                      </a:lnTo>
                      <a:lnTo>
                        <a:pt x="411" y="497"/>
                      </a:lnTo>
                      <a:lnTo>
                        <a:pt x="415" y="440"/>
                      </a:lnTo>
                      <a:lnTo>
                        <a:pt x="425" y="395"/>
                      </a:lnTo>
                      <a:lnTo>
                        <a:pt x="441" y="326"/>
                      </a:lnTo>
                      <a:lnTo>
                        <a:pt x="457" y="276"/>
                      </a:lnTo>
                      <a:lnTo>
                        <a:pt x="474" y="240"/>
                      </a:lnTo>
                      <a:lnTo>
                        <a:pt x="488" y="190"/>
                      </a:lnTo>
                      <a:lnTo>
                        <a:pt x="504" y="149"/>
                      </a:lnTo>
                      <a:lnTo>
                        <a:pt x="525" y="102"/>
                      </a:lnTo>
                      <a:lnTo>
                        <a:pt x="579" y="0"/>
                      </a:lnTo>
                      <a:lnTo>
                        <a:pt x="28" y="398"/>
                      </a:lnTo>
                      <a:lnTo>
                        <a:pt x="0" y="420"/>
                      </a:lnTo>
                      <a:lnTo>
                        <a:pt x="90" y="423"/>
                      </a:lnTo>
                      <a:lnTo>
                        <a:pt x="154" y="440"/>
                      </a:lnTo>
                    </a:path>
                  </a:pathLst>
                </a:custGeom>
                <a:solidFill>
                  <a:srgbClr val="6633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189000" y="677880"/>
                  <a:ext cx="984240" cy="750960"/>
                </a:xfrm>
                <a:custGeom>
                  <a:avLst/>
                  <a:gdLst/>
                  <a:ahLst/>
                  <a:rect l="l" t="t" r="r" b="b"/>
                  <a:pathLst>
                    <a:path w="620" h="473">
                      <a:moveTo>
                        <a:pt x="0" y="472"/>
                      </a:moveTo>
                      <a:lnTo>
                        <a:pt x="15" y="445"/>
                      </a:lnTo>
                      <a:lnTo>
                        <a:pt x="61" y="411"/>
                      </a:lnTo>
                      <a:lnTo>
                        <a:pt x="619" y="0"/>
                      </a:lnTo>
                      <a:lnTo>
                        <a:pt x="466" y="153"/>
                      </a:lnTo>
                      <a:lnTo>
                        <a:pt x="366" y="315"/>
                      </a:lnTo>
                      <a:lnTo>
                        <a:pt x="301" y="467"/>
                      </a:lnTo>
                      <a:lnTo>
                        <a:pt x="222" y="435"/>
                      </a:lnTo>
                      <a:lnTo>
                        <a:pt x="132" y="413"/>
                      </a:lnTo>
                      <a:lnTo>
                        <a:pt x="76" y="420"/>
                      </a:lnTo>
                      <a:lnTo>
                        <a:pt x="30" y="432"/>
                      </a:lnTo>
                      <a:lnTo>
                        <a:pt x="0" y="472"/>
                      </a:lnTo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" name=""/>
            <p:cNvGrpSpPr/>
            <p:nvPr/>
          </p:nvGrpSpPr>
          <p:grpSpPr>
            <a:xfrm>
              <a:off x="3254400" y="0"/>
              <a:ext cx="2603520" cy="988920"/>
              <a:chOff x="3254400" y="0"/>
              <a:chExt cx="2603520" cy="988920"/>
            </a:xfrm>
          </p:grpSpPr>
          <p:sp>
            <p:nvSpPr>
              <p:cNvPr id="7" name=""/>
              <p:cNvSpPr/>
              <p:nvPr/>
            </p:nvSpPr>
            <p:spPr>
              <a:xfrm>
                <a:off x="325440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736800" y="493560"/>
                <a:ext cx="36864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941720" y="485640"/>
                <a:ext cx="368640" cy="57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229280" y="0"/>
                <a:ext cx="60156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25772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299120" y="15840"/>
                <a:ext cx="44280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430056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433224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46392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51324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48768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51144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65300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3654360" y="2257560"/>
            <a:ext cx="2048040" cy="90360"/>
          </a:xfrm>
          <a:custGeom>
            <a:avLst/>
            <a:gdLst/>
            <a:ahLst/>
            <a:rect l="l" t="t" r="r" b="b"/>
            <a:pathLst>
              <a:path w="1290" h="57">
                <a:moveTo>
                  <a:pt x="10" y="0"/>
                </a:moveTo>
                <a:lnTo>
                  <a:pt x="0" y="19"/>
                </a:lnTo>
                <a:lnTo>
                  <a:pt x="2" y="40"/>
                </a:lnTo>
                <a:lnTo>
                  <a:pt x="28" y="50"/>
                </a:lnTo>
                <a:lnTo>
                  <a:pt x="148" y="53"/>
                </a:lnTo>
                <a:lnTo>
                  <a:pt x="297" y="53"/>
                </a:lnTo>
                <a:lnTo>
                  <a:pt x="468" y="53"/>
                </a:lnTo>
                <a:lnTo>
                  <a:pt x="667" y="53"/>
                </a:lnTo>
                <a:lnTo>
                  <a:pt x="830" y="53"/>
                </a:lnTo>
                <a:lnTo>
                  <a:pt x="993" y="55"/>
                </a:lnTo>
                <a:lnTo>
                  <a:pt x="1139" y="53"/>
                </a:lnTo>
                <a:lnTo>
                  <a:pt x="1226" y="56"/>
                </a:lnTo>
                <a:lnTo>
                  <a:pt x="1279" y="47"/>
                </a:lnTo>
                <a:lnTo>
                  <a:pt x="1289" y="25"/>
                </a:lnTo>
                <a:lnTo>
                  <a:pt x="1275" y="14"/>
                </a:lnTo>
                <a:lnTo>
                  <a:pt x="1274" y="27"/>
                </a:lnTo>
                <a:lnTo>
                  <a:pt x="1261" y="35"/>
                </a:lnTo>
                <a:lnTo>
                  <a:pt x="1236" y="38"/>
                </a:lnTo>
                <a:lnTo>
                  <a:pt x="1196" y="40"/>
                </a:lnTo>
                <a:lnTo>
                  <a:pt x="1121" y="40"/>
                </a:lnTo>
                <a:lnTo>
                  <a:pt x="973" y="40"/>
                </a:lnTo>
                <a:lnTo>
                  <a:pt x="844" y="40"/>
                </a:lnTo>
                <a:lnTo>
                  <a:pt x="712" y="38"/>
                </a:lnTo>
                <a:lnTo>
                  <a:pt x="584" y="40"/>
                </a:lnTo>
                <a:lnTo>
                  <a:pt x="432" y="42"/>
                </a:lnTo>
                <a:lnTo>
                  <a:pt x="315" y="43"/>
                </a:lnTo>
                <a:lnTo>
                  <a:pt x="226" y="40"/>
                </a:lnTo>
                <a:lnTo>
                  <a:pt x="141" y="42"/>
                </a:lnTo>
                <a:lnTo>
                  <a:pt x="78" y="40"/>
                </a:lnTo>
                <a:lnTo>
                  <a:pt x="41" y="40"/>
                </a:lnTo>
                <a:lnTo>
                  <a:pt x="20" y="35"/>
                </a:lnTo>
                <a:lnTo>
                  <a:pt x="14" y="22"/>
                </a:lnTo>
                <a:lnTo>
                  <a:pt x="10" y="4"/>
                </a:lnTo>
                <a:lnTo>
                  <a:pt x="5" y="5"/>
                </a:lnTo>
                <a:lnTo>
                  <a:pt x="7" y="6"/>
                </a:lnTo>
                <a:lnTo>
                  <a:pt x="10" y="0"/>
                </a:lnTo>
                <a:lnTo>
                  <a:pt x="10" y="4"/>
                </a:lnTo>
                <a:lnTo>
                  <a:pt x="9" y="6"/>
                </a:lnTo>
                <a:lnTo>
                  <a:pt x="10" y="0"/>
                </a:lnTo>
                <a:lnTo>
                  <a:pt x="10" y="4"/>
                </a:lnTo>
                <a:lnTo>
                  <a:pt x="9" y="7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3" name=""/>
            <p:cNvSpPr/>
            <p:nvPr/>
          </p:nvSpPr>
          <p:spPr>
            <a:xfrm>
              <a:off x="204840" y="652320"/>
              <a:ext cx="8781840" cy="6100920"/>
            </a:xfrm>
            <a:custGeom>
              <a:avLst/>
              <a:gdLst/>
              <a:ahLst/>
              <a:rect l="l" t="t" r="r" b="b"/>
              <a:pathLst>
                <a:path w="5532" h="3843">
                  <a:moveTo>
                    <a:pt x="674" y="2"/>
                  </a:moveTo>
                  <a:lnTo>
                    <a:pt x="5531" y="0"/>
                  </a:lnTo>
                  <a:lnTo>
                    <a:pt x="5531" y="3832"/>
                  </a:lnTo>
                  <a:lnTo>
                    <a:pt x="0" y="3842"/>
                  </a:lnTo>
                  <a:lnTo>
                    <a:pt x="6" y="580"/>
                  </a:lnTo>
                  <a:lnTo>
                    <a:pt x="14" y="547"/>
                  </a:lnTo>
                  <a:lnTo>
                    <a:pt x="25" y="504"/>
                  </a:lnTo>
                  <a:lnTo>
                    <a:pt x="36" y="473"/>
                  </a:lnTo>
                  <a:lnTo>
                    <a:pt x="51" y="458"/>
                  </a:lnTo>
                  <a:lnTo>
                    <a:pt x="64" y="448"/>
                  </a:lnTo>
                  <a:lnTo>
                    <a:pt x="656" y="5"/>
                  </a:lnTo>
                  <a:lnTo>
                    <a:pt x="674" y="2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5" name="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344840" y="15840"/>
                <a:ext cx="44316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51000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55932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53376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5752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69908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"/>
          <p:cNvSpPr/>
          <p:nvPr/>
        </p:nvSpPr>
        <p:spPr>
          <a:xfrm>
            <a:off x="272880" y="797040"/>
            <a:ext cx="806760" cy="717480"/>
          </a:xfrm>
          <a:custGeom>
            <a:avLst/>
            <a:gdLst/>
            <a:ahLst/>
            <a:rect l="l" t="t" r="r" b="b"/>
            <a:pathLst>
              <a:path w="508" h="452">
                <a:moveTo>
                  <a:pt x="129" y="376"/>
                </a:moveTo>
                <a:lnTo>
                  <a:pt x="272" y="427"/>
                </a:lnTo>
                <a:lnTo>
                  <a:pt x="313" y="451"/>
                </a:lnTo>
                <a:lnTo>
                  <a:pt x="333" y="449"/>
                </a:lnTo>
                <a:lnTo>
                  <a:pt x="348" y="376"/>
                </a:lnTo>
                <a:lnTo>
                  <a:pt x="365" y="332"/>
                </a:lnTo>
                <a:lnTo>
                  <a:pt x="382" y="262"/>
                </a:lnTo>
                <a:lnTo>
                  <a:pt x="394" y="221"/>
                </a:lnTo>
                <a:lnTo>
                  <a:pt x="409" y="181"/>
                </a:lnTo>
                <a:lnTo>
                  <a:pt x="423" y="133"/>
                </a:lnTo>
                <a:lnTo>
                  <a:pt x="445" y="98"/>
                </a:lnTo>
                <a:lnTo>
                  <a:pt x="469" y="48"/>
                </a:lnTo>
                <a:lnTo>
                  <a:pt x="507" y="0"/>
                </a:lnTo>
                <a:lnTo>
                  <a:pt x="25" y="335"/>
                </a:lnTo>
                <a:lnTo>
                  <a:pt x="0" y="358"/>
                </a:lnTo>
                <a:lnTo>
                  <a:pt x="76" y="360"/>
                </a:lnTo>
                <a:lnTo>
                  <a:pt x="129" y="376"/>
                </a:lnTo>
              </a:path>
            </a:pathLst>
          </a:cu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5600" y="654120"/>
            <a:ext cx="984240" cy="766800"/>
          </a:xfrm>
          <a:custGeom>
            <a:avLst/>
            <a:gdLst/>
            <a:ahLst/>
            <a:rect l="l" t="t" r="r" b="b"/>
            <a:pathLst>
              <a:path w="620" h="483">
                <a:moveTo>
                  <a:pt x="0" y="477"/>
                </a:moveTo>
                <a:lnTo>
                  <a:pt x="13" y="452"/>
                </a:lnTo>
                <a:lnTo>
                  <a:pt x="56" y="422"/>
                </a:lnTo>
                <a:lnTo>
                  <a:pt x="619" y="0"/>
                </a:lnTo>
                <a:lnTo>
                  <a:pt x="425" y="184"/>
                </a:lnTo>
                <a:lnTo>
                  <a:pt x="329" y="336"/>
                </a:lnTo>
                <a:lnTo>
                  <a:pt x="268" y="482"/>
                </a:lnTo>
                <a:lnTo>
                  <a:pt x="197" y="449"/>
                </a:lnTo>
                <a:lnTo>
                  <a:pt x="119" y="425"/>
                </a:lnTo>
                <a:lnTo>
                  <a:pt x="70" y="429"/>
                </a:lnTo>
                <a:lnTo>
                  <a:pt x="28" y="440"/>
                </a:lnTo>
                <a:lnTo>
                  <a:pt x="0" y="477"/>
                </a:ln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7600" y="3124080"/>
            <a:ext cx="258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LEG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15840" y="419112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leg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90920" y="4648320"/>
            <a:ext cx="990360" cy="0"/>
          </a:xfrm>
          <a:prstGeom prst="line">
            <a:avLst/>
          </a:prstGeom>
          <a:ln cap="sq"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3960" y="419112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leg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4495680"/>
            <a:ext cx="380880" cy="381240"/>
          </a:xfrm>
          <a:custGeom>
            <a:avLst/>
            <a:gdLst>
              <a:gd name="textAreaLeft" fmla="*/ 0 w 380880"/>
              <a:gd name="textAreaRight" fmla="*/ 381240 w 38088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cc00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30480" y="4191120"/>
            <a:ext cx="68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0200" y="5410080"/>
            <a:ext cx="436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llegu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ar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3040" y="2209680"/>
            <a:ext cx="324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gar (g…gu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7240" y="3124080"/>
            <a:ext cx="265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UZ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5840" y="4191120"/>
            <a:ext cx="15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u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90920" y="4648320"/>
            <a:ext cx="990360" cy="0"/>
          </a:xfrm>
          <a:prstGeom prst="line">
            <a:avLst/>
          </a:prstGeom>
          <a:ln cap="sq"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3600" y="4191120"/>
            <a:ext cx="123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u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4495680"/>
            <a:ext cx="380880" cy="381240"/>
          </a:xfrm>
          <a:custGeom>
            <a:avLst/>
            <a:gdLst>
              <a:gd name="textAreaLeft" fmla="*/ 0 w 380880"/>
              <a:gd name="textAreaRight" fmla="*/ 381240 w 38088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cc00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30480" y="4191120"/>
            <a:ext cx="68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5410080"/>
            <a:ext cx="409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cruc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qu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600" y="2209680"/>
            <a:ext cx="283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zar (z…c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me verbs, such as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i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e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da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esta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have irregular negative tú command form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5410080"/>
            <a:ext cx="396252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39084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t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2438280"/>
            <a:ext cx="3390840" cy="35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d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esté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vay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se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4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9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4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9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member that pronouns are attached to 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affirmative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man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5410080"/>
            <a:ext cx="396252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the pronoun is added to a command form that has two or more syllables, write an accent mark on the syllable stressed in the present ten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14800" y="6248520"/>
            <a:ext cx="396252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8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Pico las ceboll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í, píca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la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5410080"/>
            <a:ext cx="396252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5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negative commands, pronouns always go right 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befor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 verb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5410080"/>
            <a:ext cx="396252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Pico los tomates tambié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, no los piqu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4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form negativ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ú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commands with regular verbs, we drop 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the present-tens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o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form and add the following ending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43600" y="5867280"/>
            <a:ext cx="2209680" cy="0"/>
          </a:xfrm>
          <a:prstGeom prst="line">
            <a:avLst/>
          </a:prstGeom>
          <a:ln cap="sq" w="7632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5080" y="2376360"/>
            <a:ext cx="268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BL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3920" y="3200400"/>
            <a:ext cx="15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3581280"/>
            <a:ext cx="990720" cy="0"/>
          </a:xfrm>
          <a:prstGeom prst="line">
            <a:avLst/>
          </a:prstGeom>
          <a:ln cap="sq"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30280" y="3124080"/>
            <a:ext cx="123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b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352680"/>
            <a:ext cx="381240" cy="381240"/>
          </a:xfrm>
          <a:custGeom>
            <a:avLst/>
            <a:gdLst>
              <a:gd name="textAreaLeft" fmla="*/ 0 w 381240"/>
              <a:gd name="textAreaRight" fmla="*/ 381600 w 38124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cc00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8560" y="3048120"/>
            <a:ext cx="68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5080" y="4433760"/>
            <a:ext cx="424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habl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ho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5080" y="2376360"/>
            <a:ext cx="234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3920" y="3200400"/>
            <a:ext cx="15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57600" y="3581280"/>
            <a:ext cx="990720" cy="0"/>
          </a:xfrm>
          <a:prstGeom prst="line">
            <a:avLst/>
          </a:prstGeom>
          <a:ln cap="sq"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30280" y="3124080"/>
            <a:ext cx="123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3352680"/>
            <a:ext cx="381240" cy="381240"/>
          </a:xfrm>
          <a:custGeom>
            <a:avLst/>
            <a:gdLst>
              <a:gd name="textAreaLeft" fmla="*/ 0 w 381240"/>
              <a:gd name="textAreaRight" fmla="*/ 381600 w 38124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cc00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468560" y="3048120"/>
            <a:ext cx="72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4000" y="4433760"/>
            <a:ext cx="382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comas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5440" y="2376360"/>
            <a:ext cx="204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BRI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53560" y="3200400"/>
            <a:ext cx="126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br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3581280"/>
            <a:ext cx="990720" cy="0"/>
          </a:xfrm>
          <a:prstGeom prst="line">
            <a:avLst/>
          </a:prstGeom>
          <a:ln cap="sq"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30280" y="3124080"/>
            <a:ext cx="95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b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00800" y="3352680"/>
            <a:ext cx="380880" cy="381240"/>
          </a:xfrm>
          <a:custGeom>
            <a:avLst/>
            <a:gdLst>
              <a:gd name="textAreaLeft" fmla="*/ 0 w 380880"/>
              <a:gd name="textAreaRight" fmla="*/ 381240 w 38088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cc00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68560" y="3048120"/>
            <a:ext cx="72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000" y="4433760"/>
            <a:ext cx="529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abras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a puert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tice that -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verbs take the ending -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nd that -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er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erbs take the ending -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stem-changing verbs the stem change remai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5867280"/>
            <a:ext cx="1828800" cy="0"/>
          </a:xfrm>
          <a:prstGeom prst="line">
            <a:avLst/>
          </a:prstGeom>
          <a:ln cap="sq"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encienda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el horn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añada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demasiado s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ponga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los camarones en la sartén todaví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erbs ending i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-ca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-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ga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and -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za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have the following spelling changes in negativ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ú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commands in order to maintain the original sou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6095880"/>
            <a:ext cx="251460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6880" y="3124080"/>
            <a:ext cx="224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C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5480" y="4191120"/>
            <a:ext cx="123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c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4648320"/>
            <a:ext cx="990360" cy="0"/>
          </a:xfrm>
          <a:prstGeom prst="line">
            <a:avLst/>
          </a:prstGeom>
          <a:ln cap="sq"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64320" y="4191120"/>
            <a:ext cx="126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q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4495680"/>
            <a:ext cx="380880" cy="381240"/>
          </a:xfrm>
          <a:custGeom>
            <a:avLst/>
            <a:gdLst>
              <a:gd name="textAreaLeft" fmla="*/ 0 w 380880"/>
              <a:gd name="textAreaRight" fmla="*/ 381240 w 38088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cc00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30480" y="4191120"/>
            <a:ext cx="68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0560" y="5410080"/>
            <a:ext cx="502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toqu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el pian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2320" y="2209680"/>
            <a:ext cx="317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car (c…qu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8T03:03:31Z</dcterms:created>
  <dc:creator>NIHS</dc:creator>
  <dc:description/>
  <dc:language>en-US</dc:language>
  <cp:lastModifiedBy>teacher</cp:lastModifiedBy>
  <dcterms:modified xsi:type="dcterms:W3CDTF">2011-01-22T15:12:35Z</dcterms:modified>
  <cp:revision>4</cp:revision>
  <dc:subject/>
  <dc:title>No Slide Title</dc:title>
</cp:coreProperties>
</file>