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.wav" ContentType="audio/x-wav"/>
  <Override PartName="/ppt/media/image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D99-6D4D-490C-8E94-D4ADB320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6648-909C-4F08-AA98-96FFC082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402-5291-413D-BDCE-1240B717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F381-C80A-4231-8755-925537F3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0512-1DFE-47EC-9834-725900A4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1B07-A0B0-49A1-9C77-AED199E0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2698-A201-4A84-A898-C740961A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A41A-2125-4C3E-A159-EBDB8F6D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7468-38DD-44DA-9C28-B625A0B0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C7F6-7AAF-4956-B626-2B00C938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D49A-7BCA-4CE7-8399-CB48F2CD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E4AE-13CB-4B60-8053-74B77B50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9E89-4AFE-4B36-A8B8-46FEAF0F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DB01-1520-4260-8F9E-D69ACA8C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37D0-DAFE-4AEE-8953-AA05A481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9617-16C6-4BC1-91A1-0E55DE77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A3A4-ECA3-4672-8A58-01C27883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1F3C-0140-495F-BD57-9BC72213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B52-FE73-47F3-983E-4827927A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E0C-B621-473D-8620-76230619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4F9-5938-405D-A7BB-CCB98BE9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5E8F-6678-4766-994B-4952A539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60DA-4D3C-4746-B1C2-120158D5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F91-A2E5-407E-A2E1-F4B83F4B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7DDE-C2D5-4860-AE6E-EE24A64F28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505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B951-6383-4555-A492-892B9381786C}" type="slidenum">
              <a:rPr b="0" lang="en-US" sz="14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Page 56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Unidad 1, Etapa 2</a:t>
            </a: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Nouns and definite articl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king Nouns Plural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make nouns plural you usually add  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-</a:t>
            </a:r>
            <a:r>
              <a:rPr b="0" i="1" lang="en-US" sz="3200" spc="-1" strike="noStrike">
                <a:solidFill>
                  <a:srgbClr val="c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words ending in a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vow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-</a:t>
            </a:r>
            <a:r>
              <a:rPr b="0" i="1" lang="en-US" sz="3200" spc="-1" strike="noStrike">
                <a:solidFill>
                  <a:srgbClr val="c00000"/>
                </a:solidFill>
                <a:latin typeface="Tahoma"/>
              </a:rPr>
              <a:t>es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words ending in a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consona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udiant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udiante</a:t>
            </a: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ima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imal</a:t>
            </a: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Definite Articles 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Artículos definido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E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, </a:t>
            </a: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, </a:t>
            </a: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Lo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La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 called </a:t>
            </a: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definite article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English they mean </a:t>
            </a: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“the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Definite Article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(Artículos definidos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e use </a:t>
            </a:r>
            <a:r>
              <a:rPr b="0" i="1" lang="en-US" sz="4800" spc="-1" strike="noStrike">
                <a:solidFill>
                  <a:srgbClr val="ffcf01"/>
                </a:solidFill>
                <a:latin typeface="Tahoma"/>
              </a:rPr>
              <a:t>El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4800" spc="-1" strike="noStrike">
                <a:solidFill>
                  <a:srgbClr val="ffcf01"/>
                </a:solidFill>
                <a:latin typeface="Tahoma"/>
              </a:rPr>
              <a:t>Los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ith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masculin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nouns and </a:t>
            </a:r>
            <a:r>
              <a:rPr b="0" i="1" lang="en-US" sz="48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n-US" sz="4800" spc="-1" strike="noStrike">
                <a:solidFill>
                  <a:srgbClr val="00b050"/>
                </a:solidFill>
                <a:latin typeface="Tahoma"/>
              </a:rPr>
              <a:t>Las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ith </a:t>
            </a:r>
            <a:r>
              <a:rPr b="0" lang="en-US" sz="4800" spc="-1" strike="noStrike">
                <a:solidFill>
                  <a:srgbClr val="00b050"/>
                </a:solidFill>
                <a:latin typeface="Tahoma"/>
              </a:rPr>
              <a:t>feminin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nouns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Indefinite Article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Use definite articles to talk about a noun as a general category or when saying what you like with </a:t>
            </a:r>
            <a:r>
              <a:rPr b="0" i="1" lang="en-US" sz="4400" spc="-1" strike="noStrike">
                <a:solidFill>
                  <a:srgbClr val="c00000"/>
                </a:solidFill>
                <a:latin typeface="Tahoma"/>
              </a:rPr>
              <a:t>gustar</a:t>
            </a:r>
            <a:r>
              <a:rPr b="0" i="1" lang="en-US" sz="4400" spc="-1" strike="noStrike">
                <a:solidFill>
                  <a:srgbClr val="ffcf01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¿Cómo es </a:t>
            </a:r>
            <a:r>
              <a:rPr b="0" i="1" lang="en-US" sz="4400" spc="-1" strike="noStrike">
                <a:solidFill>
                  <a:srgbClr val="ffcf01"/>
                </a:solidFill>
                <a:latin typeface="Tahoma"/>
              </a:rPr>
              <a:t>l</a:t>
            </a: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a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pizza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deliciosa.  Me gusta </a:t>
            </a:r>
            <a:r>
              <a:rPr b="0" lang="en-US" sz="44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pizza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"/>
          <p:cNvSpPr/>
          <p:nvPr/>
        </p:nvSpPr>
        <p:spPr>
          <a:xfrm>
            <a:off x="1498680" y="1828800"/>
            <a:ext cx="5546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t’s a good idea t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rn a noun with i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e article, </a:t>
            </a: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e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o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, because that will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sually tell you th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gender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159084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2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NOUNS   (Sustantivos)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Nouns refer to people, animals, places, and things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NOUNS    (Sustantivos)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n Spanish, nouns have gender.  They are either </a:t>
            </a:r>
            <a:r>
              <a:rPr b="0" i="1" lang="en-US" sz="4800" spc="-1" strike="noStrike">
                <a:solidFill>
                  <a:srgbClr val="ffcf01"/>
                </a:solidFill>
                <a:latin typeface="Tahoma"/>
              </a:rPr>
              <a:t>masculin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i="1" lang="en-US" sz="4800" spc="-1" strike="noStrike">
                <a:solidFill>
                  <a:srgbClr val="00b050"/>
                </a:solidFill>
                <a:latin typeface="Tahoma"/>
              </a:rPr>
              <a:t>feminine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sculine / Feminine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ost nouns that end in  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-o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re masculin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sculine / Feminine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ost nouns that end in </a:t>
            </a:r>
            <a:r>
              <a:rPr b="0" lang="en-US" sz="4800" spc="-1" strike="noStrike">
                <a:solidFill>
                  <a:srgbClr val="00b050"/>
                </a:solidFill>
                <a:latin typeface="Tahoma"/>
              </a:rPr>
              <a:t>-a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re feminin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Masculine / Feminine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example: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l libr</a:t>
            </a:r>
            <a:r>
              <a:rPr b="0" lang="en-US" sz="4000" spc="-1" strike="noStrike" u="sng">
                <a:solidFill>
                  <a:srgbClr val="ffcf01"/>
                </a:solidFill>
                <a:uFillTx/>
                <a:latin typeface="Tahoma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 pizz</a:t>
            </a:r>
            <a:r>
              <a:rPr b="0" lang="en-US" sz="4000" spc="-1" strike="noStrike" u="sng">
                <a:solidFill>
                  <a:srgbClr val="00b050"/>
                </a:solidFill>
                <a:uFillTx/>
                <a:latin typeface="Tahoma"/>
              </a:rPr>
              <a:t>a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 exception:  el dí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*</a:t>
            </a:r>
            <a:r>
              <a:rPr b="0" lang="en-US" sz="1800" spc="-1" strike="noStrike">
                <a:solidFill>
                  <a:srgbClr val="ffcf01"/>
                </a:solidFill>
                <a:latin typeface="Tahoma"/>
              </a:rPr>
              <a:t>nouns that end in –ma and –pa are usually mascul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f01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</a:rPr>
              <a:t>and ones that end in –dad, -ción, and sión are usually femin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Other Spanish Noun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Other Spanish nouns end in </a:t>
            </a:r>
            <a:r>
              <a:rPr b="1" lang="en-US" sz="4800" spc="-1" strike="noStrike">
                <a:solidFill>
                  <a:srgbClr val="c00000"/>
                </a:solidFill>
                <a:latin typeface="Tahoma"/>
              </a:rPr>
              <a:t>-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or a </a:t>
            </a:r>
            <a:r>
              <a:rPr b="1" lang="en-US" sz="4800" spc="-1" strike="noStrike">
                <a:solidFill>
                  <a:srgbClr val="c00000"/>
                </a:solidFill>
                <a:latin typeface="Tahoma"/>
              </a:rPr>
              <a:t>consonant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Other Spanish Noun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r example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l ajedre</a:t>
            </a:r>
            <a:r>
              <a:rPr b="0" lang="en-US" sz="4800" spc="-1" strike="noStrike">
                <a:solidFill>
                  <a:srgbClr val="c00000"/>
                </a:solidFill>
                <a:latin typeface="Tahoma"/>
              </a:rPr>
              <a:t>z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el marcado</a:t>
            </a:r>
            <a:r>
              <a:rPr b="0" lang="en-US" sz="4800" spc="-1" strike="noStrike" u="sng">
                <a:solidFill>
                  <a:srgbClr val="c00000"/>
                </a:solidFill>
                <a:uFillTx/>
                <a:latin typeface="Tahoma"/>
              </a:rPr>
              <a:t>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la clas</a:t>
            </a:r>
            <a:r>
              <a:rPr b="0" lang="en-US" sz="4800" spc="-1" strike="noStrike" u="sng">
                <a:solidFill>
                  <a:srgbClr val="c00000"/>
                </a:solidFill>
                <a:uFillTx/>
                <a:latin typeface="Tahoma"/>
              </a:rPr>
              <a:t>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la televisió</a:t>
            </a:r>
            <a:r>
              <a:rPr b="0" lang="en-US" sz="4800" spc="-1" strike="noStrike" u="sng">
                <a:solidFill>
                  <a:srgbClr val="c00000"/>
                </a:solidFill>
                <a:uFillTx/>
                <a:latin typeface="Tahoma"/>
              </a:rPr>
              <a:t>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Tahoma"/>
              </a:rPr>
              <a:t>Other Spanish Nouns</a:t>
            </a:r>
            <a:endParaRPr b="0" lang="en-US" sz="5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ome can be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both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masculine and feminine:  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el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4800" spc="-1" strike="noStrike">
                <a:solidFill>
                  <a:srgbClr val="00b050"/>
                </a:solidFill>
                <a:latin typeface="Tahoma"/>
              </a:rPr>
              <a:t>la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estudian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click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1:07:28Z</dcterms:created>
  <dc:creator>Tom Shirley</dc:creator>
  <dc:description/>
  <dc:language>en-US</dc:language>
  <cp:lastModifiedBy>Brian Jarrel</cp:lastModifiedBy>
  <cp:lastPrinted>2009-04-22T19:24:48Z</cp:lastPrinted>
  <dcterms:modified xsi:type="dcterms:W3CDTF">2011-09-20T19:44:05Z</dcterms:modified>
  <cp:revision>22</cp:revision>
  <dc:subject/>
  <dc:title>PowerPoint Presentation</dc:title>
</cp:coreProperties>
</file>