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D0C-B0F3-43BD-BD91-835C41F7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234-5B04-4AE7-826B-5C62740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B71-F6F7-40C7-9B8D-6F3DD6A9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781-EE7D-4B08-9861-406BC4D8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908D-0D6A-4F8B-BF97-2FE1552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4DA3-5ECD-4C41-8C52-F13644C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57B-9BD3-4D76-AC1C-4B19C2C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E99F-7EFF-47D7-95F9-AE41763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4BD3-76B1-4777-9B2B-EF6D890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96DD-AECE-4302-A35D-6EF5385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445-0159-497E-8F57-AB1B78A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490-D503-41F0-B71F-E38ABE8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B3B9-A690-412C-A23E-48ACEBD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75A5-C864-4905-B6A0-542635A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323F-0EF6-49DA-88EF-BA2DF8E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36F-604D-48D1-A7B3-33D40210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3B99-A196-43D8-BF32-932B335F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701-7007-4E1B-A594-5EF39E3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8D3-E31C-4D86-860D-F050EA6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704-ED84-4E64-B127-6A07FDA3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FEF-54C9-4297-894C-34E6269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070-4464-44F0-A7D1-A66A3DF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A44-073F-4F4E-8E47-87414CEE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DD1-9D6D-433D-B81B-267F2A0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61AD-D3F3-4D66-BC53-C6A875B78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B80D-53C7-4704-8C68-27C94A9D647C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Page 5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Unidad 1, Etapa 2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uns and definite articl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king Nouns Plural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nouns plural you usually add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vow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e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 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Lo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alled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definite artic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English they mean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“the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Lo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 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In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se definite articles to talk about a noun as a general category or when saying what you like with </a:t>
            </a:r>
            <a:r>
              <a:rPr b="0" i="1" lang="en-US" sz="4400" spc="-1" strike="noStrike">
                <a:solidFill>
                  <a:srgbClr val="c00000"/>
                </a:solidFill>
                <a:latin typeface="Tahoma"/>
              </a:rPr>
              <a:t>gustar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¿Cómo es 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l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pizz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deliciosa.  Me gusta 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pizz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1498680" y="1828800"/>
            <a:ext cx="5546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good idea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 a noun with 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e article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 because that wi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ually tell you th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gen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uns refer to people, animals, places, and thing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Spanish, nouns have gender.  They are either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-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mascul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-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femin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example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libr</a:t>
            </a:r>
            <a:r>
              <a:rPr b="0" lang="en-US" sz="4000" spc="-1" strike="noStrike" u="sng">
                <a:solidFill>
                  <a:srgbClr val="ffcf01"/>
                </a:solidFill>
                <a:uFillTx/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izz</a:t>
            </a:r>
            <a:r>
              <a:rPr b="0" lang="en-US" sz="4000" spc="-1" strike="noStrike" u="sng">
                <a:solidFill>
                  <a:srgbClr val="00b050"/>
                </a:solidFill>
                <a:uFillTx/>
                <a:latin typeface="Tahoma"/>
              </a:rPr>
              <a:t>a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exception:  el dí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nouns that end in –ma and –pa are usually mascu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and ones that end in –dad, -ción, and sión are usually femi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Spanish nouns end in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-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a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ajedre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el marcado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clas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la televisió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 can be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both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masculine and feminine: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estudian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07:28Z</dcterms:created>
  <dc:creator>Tom Shirley</dc:creator>
  <dc:description/>
  <dc:language>en-US</dc:language>
  <cp:lastModifiedBy>Brian Jarrel</cp:lastModifiedBy>
  <cp:lastPrinted>2009-04-22T19:24:48Z</cp:lastPrinted>
  <dcterms:modified xsi:type="dcterms:W3CDTF">2011-09-20T19:44:05Z</dcterms:modified>
  <cp:revision>22</cp:revision>
  <dc:subject/>
  <dc:title>PowerPoint Presentation</dc:title>
</cp:coreProperties>
</file>