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7238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05120" y="4809600"/>
            <a:ext cx="7238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456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5120" y="480960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14560" y="480960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52760" y="281916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00400" y="281916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05120" y="480960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52760" y="480960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00400" y="4809600"/>
            <a:ext cx="233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53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14560" y="2819160"/>
            <a:ext cx="353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0496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14560" y="2819160"/>
            <a:ext cx="353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05120" y="480960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532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1456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14560" y="480960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14560" y="2819160"/>
            <a:ext cx="3532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05120" y="4809600"/>
            <a:ext cx="7238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saturn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Modern No. 2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Goudy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3"/>
          <p:cNvSpPr/>
          <p:nvPr/>
        </p:nvSpPr>
        <p:spPr>
          <a:xfrm>
            <a:off x="357120" y="0"/>
            <a:ext cx="485784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900" spc="-1" strike="noStrike">
                <a:solidFill>
                  <a:srgbClr val="000000"/>
                </a:solidFill>
                <a:latin typeface="Lucida Handwriting"/>
              </a:rPr>
              <a:t>¡Saludos desde Republica Dominicana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Box 5"/>
          <p:cNvSpPr/>
          <p:nvPr/>
        </p:nvSpPr>
        <p:spPr>
          <a:xfrm>
            <a:off x="214200" y="609480"/>
            <a:ext cx="5143680" cy="58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¡Hola amiga (o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Estoy aquí en la República Dominicana y estoy preparando un viaje muy largo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.  Yo voy a viajar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por todo el mundo en busca de mi amor. 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 amor viaja mucho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y no sé donde está. 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s amigos van a viajar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conmigo para ayudarme a buscar a mi amor. N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osotros vamos a  viajar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a muchos países diferent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añana vamos a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viajar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a los Alpes y luego al desierto, a Nueva York, a Paris y a otros lugares tambié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¿Y tú? ¿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Vas a viajar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en tus vacacion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Escribe pr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Tu Ami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Juan Luis Gu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Box 7"/>
          <p:cNvSpPr/>
          <p:nvPr/>
        </p:nvSpPr>
        <p:spPr>
          <a:xfrm>
            <a:off x="5857920" y="18572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 amigo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5500800" y="221472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Escuela Intermedia Way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5857920" y="25002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Wayland, MA 017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http://www.computer-stamps.com/pictures/dominican-republic-stamp-797.jpg"/>
          <p:cNvPicPr/>
          <p:nvPr/>
        </p:nvPicPr>
        <p:blipFill>
          <a:blip r:embed="rId1"/>
          <a:stretch/>
        </p:blipFill>
        <p:spPr>
          <a:xfrm>
            <a:off x="7429680" y="214200"/>
            <a:ext cx="1428480" cy="102888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12"/>
          <p:cNvSpPr/>
          <p:nvPr/>
        </p:nvSpPr>
        <p:spPr>
          <a:xfrm>
            <a:off x="5429160" y="1071720"/>
            <a:ext cx="0" cy="507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5572080" y="3286080"/>
            <a:ext cx="335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¿Dónde está Juan Lu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¿Adónde 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¿Con quié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0" y="2571840"/>
            <a:ext cx="3851280" cy="3305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an Lui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iaj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glaterra y v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 Big Ben per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/>
          <p:cNvSpPr/>
          <p:nvPr/>
        </p:nvSpPr>
        <p:spPr>
          <a:xfrm>
            <a:off x="0" y="2928960"/>
            <a:ext cx="4572000" cy="39290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Juan Luis </a:t>
            </a:r>
            <a:r>
              <a:rPr b="1" i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viajó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Barcelona y jugó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fútbol c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el equipo de Barcelon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pero 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r>
              <a:rPr b="1" lang="en-GB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¿Qué hizo Juan Luis en su viaje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85840" y="1000080"/>
            <a:ext cx="864396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leta con los verbos conjugados del banco de ver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an Luis ______________ a muchos lugares diferentes.  Él ___________  en avión y ____________ Los Alpes.  En los Alpes Juan Luis _____________.  Después, Juan Luis ___________ a Namibia y _____________ por el desierto.   Juan Luis también fue a Inglaterra y ________ el Big Ben y cuando _________ Manhattan __________ muchas fotos.  Finalmente _________ a Barcelona donde ____________ con el equipo de fútbol de Barcelona.  Juan Luis ______________ a muchos lugares pero no ____________ a su am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79280" y="5857920"/>
            <a:ext cx="8713800" cy="8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m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t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v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vis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 (x3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via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 (x4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ju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/ esqu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aj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/ encon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/ 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571840" y="15717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a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714240" y="2071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a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2071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si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285920" y="2571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squ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5643720" y="26431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a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714240" y="3143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ami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714240" y="36432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4357800" y="36432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si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143840" y="36432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429080" y="4143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via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071720" y="46432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ju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1000080" y="5143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5715000" y="5143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cont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¿Y tú? ¿Qué hiciste en tus últimas vacaciones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57120" y="928800"/>
            <a:ext cx="878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Gill Sans MT"/>
              </a:rPr>
              <a:t>Respondan sí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42960" y="1571760"/>
            <a:ext cx="8072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0000"/>
                </a:solidFill>
                <a:latin typeface="Times New Roman"/>
              </a:rPr>
              <a:t>Y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Visité a mis amigos y a mi fami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Caminé en el par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Viajé a otro país o es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Descansé mu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Estudié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Tomé fo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Esquié en las montañ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Escuché mú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28584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Gill Sans MT"/>
              </a:rPr>
              <a:t>¿Qué notas de estos verbos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85960" y="1928880"/>
          <a:ext cx="6095880" cy="3200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o viaj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sotros (as) viajam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ú viajas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sotros (as) viajaste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Él, Ella, Usted viaj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3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stedes viajar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itle 1"/>
          <p:cNvSpPr/>
          <p:nvPr/>
        </p:nvSpPr>
        <p:spPr>
          <a:xfrm>
            <a:off x="2000160" y="5500800"/>
            <a:ext cx="5639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Gill Sans MT"/>
              </a:rPr>
              <a:t>El pretérito- used to describe events in the past that occured and stop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1928880" y="12859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Gill Sans MT"/>
              </a:rPr>
              <a:t>El pretér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ttp://upload.wikimedia.org/wikipedia/commons/0/0c/600px-Pare_svg.png"/>
          <p:cNvPicPr/>
          <p:nvPr/>
        </p:nvPicPr>
        <p:blipFill>
          <a:blip r:embed="rId1"/>
          <a:stretch/>
        </p:blipFill>
        <p:spPr>
          <a:xfrm>
            <a:off x="500040" y="5214960"/>
            <a:ext cx="11556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6000840"/>
            <a:ext cx="56386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Gill Sans MT"/>
              </a:rPr>
              <a:t>Mi Traves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57120" y="0"/>
            <a:ext cx="485784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900" spc="-1" strike="noStrike">
                <a:solidFill>
                  <a:srgbClr val="000000"/>
                </a:solidFill>
                <a:latin typeface="Lucida Handwriting"/>
              </a:rPr>
              <a:t>¡Saludos desde Republica Dominicana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14200" y="609480"/>
            <a:ext cx="514368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¡Hola amiga (o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Estoy aquí en la República Dominicana al final de mis vacaciones después de un viaje muy largo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.  Yo viajé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por todo el mundo en busca de mi amor. 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 amor viajó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y no sé donde está. 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s amigos viajaron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conmigo para ayudarme a buscar a mi amor. N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osotros viajamos 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a muchos países diferentes y estoy muy triste porque no encontramos a mi amo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añana vamos a 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viajar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otra vez para ver si podemos encontrar a mi amor.  Aquí te mando unas fotos de mi vi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¿Y tú? ¿</a:t>
            </a: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Viajaste</a:t>
            </a: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 en tus vacacion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Escribe pr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Tu Ami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Juan Luis Gu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00840" y="28576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Mi amigo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572080" y="32860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000000"/>
                </a:solidFill>
                <a:latin typeface="Arial"/>
                <a:ea typeface="Arial"/>
              </a:rPr>
              <a:t>Escuela Intermedia Way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85792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000" spc="-1" strike="noStrike">
                <a:solidFill>
                  <a:srgbClr val="000000"/>
                </a:solidFill>
                <a:latin typeface="Arial"/>
                <a:ea typeface="Arial"/>
              </a:rPr>
              <a:t>Wayland, MA 017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ttp://www.computer-stamps.com/pictures/dominican-republic-stamp-797.jpg"/>
          <p:cNvPicPr/>
          <p:nvPr/>
        </p:nvPicPr>
        <p:blipFill>
          <a:blip r:embed="rId2"/>
          <a:stretch/>
        </p:blipFill>
        <p:spPr>
          <a:xfrm>
            <a:off x="7429680" y="214200"/>
            <a:ext cx="142848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12"/>
          <p:cNvSpPr/>
          <p:nvPr/>
        </p:nvSpPr>
        <p:spPr>
          <a:xfrm>
            <a:off x="5429160" y="1071720"/>
            <a:ext cx="0" cy="507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4960" y="3071880"/>
            <a:ext cx="56386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¿Qué hizo Juan Luis en su viaj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Vamos a mirar sus fot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324000" y="3500280"/>
            <a:ext cx="3527280" cy="237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uan Lui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iaj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 av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0" y="2928960"/>
            <a:ext cx="4071960" cy="30718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Juan Lu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visitó y esqui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en los Alp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http://z.about.com/d/latinmusic/1/0/G/5/-/-/Juan_Luis_Guerra_307x500.jpg"/>
          <p:cNvPicPr/>
          <p:nvPr/>
        </p:nvPicPr>
        <p:blipFill>
          <a:blip r:embed="rId2"/>
          <a:stretch/>
        </p:blipFill>
        <p:spPr>
          <a:xfrm>
            <a:off x="3786120" y="2786040"/>
            <a:ext cx="12765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0" y="2643120"/>
            <a:ext cx="4714920" cy="3714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Juan Lu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viajó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a Namibi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caminó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por el desier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2" descr="http://z.about.com/d/latinmusic/1/0/G/5/-/-/Juan_Luis_Guerra_307x500.jpg"/>
          <p:cNvPicPr/>
          <p:nvPr/>
        </p:nvPicPr>
        <p:blipFill>
          <a:blip r:embed="rId2"/>
          <a:stretch/>
        </p:blipFill>
        <p:spPr>
          <a:xfrm>
            <a:off x="5000760" y="4357800"/>
            <a:ext cx="1714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0" y="0"/>
            <a:ext cx="4214880" cy="36432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an Lui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iaj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isit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mps-Elysé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http://z.about.com/d/latinmusic/1/0/G/5/-/-/Juan_Luis_Guerra_307x500.jpg"/>
          <p:cNvPicPr/>
          <p:nvPr/>
        </p:nvPicPr>
        <p:blipFill>
          <a:blip r:embed="rId2"/>
          <a:stretch/>
        </p:blipFill>
        <p:spPr>
          <a:xfrm>
            <a:off x="7429680" y="3500280"/>
            <a:ext cx="1714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 rot="21331200">
            <a:off x="93600" y="2346480"/>
            <a:ext cx="4659480" cy="336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an Lui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iaj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hattan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mó fo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l Empire State per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contró a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www.bcsc.k12.in.us/csalc/lib/csalc/CameraClipArt.jpg"/>
          <p:cNvPicPr/>
          <p:nvPr/>
        </p:nvPicPr>
        <p:blipFill>
          <a:blip r:embed="rId2"/>
          <a:stretch/>
        </p:blipFill>
        <p:spPr>
          <a:xfrm flipH="1" rot="956400">
            <a:off x="6892560" y="3776400"/>
            <a:ext cx="1098720" cy="93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z.about.com/d/latinmusic/1/0/G/5/-/-/Juan_Luis_Guerra_307x500.jpg"/>
          <p:cNvPicPr/>
          <p:nvPr/>
        </p:nvPicPr>
        <p:blipFill>
          <a:blip r:embed="rId3"/>
          <a:stretch/>
        </p:blipFill>
        <p:spPr>
          <a:xfrm>
            <a:off x="7429680" y="4781520"/>
            <a:ext cx="1714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9:26:52Z</dcterms:created>
  <dc:creator>WSE</dc:creator>
  <dc:description/>
  <dc:language>en-US</dc:language>
  <cp:lastModifiedBy>teacher</cp:lastModifiedBy>
  <dcterms:modified xsi:type="dcterms:W3CDTF">2011-03-02T14:16:06Z</dcterms:modified>
  <cp:revision>57</cp:revision>
  <dc:subject/>
  <dc:title>PowerPoint Presentation</dc:title>
</cp:coreProperties>
</file>